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wmf" ContentType="image/x-wmf"/>
  <Override PartName="/ppt/media/image5.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Humanst521 BT"/>
              </a:rPr>
              <a:t>Click to move the slide</a:t>
            </a:r>
            <a:endParaRPr b="0" lang="en-US" sz="3800" spc="-1" strike="noStrike">
              <a:solidFill>
                <a:srgbClr val="ffffff"/>
              </a:solidFill>
              <a:latin typeface="Humanst521 BT"/>
            </a:endParaRPr>
          </a:p>
        </p:txBody>
      </p:sp>
      <p:sp>
        <p:nvSpPr>
          <p:cNvPr id="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86"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32A669-C143-48D7-8CA7-421F2839CA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Rock-Solid Kid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odule 8:  The Golden Hour—The Opportunity of Children’s Ministry (Mark 10:14-1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enever there is a serious car accident, a stabbing, gunshot wounds, severe burns, a long fall—victims of these accidents often are level 1 trauma patients.  They need immediate, life-saving medical attention.  The best chance for survival for a level 1 traumatic injury occurs within the one hour of the injury– the </a:t>
            </a:r>
            <a:r>
              <a:rPr b="1" lang="en-US" sz="1200" spc="-1" strike="noStrike">
                <a:solidFill>
                  <a:srgbClr val="000000"/>
                </a:solidFill>
                <a:latin typeface="Humanst521 BT"/>
              </a:rPr>
              <a:t>“golden hour.”  </a:t>
            </a:r>
            <a:r>
              <a:rPr b="0" lang="en-US" sz="1200" spc="-1" strike="noStrike">
                <a:solidFill>
                  <a:srgbClr val="000000"/>
                </a:solidFill>
                <a:latin typeface="Humanst521 BT"/>
              </a:rPr>
              <a:t>Emergency and trauma center personnel are very familiar with the term “golden hour” because they live out its urgent reality.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me trauma surgeons have also proposed that in addition to the golden hour, there is also a “silver day”–a second but longer period of time that is also a window of opportunity critical to survival–the 24 hours after a severe injury.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s there a golden hour in evangelism?  Research, anecdotal evidence and even common sense all clearly identify the childhood years as that window of opportunity for the greatest life-saving impact for eternity.  </a:t>
            </a:r>
            <a:r>
              <a:rPr b="1" lang="en-US" sz="1200" spc="-1" strike="noStrike">
                <a:solidFill>
                  <a:srgbClr val="000000"/>
                </a:solidFill>
                <a:latin typeface="Humanst521 BT"/>
              </a:rPr>
              <a:t>The ages of 4 to 14 are the golden hour of evangelism!  All the ages of youth form the silver day.  </a:t>
            </a:r>
            <a:endParaRPr b="0" lang="en-US" sz="1200" spc="-1" strike="noStrike">
              <a:solidFill>
                <a:srgbClr val="000000"/>
              </a:solidFill>
              <a:latin typeface="Humanst521 BT"/>
            </a:endParaRPr>
          </a:p>
        </p:txBody>
      </p:sp>
      <p:sp>
        <p:nvSpPr>
          <p:cNvPr id="2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BC0145-A05C-4B4D-B8D1-7883C306323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hare Christ with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Their lives are ahead of them.</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ir worldview is being molded the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y are open and receptive.</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nd Jesus said, “Let them come.”</a:t>
            </a:r>
            <a:endParaRPr b="0" lang="en-US" sz="1200" spc="-1" strike="noStrike">
              <a:solidFill>
                <a:srgbClr val="000000"/>
              </a:solidFill>
              <a:latin typeface="Humanst521 BT"/>
            </a:endParaRPr>
          </a:p>
        </p:txBody>
      </p:sp>
      <p:sp>
        <p:nvSpPr>
          <p:cNvPr id="2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E26040-F322-4067-B719-1E346F307CE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Golden Hou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Let’s not miss it!</a:t>
            </a:r>
            <a:endParaRPr b="0" lang="en-US" sz="1200" spc="-1" strike="noStrike">
              <a:solidFill>
                <a:srgbClr val="000000"/>
              </a:solidFill>
              <a:latin typeface="Humanst521 BT"/>
            </a:endParaRPr>
          </a:p>
        </p:txBody>
      </p:sp>
      <p:sp>
        <p:nvSpPr>
          <p:cNvPr id="2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7E5C7E-40AD-4CBB-A5D0-813EEF61A3F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ommand to the Disciple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me of us children’s teachers and leaders can unknowingly hinder children from genuinely coming to Christ. Some of the Modern-day Violators ar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1. The Inoculator – in enthusiasm to see kids saved, makes it </a:t>
            </a:r>
            <a:r>
              <a:rPr b="0" lang="en-US" sz="1200" spc="-1" strike="noStrike" u="sng">
                <a:solidFill>
                  <a:srgbClr val="000000"/>
                </a:solidFill>
                <a:uFillTx/>
                <a:latin typeface="Humanst521 BT"/>
              </a:rPr>
              <a:t>too easy</a:t>
            </a:r>
            <a:r>
              <a:rPr b="0" lang="en-US" sz="1200" spc="-1" strike="noStrike">
                <a:solidFill>
                  <a:srgbClr val="000000"/>
                </a:solidFill>
                <a:latin typeface="Humanst521 BT"/>
              </a:rPr>
              <a:t>, and is </a:t>
            </a:r>
            <a:r>
              <a:rPr b="0" lang="en-US" sz="1200" spc="-1" strike="noStrike" u="sng">
                <a:solidFill>
                  <a:srgbClr val="000000"/>
                </a:solidFill>
                <a:uFillTx/>
                <a:latin typeface="Humanst521 BT"/>
              </a:rPr>
              <a:t>too eager</a:t>
            </a:r>
            <a:r>
              <a:rPr b="0" lang="en-US" sz="1200" spc="-1" strike="noStrike">
                <a:solidFill>
                  <a:srgbClr val="000000"/>
                </a:solidFill>
                <a:latin typeface="Humanst521 BT"/>
              </a:rPr>
              <a:t> to confirm a child’s decision.  Salvation isn’t </a:t>
            </a:r>
            <a:r>
              <a:rPr b="0" i="1" lang="en-US" sz="1200" spc="-1" strike="noStrike">
                <a:solidFill>
                  <a:srgbClr val="000000"/>
                </a:solidFill>
                <a:latin typeface="Humanst521 BT"/>
              </a:rPr>
              <a:t>our</a:t>
            </a:r>
            <a:r>
              <a:rPr b="0" lang="en-US" sz="1200" spc="-1" strike="noStrike">
                <a:solidFill>
                  <a:srgbClr val="000000"/>
                </a:solidFill>
                <a:latin typeface="Humanst521 BT"/>
              </a:rPr>
              <a:t> work, it’s </a:t>
            </a:r>
            <a:r>
              <a:rPr b="0" lang="en-US" sz="1200" spc="-1" strike="noStrike">
                <a:solidFill>
                  <a:srgbClr val="000000"/>
                </a:solidFill>
                <a:latin typeface="Humanst521 BT"/>
              </a:rPr>
              <a:t>	</a:t>
            </a:r>
            <a:r>
              <a:rPr b="0" lang="en-US" sz="1200" spc="-1" strike="noStrike">
                <a:solidFill>
                  <a:srgbClr val="000000"/>
                </a:solidFill>
                <a:latin typeface="Humanst521 BT"/>
              </a:rPr>
              <a:t>God’s (Titus 3:5)</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u="sng">
                <a:solidFill>
                  <a:srgbClr val="000000"/>
                </a:solidFill>
                <a:uFillTx/>
                <a:latin typeface="Humanst521 BT"/>
              </a:rPr>
              <a:t>Illustration: </a:t>
            </a:r>
            <a:r>
              <a:rPr b="0" lang="en-US" sz="1200" spc="-1" strike="noStrike">
                <a:solidFill>
                  <a:srgbClr val="000000"/>
                </a:solidFill>
                <a:latin typeface="Humanst521 BT"/>
              </a:rPr>
              <a:t>  The author, Larry Fowler was visit an Awana Club program where a Christian firefighter was speaking to the kids.  He did a masterful job of demonstrating his equipment, weaving in his testimony and spiritual truths along with the demonstration.  But he never gave the children the gospel or asked them to respond.  The director got up to give a salvation invitation.  He began by saying, “How many of you kids would like Jesus to be your friend?”  Of course, they all raised their hands.  “I am going to pray, and I want all of you to say it with me.”  So he led them through the prayer, phrase by phrase.  Then he inoculated the children: “Now, if any of you said that prayer for the first time, </a:t>
            </a:r>
            <a:r>
              <a:rPr b="0" i="1" lang="en-US" sz="1200" spc="-1" strike="noStrike">
                <a:solidFill>
                  <a:srgbClr val="000000"/>
                </a:solidFill>
                <a:latin typeface="Humanst521 BT"/>
              </a:rPr>
              <a:t>you now a Christian.</a:t>
            </a:r>
            <a:r>
              <a:rPr b="0" lang="en-US" sz="1200" spc="-1" strike="noStrike">
                <a:solidFill>
                  <a:srgbClr val="000000"/>
                </a:solidFill>
                <a:latin typeface="Humanst521 BT"/>
              </a:rPr>
              <a:t>”  Many of those children probably weren’t professing their faith when they parroted his prayer. The children were incoculated again future teach on the gospel because they were told they were Christians by praying that prayer.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2. The Headhunter – is one who wants to see many children saved, so resorts to techniques that result in multitudes of </a:t>
            </a:r>
            <a:r>
              <a:rPr b="0" lang="en-US" sz="1200" spc="-1" strike="noStrike" u="sng">
                <a:solidFill>
                  <a:srgbClr val="000000"/>
                </a:solidFill>
                <a:uFillTx/>
                <a:latin typeface="Humanst521 BT"/>
              </a:rPr>
              <a:t>professions of faith </a:t>
            </a:r>
            <a:r>
              <a:rPr b="0" lang="en-US" sz="1200" spc="-1" strike="noStrike">
                <a:solidFill>
                  <a:srgbClr val="000000"/>
                </a:solidFill>
                <a:latin typeface="Humanst521 BT"/>
              </a:rPr>
              <a:t>but not necessarily in </a:t>
            </a:r>
            <a:r>
              <a:rPr b="0" lang="en-US" sz="1200" spc="-1" strike="noStrike" u="sng">
                <a:solidFill>
                  <a:srgbClr val="000000"/>
                </a:solidFill>
                <a:uFillTx/>
                <a:latin typeface="Humanst521 BT"/>
              </a:rPr>
              <a:t>genuine </a:t>
            </a:r>
            <a:r>
              <a:rPr b="0" lang="en-US" sz="1200" spc="-1" strike="noStrike">
                <a:solidFill>
                  <a:srgbClr val="000000"/>
                </a:solidFill>
                <a:latin typeface="Humanst521 BT"/>
              </a:rPr>
              <a:t>ones.  </a:t>
            </a:r>
            <a:endParaRPr b="0" lang="en-US" sz="1200" spc="-1" strike="noStrike">
              <a:solidFill>
                <a:srgbClr val="000000"/>
              </a:solidFill>
              <a:latin typeface="Humanst521 BT"/>
            </a:endParaRPr>
          </a:p>
        </p:txBody>
      </p:sp>
      <p:sp>
        <p:nvSpPr>
          <p:cNvPr id="2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A176CF-35D8-4967-91F3-1C1858B3B89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ommand to the Disciple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Manipulator –is one who works on the </a:t>
            </a:r>
            <a:r>
              <a:rPr b="0" lang="en-US" sz="1200" spc="-1" strike="noStrike" u="sng">
                <a:solidFill>
                  <a:srgbClr val="000000"/>
                </a:solidFill>
                <a:uFillTx/>
                <a:latin typeface="Humanst521 BT"/>
              </a:rPr>
              <a:t>feelings</a:t>
            </a:r>
            <a:r>
              <a:rPr b="0" lang="en-US" sz="1200" spc="-1" strike="noStrike">
                <a:solidFill>
                  <a:srgbClr val="000000"/>
                </a:solidFill>
                <a:latin typeface="Humanst521 BT"/>
              </a:rPr>
              <a:t> of the children so that their responses are </a:t>
            </a:r>
            <a:r>
              <a:rPr b="0" lang="en-US" sz="1200" spc="-1" strike="noStrike" u="sng">
                <a:solidFill>
                  <a:srgbClr val="000000"/>
                </a:solidFill>
                <a:uFillTx/>
                <a:latin typeface="Humanst521 BT"/>
              </a:rPr>
              <a:t>emotion</a:t>
            </a:r>
            <a:r>
              <a:rPr b="0" lang="en-US" sz="1200" spc="-1" strike="noStrike">
                <a:solidFill>
                  <a:srgbClr val="000000"/>
                </a:solidFill>
                <a:latin typeface="Humanst521 BT"/>
              </a:rPr>
              <a:t>, not </a:t>
            </a:r>
            <a:r>
              <a:rPr b="0" lang="en-US" sz="1200" spc="-1" strike="noStrike" u="sng">
                <a:solidFill>
                  <a:srgbClr val="000000"/>
                </a:solidFill>
                <a:uFillTx/>
                <a:latin typeface="Humanst521 BT"/>
              </a:rPr>
              <a:t>faith.</a:t>
            </a:r>
            <a:r>
              <a:rPr b="0" lang="en-US" sz="1200" spc="-1" strike="noStrike">
                <a:solidFill>
                  <a:srgbClr val="000000"/>
                </a:solidFill>
                <a:latin typeface="Humanst521 BT"/>
              </a:rPr>
              <a:t>  It’s easy for a persuasive </a:t>
            </a:r>
            <a:r>
              <a:rPr b="0" lang="en-US" sz="1200" spc="-1" strike="noStrike">
                <a:solidFill>
                  <a:srgbClr val="000000"/>
                </a:solidFill>
                <a:latin typeface="Humanst521 BT"/>
              </a:rPr>
              <a:t>	</a:t>
            </a:r>
            <a:r>
              <a:rPr b="0" lang="en-US" sz="1200" spc="-1" strike="noStrike">
                <a:solidFill>
                  <a:srgbClr val="000000"/>
                </a:solidFill>
                <a:latin typeface="Humanst521 BT"/>
              </a:rPr>
              <a:t>speaker to manipulate children.  But the bottom line is that the Holy Spirit does the convicting of the need of a Savior.  Imagine a path hidden with underbrush with rocks everywhere.  A landslide has cut away a section.  Think of this as representing the path a child may take in coming to salvation.  Jesus is not instructing us to pull the child through all the obstacles and over the rocks.  What’s implied?  </a:t>
            </a:r>
            <a:r>
              <a:rPr b="0" i="1" lang="en-US" sz="1200" spc="-1" strike="noStrike">
                <a:solidFill>
                  <a:srgbClr val="000000"/>
                </a:solidFill>
                <a:latin typeface="Humanst521 BT"/>
              </a:rPr>
              <a:t>The children will come.  </a:t>
            </a:r>
            <a:r>
              <a:rPr b="0" lang="en-US" sz="1200" spc="-1" strike="noStrike">
                <a:solidFill>
                  <a:srgbClr val="000000"/>
                </a:solidFill>
                <a:latin typeface="Humanst521 BT"/>
              </a:rPr>
              <a:t>Just be concerned about clearing the underbrush, removing the rocks and filling the gap left by the landslide.  When the path is clear, they will come.  The Holy Sprit will lead them.  Just don’t you  hinder them.</a:t>
            </a:r>
            <a:endParaRPr b="0" lang="en-US" sz="1200" spc="-1" strike="noStrike">
              <a:solidFill>
                <a:srgbClr val="000000"/>
              </a:solidFill>
              <a:latin typeface="Humanst521 BT"/>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Discipler – is one who works on </a:t>
            </a:r>
            <a:r>
              <a:rPr b="0" lang="en-US" sz="1200" spc="-1" strike="noStrike" u="sng">
                <a:solidFill>
                  <a:srgbClr val="000000"/>
                </a:solidFill>
                <a:uFillTx/>
                <a:latin typeface="Humanst521 BT"/>
              </a:rPr>
              <a:t>growing </a:t>
            </a:r>
            <a:r>
              <a:rPr b="0" lang="en-US" sz="1200" spc="-1" strike="noStrike">
                <a:solidFill>
                  <a:srgbClr val="000000"/>
                </a:solidFill>
                <a:latin typeface="Humanst521 BT"/>
              </a:rPr>
              <a:t>the baby Christian and forgets to </a:t>
            </a:r>
            <a:r>
              <a:rPr b="0" lang="en-US" sz="1200" spc="-1" strike="noStrike" u="sng">
                <a:solidFill>
                  <a:srgbClr val="000000"/>
                </a:solidFill>
                <a:uFillTx/>
                <a:latin typeface="Humanst521 BT"/>
              </a:rPr>
              <a:t>birth</a:t>
            </a:r>
            <a:r>
              <a:rPr b="0" lang="en-US" sz="1200" spc="-1" strike="noStrike">
                <a:solidFill>
                  <a:srgbClr val="000000"/>
                </a:solidFill>
                <a:latin typeface="Humanst521 BT"/>
              </a:rPr>
              <a:t> the baby first.  Nurturing is appropriate and necessary.  It’s comparable to the watering, fertilizing and weeding of a garden.  </a:t>
            </a:r>
            <a:r>
              <a:rPr b="0" i="1" lang="en-US" sz="1200" spc="-1" strike="noStrike">
                <a:solidFill>
                  <a:srgbClr val="000000"/>
                </a:solidFill>
                <a:latin typeface="Humanst521 BT"/>
              </a:rPr>
              <a:t>But  we mustn't let it crowd out evangelism of children</a:t>
            </a:r>
            <a:r>
              <a:rPr b="0" lang="en-US" sz="1200" spc="-1" strike="noStrike">
                <a:solidFill>
                  <a:srgbClr val="000000"/>
                </a:solidFill>
                <a:latin typeface="Humanst521 BT"/>
              </a:rPr>
              <a:t>.  We must accomplish them both.  Whether we are running a VBS,  or teaching Sabbath School, or you as a parent reinforce what your kids are learning from their Sabbath School lesson, we still need to explain the gospel to them.  </a:t>
            </a:r>
            <a:endParaRPr b="0" lang="en-US" sz="1200" spc="-1" strike="noStrike">
              <a:solidFill>
                <a:srgbClr val="000000"/>
              </a:solidFill>
              <a:latin typeface="Humanst521 BT"/>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Children can learn Bible stories, Christian songs, character qualities and godly behavior but never hear the gospel!</a:t>
            </a:r>
            <a:endParaRPr b="0" lang="en-US" sz="1200" spc="-1" strike="noStrike">
              <a:solidFill>
                <a:srgbClr val="000000"/>
              </a:solidFill>
              <a:latin typeface="Humanst521 BT"/>
            </a:endParaRPr>
          </a:p>
        </p:txBody>
      </p:sp>
      <p:sp>
        <p:nvSpPr>
          <p:cNvPr id="2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9EB8C6-183A-4D5E-AC7D-FFDC039418A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Age of the Children</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Humanst521 BT"/>
              </a:rPr>
              <a:t>Three Questions:</a:t>
            </a: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age were the children in this story?</a:t>
            </a: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do you think that was Jesus’ perspective on children being saved?</a:t>
            </a: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en should we present the gospel to a child? </a:t>
            </a:r>
            <a:endParaRPr b="0" lang="en-US" sz="1200" spc="-1" strike="noStrike">
              <a:solidFill>
                <a:srgbClr val="000000"/>
              </a:solidFill>
              <a:latin typeface="Humanst521 BT"/>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ome believe that children do not understand and so cannot be saved.  But Jesus said their utter dependence and simple trust is a </a:t>
            </a:r>
            <a:r>
              <a:rPr b="0" i="1" lang="en-US" sz="1200" spc="-1" strike="noStrike">
                <a:solidFill>
                  <a:srgbClr val="000000"/>
                </a:solidFill>
                <a:latin typeface="Humanst521 BT"/>
              </a:rPr>
              <a:t>model </a:t>
            </a:r>
            <a:r>
              <a:rPr b="0" lang="en-US" sz="1200" spc="-1" strike="noStrike">
                <a:solidFill>
                  <a:srgbClr val="000000"/>
                </a:solidFill>
                <a:latin typeface="Humanst521 BT"/>
              </a:rPr>
              <a:t>of the kind of faith that saves.  Some feel that young children may respond to the gospel because they want to please the teacher or because their friends respond.  George Barna Group finds in their research that children do understand and accept Jesus between 5-14 years of age.  Jesus says yes—let them com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s for the age of presenting the gospel to children, the concept of teaching Scripture in order to lead to salvation from an early age is sealed by 2 Timothy 3:15.  Paul says to his disciple, Timothy, “From infancy you have known the holy Scriptures, which are able to make you wise for salvation through faith in Christ Jesus .”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Paul doesn’t say when Timothy became a believer.  But he does say that from infancy Timothy knew the Scriptures.  Start to teach them early—as early as possible.  Then let the Holy Spirit do His work.  </a:t>
            </a:r>
            <a:endParaRPr b="0" lang="en-US" sz="1200" spc="-1" strike="noStrike">
              <a:solidFill>
                <a:srgbClr val="000000"/>
              </a:solidFill>
              <a:latin typeface="Humanst521 BT"/>
            </a:endParaRPr>
          </a:p>
        </p:txBody>
      </p:sp>
      <p:sp>
        <p:nvSpPr>
          <p:cNvPr id="2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E5E189-A7C2-4723-949E-25D235B192F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Age of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 asked people in our church… </a:t>
            </a:r>
            <a:r>
              <a:rPr b="0" i="1" lang="en-US" sz="1200" spc="-1" strike="noStrike">
                <a:solidFill>
                  <a:srgbClr val="000000"/>
                </a:solidFill>
                <a:latin typeface="Humanst521 BT"/>
              </a:rPr>
              <a:t>At what age were you sav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1" lang="en-US" sz="1200" spc="-1" strike="noStrike">
                <a:solidFill>
                  <a:srgbClr val="000000"/>
                </a:solidFill>
                <a:latin typeface="Humanst521 BT"/>
              </a:rPr>
              <a:t>20 + year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1" lang="en-US" sz="1200" spc="-1" strike="noStrike">
                <a:solidFill>
                  <a:srgbClr val="000000"/>
                </a:solidFill>
                <a:latin typeface="Humanst521 BT"/>
              </a:rPr>
              <a:t>15 – 19 year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1" lang="en-US" sz="1200" spc="-1" strike="noStrike">
                <a:solidFill>
                  <a:srgbClr val="000000"/>
                </a:solidFill>
                <a:latin typeface="Humanst521 BT"/>
              </a:rPr>
              <a:t>4 – 14 years</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Larry Fowler, author of the book, </a:t>
            </a:r>
            <a:r>
              <a:rPr b="0" i="1" lang="en-US" sz="1200" spc="-1" strike="noStrike">
                <a:solidFill>
                  <a:srgbClr val="000000"/>
                </a:solidFill>
                <a:latin typeface="Humanst521 BT"/>
              </a:rPr>
              <a:t>Rock-Solid Kids, </a:t>
            </a:r>
            <a:r>
              <a:rPr b="0" lang="en-US" sz="1200" spc="-1" strike="noStrike">
                <a:solidFill>
                  <a:srgbClr val="000000"/>
                </a:solidFill>
                <a:latin typeface="Humanst521 BT"/>
              </a:rPr>
              <a:t>surveyed his church and found many accepted Jesus in the 4-14 age bracket.  Indeed, the childhood years are clearly a window of opportunity—the golden hour.  </a:t>
            </a:r>
            <a:endParaRPr b="0" lang="en-US" sz="1200" spc="-1" strike="noStrike">
              <a:solidFill>
                <a:srgbClr val="000000"/>
              </a:solidFill>
              <a:latin typeface="Humanst521 BT"/>
            </a:endParaRPr>
          </a:p>
        </p:txBody>
      </p:sp>
      <p:sp>
        <p:nvSpPr>
          <p:cNvPr id="2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6F7968-AB56-44B4-9A39-BD590A39810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Ellen G. White , </a:t>
            </a:r>
            <a:r>
              <a:rPr b="1" i="1" lang="en-US" sz="1200" spc="-1" strike="noStrike">
                <a:solidFill>
                  <a:srgbClr val="000000"/>
                </a:solidFill>
                <a:latin typeface="Humanst521 BT"/>
              </a:rPr>
              <a:t>Testimonies</a:t>
            </a:r>
            <a:r>
              <a:rPr b="1" lang="en-US" sz="1200" spc="-1" strike="noStrike">
                <a:solidFill>
                  <a:srgbClr val="000000"/>
                </a:solidFill>
                <a:latin typeface="Humanst521 BT"/>
              </a:rPr>
              <a:t>, vol. 1, p. 400</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Children of eight, ten or twelve years, are old enough to be addressed on the subject of personal religion.  Do not teach your children with reference to some future period when they shall be old enough to repent and believe the truth.  If properly instructed, very young children may have correct views of their state as sinners, and of the way of salvation through Christ.”</a:t>
            </a:r>
            <a:endParaRPr b="0" lang="en-US" sz="1200" spc="-1" strike="noStrike">
              <a:solidFill>
                <a:srgbClr val="000000"/>
              </a:solidFill>
              <a:latin typeface="Humanst521 BT"/>
            </a:endParaRPr>
          </a:p>
        </p:txBody>
      </p:sp>
      <p:sp>
        <p:nvSpPr>
          <p:cNvPr id="2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BC218B-D992-4F38-AA91-ACABD480DC7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Response of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hildren </a:t>
            </a:r>
            <a:r>
              <a:rPr b="0" i="1" lang="en-US" sz="1200" spc="-1" strike="noStrike">
                <a:solidFill>
                  <a:srgbClr val="000000"/>
                </a:solidFill>
                <a:latin typeface="Humanst521 BT"/>
              </a:rPr>
              <a:t>will</a:t>
            </a:r>
            <a:r>
              <a:rPr b="0" lang="en-US" sz="1200" spc="-1" strike="noStrike">
                <a:solidFill>
                  <a:srgbClr val="000000"/>
                </a:solidFill>
                <a:latin typeface="Humanst521 BT"/>
              </a:rPr>
              <a:t> come to Christ.  They are open and receptive.  Some adults will come.  The man with leprosy (Luke 5:12), Zacchaeus (Luke 19:1-10). Nicodemus (John 3:1-21) and the Ethiopian eunuch (Acts 8:26-40).  Most have to be brought, like Simon, Samaritan woman and Saul.  Children are different.  They will come.  So why aren’t we investing in these young on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But our churches are not doing the right thing.  This is what we do:</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More resources (money, time, staff)  </a:t>
            </a:r>
            <a:r>
              <a:rPr b="0" lang="en-US" sz="1200" spc="-1" strike="noStrike">
                <a:solidFill>
                  <a:srgbClr val="000000"/>
                </a:solidFill>
                <a:latin typeface="Century Gothic"/>
              </a:rPr>
              <a:t>→  Less fruit</a:t>
            </a:r>
            <a:endParaRPr b="0" lang="en-US" sz="1200" spc="-1" strike="noStrike">
              <a:solidFill>
                <a:srgbClr val="000000"/>
              </a:solidFill>
              <a:latin typeface="Humanst521 BT"/>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Less resources →  More frui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endParaRPr b="0" lang="en-US" sz="1200" spc="-1" strike="noStrike">
              <a:solidFill>
                <a:srgbClr val="000000"/>
              </a:solidFill>
              <a:latin typeface="Humanst521 BT"/>
            </a:endParaRPr>
          </a:p>
        </p:txBody>
      </p:sp>
      <p:sp>
        <p:nvSpPr>
          <p:cNvPr id="2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A76778-C4A5-4AC5-B7F7-8868986DCC7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Response of Children</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houldn’t we do this?</a:t>
            </a:r>
            <a:r>
              <a:rPr b="0" lang="en-US" sz="1200" spc="-1" strike="noStrike">
                <a:solidFill>
                  <a:srgbClr val="000000"/>
                </a:solidFill>
                <a:latin typeface="Humanst521 BT"/>
              </a:rPr>
              <a:t>	</a:t>
            </a:r>
            <a:r>
              <a:rPr b="0" lang="en-US" sz="1200" spc="-1" strike="noStrike">
                <a:solidFill>
                  <a:srgbClr val="000000"/>
                </a:solidFill>
                <a:latin typeface="Humanst521 BT"/>
              </a:rPr>
              <a:t>Less resources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Century Gothic"/>
              </a:rPr>
              <a:t>→   Less frui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	</a:t>
            </a:r>
            <a:r>
              <a:rPr b="0" lang="en-US" sz="1200" spc="-1" strike="noStrike">
                <a:solidFill>
                  <a:srgbClr val="000000"/>
                </a:solidFill>
                <a:latin typeface="Century Gothic"/>
              </a:rPr>
              <a:t>More resources (money, time, staff)       →   More frui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This is exactly what George Barna concluded from his research:</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a:t>
            </a:r>
            <a:r>
              <a:rPr b="0" lang="en-US" sz="1200" spc="-1" strike="noStrike">
                <a:solidFill>
                  <a:srgbClr val="000000"/>
                </a:solidFill>
                <a:latin typeface="Century Gothic"/>
              </a:rPr>
              <a:t>If you want to have a lasting influence upon the world you must invest in people’s lives;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rPr>
              <a:t>	</a:t>
            </a:r>
            <a:r>
              <a:rPr b="0" i="1" lang="en-US" sz="1200" spc="-1" strike="noStrike">
                <a:solidFill>
                  <a:srgbClr val="000000"/>
                </a:solidFill>
                <a:latin typeface="Century Gothic"/>
              </a:rPr>
              <a:t>and if you want to maximize your investment, then you must invest in those people whil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rPr>
              <a:t>	</a:t>
            </a:r>
            <a:r>
              <a:rPr b="0" i="1" lang="en-US" sz="1200" spc="-1" strike="noStrike">
                <a:solidFill>
                  <a:srgbClr val="000000"/>
                </a:solidFill>
                <a:latin typeface="Century Gothic"/>
              </a:rPr>
              <a:t>they are young.</a:t>
            </a:r>
            <a:r>
              <a:rPr b="0" lang="en-US" sz="1200" spc="-1" strike="noStrike">
                <a:solidFill>
                  <a:srgbClr val="000000"/>
                </a:solidFill>
                <a:latin typeface="Century Gothic"/>
              </a:rPr>
              <a:t>  The research simply crystallizes lessons that we can observe through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history and personal experience; In other words, if you connect with children today,</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effectively teaching them biblical principles and foundations from the start, then you will</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see the fruit of that effort blossom for decades to com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	</a:t>
            </a:r>
            <a:r>
              <a:rPr b="0" lang="en-US" sz="1200" spc="-1" strike="noStrike">
                <a:solidFill>
                  <a:srgbClr val="000000"/>
                </a:solidFill>
                <a:latin typeface="Century Gothic"/>
              </a:rPr>
              <a:t>	</a:t>
            </a:r>
            <a:r>
              <a:rPr b="0" lang="en-US" sz="1200" spc="-1" strike="noStrike">
                <a:solidFill>
                  <a:srgbClr val="000000"/>
                </a:solidFill>
                <a:latin typeface="Century Gothic"/>
              </a:rPr>
              <a:t>	</a:t>
            </a:r>
            <a:r>
              <a:rPr b="0" i="1" lang="en-US" sz="1200" spc="-1" strike="noStrike" u="sng">
                <a:solidFill>
                  <a:srgbClr val="000000"/>
                </a:solidFill>
                <a:uFillTx/>
                <a:latin typeface="Century Gothic"/>
              </a:rPr>
              <a:t>Transforming  Children into Spiritual Champions,</a:t>
            </a:r>
            <a:r>
              <a:rPr b="0" i="1" lang="en-US" sz="1200" spc="-1" strike="noStrike">
                <a:solidFill>
                  <a:srgbClr val="000000"/>
                </a:solidFill>
                <a:latin typeface="Century Gothic"/>
              </a:rPr>
              <a:t> </a:t>
            </a:r>
            <a:r>
              <a:rPr b="0" lang="en-US" sz="1200" spc="-1" strike="noStrike">
                <a:solidFill>
                  <a:srgbClr val="000000"/>
                </a:solidFill>
                <a:latin typeface="Century Gothic"/>
              </a:rPr>
              <a:t>p. 42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John Crupper, of Awana Clubs International, add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a:t>
            </a:r>
            <a:r>
              <a:rPr b="0" lang="en-US" sz="1200" spc="-1" strike="noStrike">
                <a:solidFill>
                  <a:srgbClr val="000000"/>
                </a:solidFill>
                <a:latin typeface="Century Gothic"/>
              </a:rPr>
              <a:t>When seen from the perspective of eternity, this window of opportunity in which w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have the greatest prospect of reaching individuals with the gospel must take on a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compelling priority . . . Our expended efforts have not been commensurate with th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available opportunity and the results that are possibl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2AB12E-A01D-40F4-A472-D474F7E36D8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5 Ways to Show . .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u="sng">
                <a:solidFill>
                  <a:srgbClr val="000000"/>
                </a:solidFill>
                <a:uFillTx/>
                <a:latin typeface="Humanst521 BT"/>
              </a:rPr>
              <a:t>…</a:t>
            </a:r>
            <a:r>
              <a:rPr b="1" i="1" lang="en-US" sz="1200" spc="-1" strike="noStrike" u="sng">
                <a:solidFill>
                  <a:srgbClr val="000000"/>
                </a:solidFill>
                <a:uFillTx/>
                <a:latin typeface="Humanst521 BT"/>
              </a:rPr>
              <a:t>you believe children will come to Jesu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1.  Get personally involved in evangelizing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2.  Invest your resources proportionately</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3.  Know how to share the gospel with kid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4.  Share the gospel with your own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5.  Be just as excited about a child coming to Chris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A58B66-708A-4B64-849B-844E0F1DFA0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B317175-E8B5-487B-AA9C-DB9480BE019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86B8213B-E04C-4D70-A0EA-B9233C65224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sldNum" idx="1"/>
          </p:nvPr>
        </p:nvSpPr>
        <p:spPr/>
        <p:txBody>
          <a:bodyPr/>
          <a:p>
            <a:fld id="{6DEA2114-AF0E-4F59-9D4F-41649836908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sldNum" idx="1"/>
          </p:nvPr>
        </p:nvSpPr>
        <p:spPr/>
        <p:txBody>
          <a:bodyPr/>
          <a:p>
            <a:fld id="{9379CF44-A179-46AD-8036-82782455026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5960" y="75960"/>
            <a:ext cx="701028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E2A687D8-8893-4B2C-8EF1-FEA09D66295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82F966E8-9613-43A7-A0B0-0901E51E0FB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8BE9337F-3C9A-4897-A0D9-4769B602172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3" name="PlaceHolder 2"/>
          <p:cNvSpPr>
            <a:spLocks noGrp="1"/>
          </p:cNvSpPr>
          <p:nvPr>
            <p:ph type="sldNum" idx="1"/>
          </p:nvPr>
        </p:nvSpPr>
        <p:spPr/>
        <p:txBody>
          <a:bodyPr/>
          <a:p>
            <a:fld id="{C4B4FE1A-F1E6-4181-A43A-4E5664D1257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5960" y="75960"/>
            <a:ext cx="701028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sldNum" idx="1"/>
          </p:nvPr>
        </p:nvSpPr>
        <p:spPr/>
        <p:txBody>
          <a:bodyPr/>
          <a:p>
            <a:fld id="{1368C3E0-FC2C-4D04-9925-EC8C346C91A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47249559-8BEC-4798-8D5A-47A3ABCC06F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9488C7EA-4D34-4D33-A598-1A823A9EB1C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BCB1B9B5-944F-40A8-9096-7C039C5B756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 descr="GraphicsFinal8"/>
          <p:cNvPicPr/>
          <p:nvPr/>
        </p:nvPicPr>
        <p:blipFill>
          <a:blip r:embed="rId2"/>
          <a:stretch/>
        </p:blipFill>
        <p:spPr>
          <a:xfrm>
            <a:off x="0" y="0"/>
            <a:ext cx="9144000" cy="206208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Humanst521 BT"/>
              </a:rPr>
              <a:t>Click to edit the title text format</a:t>
            </a:r>
            <a:endParaRPr b="0" lang="en-US" sz="3800" spc="-1" strike="noStrike">
              <a:solidFill>
                <a:srgbClr val="ffffff"/>
              </a:solidFill>
              <a:latin typeface="Humanst521 BT"/>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1" lang="en-US" sz="1200" spc="-1" strike="noStrike">
                <a:solidFill>
                  <a:srgbClr val="ffffff"/>
                </a:solidFill>
                <a:latin typeface="Times New Roman"/>
              </a:rPr>
              <a:t>Rock-Solid Kids</a:t>
            </a:r>
            <a:r>
              <a:rPr b="0" lang="en-US" sz="1200" spc="-1" strike="noStrike">
                <a:solidFill>
                  <a:srgbClr val="ffffff"/>
                </a:solidFill>
                <a:latin typeface="Times New Roman"/>
              </a:rPr>
              <a:t> </a:t>
            </a:r>
            <a:r>
              <a:rPr b="0" i="1" lang="en-US" sz="1200" spc="-1" strike="noStrike">
                <a:solidFill>
                  <a:srgbClr val="ffffff"/>
                </a:solidFill>
                <a:latin typeface="Times New Roman"/>
              </a:rPr>
              <a:t>Module 8-</a:t>
            </a:r>
            <a:fld id="{88B75040-D0A1-4F43-9B3C-7906BE0D77A8}" type="slidenum">
              <a:rPr b="0" i="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5" name="Rectangle 10"/>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ea typeface="Tahoma"/>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Humanst521 BT"/>
              </a:rPr>
              <a:t>Click to edit the title text format</a:t>
            </a:r>
            <a:endParaRPr b="0" lang="en-US" sz="3800" spc="-1" strike="noStrike">
              <a:solidFill>
                <a:srgbClr val="ffffff"/>
              </a:solidFill>
              <a:latin typeface="Humanst521 BT"/>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3741840" y="4597200"/>
            <a:ext cx="5402160" cy="1060200"/>
          </a:xfrm>
          <a:prstGeom prst="rect">
            <a:avLst/>
          </a:prstGeom>
          <a:gradFill rotWithShape="0">
            <a:gsLst>
              <a:gs pos="0">
                <a:srgbClr val="ffffff">
                  <a:alpha val="0"/>
                </a:srgbClr>
              </a:gs>
              <a:gs pos="100000">
                <a:srgbClr val="ffffff"/>
              </a:gs>
            </a:gsLst>
            <a:lin ang="0"/>
          </a:gradFill>
          <a:ln w="0">
            <a:noFill/>
          </a:ln>
        </p:spPr>
        <p:txBody>
          <a:bodyPr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33"/>
                </a:solidFill>
                <a:latin typeface="Humanst521 BT"/>
              </a:rPr>
              <a:t>Module 8:</a:t>
            </a:r>
            <a:br>
              <a:rPr sz="3200"/>
            </a:br>
            <a:r>
              <a:rPr b="1" lang="en-US" sz="4000" spc="-1" strike="noStrike">
                <a:solidFill>
                  <a:srgbClr val="434c8d"/>
                </a:solidFill>
                <a:latin typeface="Humanst521 BT"/>
              </a:rPr>
              <a:t>The Golden Hour</a:t>
            </a:r>
            <a:endParaRPr b="0" lang="en-US" sz="4000" spc="-1" strike="noStrike">
              <a:solidFill>
                <a:srgbClr val="ffffff"/>
              </a:solidFill>
              <a:latin typeface="Humanst521 BT"/>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2D1DC8B5-CB6B-4313-AA84-174039CB59E8}"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43"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Share Christ with children</a:t>
            </a:r>
            <a:endParaRPr b="0" lang="en-US" sz="4000" spc="-1" strike="noStrike">
              <a:solidFill>
                <a:srgbClr val="ffffff"/>
              </a:solidFill>
              <a:latin typeface="Humanst521 BT"/>
            </a:endParaRPr>
          </a:p>
        </p:txBody>
      </p:sp>
      <p:sp>
        <p:nvSpPr>
          <p:cNvPr id="244" name="PlaceHolder 2"/>
          <p:cNvSpPr>
            <a:spLocks noGrp="1"/>
          </p:cNvSpPr>
          <p:nvPr>
            <p:ph/>
          </p:nvPr>
        </p:nvSpPr>
        <p:spPr>
          <a:xfrm>
            <a:off x="456840" y="2419200"/>
            <a:ext cx="7791480" cy="3570480"/>
          </a:xfrm>
          <a:prstGeom prst="rect">
            <a:avLst/>
          </a:prstGeom>
          <a:noFill/>
          <a:ln w="0">
            <a:noFill/>
          </a:ln>
        </p:spPr>
        <p:txBody>
          <a:bodyPr anchor="t">
            <a:normAutofit/>
          </a:bodyPr>
          <a:p>
            <a:pPr marL="609480" indent="-609480">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eir lives are ahead of them.</a:t>
            </a:r>
            <a:endParaRPr b="0" lang="en-US" sz="3600" spc="-1" strike="noStrike">
              <a:solidFill>
                <a:srgbClr val="000000"/>
              </a:solidFill>
              <a:latin typeface="Humanst521 BT"/>
            </a:endParaRPr>
          </a:p>
          <a:p>
            <a:pPr marL="609480" indent="-609480">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eir worldview is being molded then.</a:t>
            </a:r>
            <a:endParaRPr b="0" lang="en-US" sz="3600" spc="-1" strike="noStrike">
              <a:solidFill>
                <a:srgbClr val="000000"/>
              </a:solidFill>
              <a:latin typeface="Humanst521 BT"/>
            </a:endParaRPr>
          </a:p>
          <a:p>
            <a:pPr marL="609480" indent="-609480">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ey are open and receptive.</a:t>
            </a:r>
            <a:endParaRPr b="0" lang="en-US" sz="3600" spc="-1" strike="noStrike">
              <a:solidFill>
                <a:srgbClr val="000000"/>
              </a:solidFill>
              <a:latin typeface="Humanst521 BT"/>
            </a:endParaRPr>
          </a:p>
          <a:p>
            <a:pPr marL="609480" indent="-609480">
              <a:spcBef>
                <a:spcPts val="9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nd Jesus said, “Let them come.”</a:t>
            </a:r>
            <a:endParaRPr b="0" lang="en-US" sz="3600" spc="-1" strike="noStrike">
              <a:solidFill>
                <a:srgbClr val="000000"/>
              </a:solidFill>
              <a:latin typeface="Humanst521 BT"/>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umanst521 BT"/>
            </a:endParaRPr>
          </a:p>
        </p:txBody>
      </p:sp>
    </p:spTree>
  </p:cSld>
  <p:transition spd="med">
    <p:fade/>
  </p:transition>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12" presetSubtype="4">
                                  <p:stCondLst>
                                    <p:cond delay="0"/>
                                  </p:stCondLst>
                                  <p:childTnLst>
                                    <p:set>
                                      <p:cBhvr>
                                        <p:cTn id="85" dur="1" fill="hold">
                                          <p:stCondLst>
                                            <p:cond delay="0"/>
                                          </p:stCondLst>
                                        </p:cTn>
                                        <p:tgtEl>
                                          <p:spTgt spid="244">
                                            <p:txEl>
                                              <p:pRg st="0" end="0"/>
                                            </p:txEl>
                                          </p:spTgt>
                                        </p:tgtEl>
                                        <p:attrNameLst>
                                          <p:attrName>style.visibility</p:attrName>
                                        </p:attrNameLst>
                                      </p:cBhvr>
                                      <p:to>
                                        <p:strVal val="visible"/>
                                      </p:to>
                                    </p:set>
                                    <p:animEffect filter="slide(fromBottom)" transition="in">
                                      <p:cBhvr additive="repl">
                                        <p:cTn id="86" dur="1000"/>
                                        <p:tgtEl>
                                          <p:spTgt spid="244">
                                            <p:txEl>
                                              <p:pRg st="0" end="0"/>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2" presetSubtype="4">
                                  <p:stCondLst>
                                    <p:cond delay="0"/>
                                  </p:stCondLst>
                                  <p:childTnLst>
                                    <p:set>
                                      <p:cBhvr>
                                        <p:cTn id="90" dur="1" fill="hold">
                                          <p:stCondLst>
                                            <p:cond delay="0"/>
                                          </p:stCondLst>
                                        </p:cTn>
                                        <p:tgtEl>
                                          <p:spTgt spid="244">
                                            <p:txEl>
                                              <p:pRg st="1" end="1"/>
                                            </p:txEl>
                                          </p:spTgt>
                                        </p:tgtEl>
                                        <p:attrNameLst>
                                          <p:attrName>style.visibility</p:attrName>
                                        </p:attrNameLst>
                                      </p:cBhvr>
                                      <p:to>
                                        <p:strVal val="visible"/>
                                      </p:to>
                                    </p:set>
                                    <p:animEffect filter="slide(fromBottom)" transition="in">
                                      <p:cBhvr additive="repl">
                                        <p:cTn id="91" dur="1000"/>
                                        <p:tgtEl>
                                          <p:spTgt spid="244">
                                            <p:txEl>
                                              <p:pRg st="1" end="1"/>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12" presetSubtype="4">
                                  <p:stCondLst>
                                    <p:cond delay="0"/>
                                  </p:stCondLst>
                                  <p:childTnLst>
                                    <p:set>
                                      <p:cBhvr>
                                        <p:cTn id="95" dur="1" fill="hold">
                                          <p:stCondLst>
                                            <p:cond delay="0"/>
                                          </p:stCondLst>
                                        </p:cTn>
                                        <p:tgtEl>
                                          <p:spTgt spid="244">
                                            <p:txEl>
                                              <p:pRg st="2" end="2"/>
                                            </p:txEl>
                                          </p:spTgt>
                                        </p:tgtEl>
                                        <p:attrNameLst>
                                          <p:attrName>style.visibility</p:attrName>
                                        </p:attrNameLst>
                                      </p:cBhvr>
                                      <p:to>
                                        <p:strVal val="visible"/>
                                      </p:to>
                                    </p:set>
                                    <p:animEffect filter="slide(fromBottom)" transition="in">
                                      <p:cBhvr additive="repl">
                                        <p:cTn id="96" dur="1000"/>
                                        <p:tgtEl>
                                          <p:spTgt spid="244">
                                            <p:txEl>
                                              <p:pRg st="2" end="2"/>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2" presetSubtype="4">
                                  <p:stCondLst>
                                    <p:cond delay="0"/>
                                  </p:stCondLst>
                                  <p:childTnLst>
                                    <p:set>
                                      <p:cBhvr>
                                        <p:cTn id="100" dur="1" fill="hold">
                                          <p:stCondLst>
                                            <p:cond delay="0"/>
                                          </p:stCondLst>
                                        </p:cTn>
                                        <p:tgtEl>
                                          <p:spTgt spid="244">
                                            <p:txEl>
                                              <p:pRg st="3" end="3"/>
                                            </p:txEl>
                                          </p:spTgt>
                                        </p:tgtEl>
                                        <p:attrNameLst>
                                          <p:attrName>style.visibility</p:attrName>
                                        </p:attrNameLst>
                                      </p:cBhvr>
                                      <p:to>
                                        <p:strVal val="visible"/>
                                      </p:to>
                                    </p:set>
                                    <p:animEffect filter="slide(fromBottom)" transition="in">
                                      <p:cBhvr additive="repl">
                                        <p:cTn id="101" dur="1000"/>
                                        <p:tgtEl>
                                          <p:spTgt spid="24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C5A4AB60-F5D4-4880-949E-B3359995EA2D}"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46"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The Golden Hour</a:t>
            </a:r>
            <a:endParaRPr b="0" lang="en-US" sz="4000" spc="-1" strike="noStrike">
              <a:solidFill>
                <a:srgbClr val="ffffff"/>
              </a:solidFill>
              <a:latin typeface="Humanst521 BT"/>
            </a:endParaRPr>
          </a:p>
        </p:txBody>
      </p:sp>
      <p:sp>
        <p:nvSpPr>
          <p:cNvPr id="247" name="PlaceHolder 2"/>
          <p:cNvSpPr>
            <a:spLocks noGrp="1"/>
          </p:cNvSpPr>
          <p:nvPr>
            <p:ph/>
          </p:nvPr>
        </p:nvSpPr>
        <p:spPr>
          <a:xfrm>
            <a:off x="323640" y="2190600"/>
            <a:ext cx="7753320" cy="3532320"/>
          </a:xfrm>
          <a:prstGeom prst="rect">
            <a:avLst/>
          </a:prstGeom>
          <a:noFill/>
          <a:ln w="0">
            <a:noFill/>
          </a:ln>
        </p:spPr>
        <p:txBody>
          <a:bodyPr anchor="ctr" anchorCtr="1">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umanst521 BT"/>
              </a:rPr>
              <a:t>Let’s not miss it.</a:t>
            </a:r>
            <a:endParaRPr b="0" lang="en-US" sz="4000" spc="-1" strike="noStrike">
              <a:solidFill>
                <a:srgbClr val="000000"/>
              </a:solidFill>
              <a:latin typeface="Humanst521 BT"/>
            </a:endParaRPr>
          </a:p>
        </p:txBody>
      </p:sp>
    </p:spTree>
  </p:cSld>
  <p:transition spd="med">
    <p:circle/>
  </p:transition>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16" presetSubtype="37">
                                  <p:stCondLst>
                                    <p:cond delay="0"/>
                                  </p:stCondLst>
                                  <p:childTnLst>
                                    <p:set>
                                      <p:cBhvr>
                                        <p:cTn id="107" dur="1" fill="hold">
                                          <p:stCondLst>
                                            <p:cond delay="0"/>
                                          </p:stCondLst>
                                        </p:cTn>
                                        <p:tgtEl>
                                          <p:spTgt spid="247">
                                            <p:txEl>
                                              <p:pRg st="0" end="0"/>
                                            </p:txEl>
                                          </p:spTgt>
                                        </p:tgtEl>
                                        <p:attrNameLst>
                                          <p:attrName>style.visibility</p:attrName>
                                        </p:attrNameLst>
                                      </p:cBhvr>
                                      <p:to>
                                        <p:strVal val="visible"/>
                                      </p:to>
                                    </p:set>
                                    <p:animEffect filter="barn(outVertical)" transition="in">
                                      <p:cBhvr additive="repl">
                                        <p:cTn id="108" dur="1000"/>
                                        <p:tgtEl>
                                          <p:spTgt spid="24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AF553B32-94BA-49A5-B281-A862C93C4644}"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0" name="Rectangle 19"/>
          <p:cNvSpPr/>
          <p:nvPr/>
        </p:nvSpPr>
        <p:spPr>
          <a:xfrm>
            <a:off x="406440" y="1208160"/>
            <a:ext cx="677880" cy="538200"/>
          </a:xfrm>
          <a:prstGeom prst="rect">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91"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Humanst521 BT"/>
              </a:rPr>
              <a:t>The Command to the Disciples</a:t>
            </a:r>
            <a:endParaRPr b="0" lang="en-US" sz="3800" spc="-1" strike="noStrike">
              <a:solidFill>
                <a:srgbClr val="ffffff"/>
              </a:solidFill>
              <a:latin typeface="Humanst521 BT"/>
            </a:endParaRPr>
          </a:p>
        </p:txBody>
      </p:sp>
      <p:sp>
        <p:nvSpPr>
          <p:cNvPr id="92" name="PlaceHolder 2"/>
          <p:cNvSpPr>
            <a:spLocks noGrp="1"/>
          </p:cNvSpPr>
          <p:nvPr>
            <p:ph/>
          </p:nvPr>
        </p:nvSpPr>
        <p:spPr>
          <a:xfrm>
            <a:off x="304560" y="2405160"/>
            <a:ext cx="8235720" cy="3301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Humanst521 BT"/>
              </a:rPr>
              <a:t>Modern-Day Violators</a:t>
            </a:r>
            <a:endParaRPr b="0" lang="en-US" sz="3200" spc="-1" strike="noStrike">
              <a:solidFill>
                <a:srgbClr val="000000"/>
              </a:solidFill>
              <a:latin typeface="Humanst521 BT"/>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umanst521 BT"/>
              </a:rPr>
              <a:t>The Inoculator</a:t>
            </a:r>
            <a:r>
              <a:rPr b="0" lang="en-US" sz="3200" spc="-1" strike="noStrike">
                <a:solidFill>
                  <a:srgbClr val="000000"/>
                </a:solidFill>
                <a:latin typeface="Humanst521 BT"/>
              </a:rPr>
              <a:t>…makes it ___ ____ and is     ___ _____ to confirm a child’s decision</a:t>
            </a:r>
            <a:endParaRPr b="0" lang="en-US" sz="3200" spc="-1" strike="noStrike">
              <a:solidFill>
                <a:srgbClr val="000000"/>
              </a:solidFill>
              <a:latin typeface="Humanst521 BT"/>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umanst521 BT"/>
              </a:rPr>
              <a:t>The Headhunter</a:t>
            </a:r>
            <a:r>
              <a:rPr b="0" lang="en-US" sz="3200" spc="-1" strike="noStrike">
                <a:solidFill>
                  <a:srgbClr val="000000"/>
                </a:solidFill>
                <a:latin typeface="Humanst521 BT"/>
              </a:rPr>
              <a:t>…resorts to techniques that results in many _________ of faith but not necessarily in _______ ones</a:t>
            </a:r>
            <a:endParaRPr b="0" lang="en-US" sz="3200" spc="-1" strike="noStrike">
              <a:solidFill>
                <a:srgbClr val="000000"/>
              </a:solidFill>
              <a:latin typeface="Humanst521 BT"/>
            </a:endParaRPr>
          </a:p>
        </p:txBody>
      </p:sp>
      <p:sp>
        <p:nvSpPr>
          <p:cNvPr id="93" name="Rectangle 6"/>
          <p:cNvSpPr/>
          <p:nvPr/>
        </p:nvSpPr>
        <p:spPr>
          <a:xfrm>
            <a:off x="5504040" y="2986200"/>
            <a:ext cx="196524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too  easy</a:t>
            </a:r>
            <a:endParaRPr b="0" lang="en-US" sz="3200" spc="-1" strike="noStrike">
              <a:solidFill>
                <a:srgbClr val="000000"/>
              </a:solidFill>
              <a:latin typeface="Humanst521 BT"/>
            </a:endParaRPr>
          </a:p>
        </p:txBody>
      </p:sp>
      <p:sp>
        <p:nvSpPr>
          <p:cNvPr id="94" name="Rectangle 7"/>
          <p:cNvSpPr/>
          <p:nvPr/>
        </p:nvSpPr>
        <p:spPr>
          <a:xfrm>
            <a:off x="1565280" y="3490920"/>
            <a:ext cx="209880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too  eager</a:t>
            </a:r>
            <a:endParaRPr b="0" lang="en-US" sz="3200" spc="-1" strike="noStrike">
              <a:solidFill>
                <a:srgbClr val="000000"/>
              </a:solidFill>
              <a:latin typeface="Humanst521 BT"/>
            </a:endParaRPr>
          </a:p>
        </p:txBody>
      </p:sp>
      <p:sp>
        <p:nvSpPr>
          <p:cNvPr id="95" name="Rectangle 9"/>
          <p:cNvSpPr/>
          <p:nvPr/>
        </p:nvSpPr>
        <p:spPr>
          <a:xfrm>
            <a:off x="4219560" y="4983120"/>
            <a:ext cx="287172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professions</a:t>
            </a:r>
            <a:endParaRPr b="0" lang="en-US" sz="3200" spc="-1" strike="noStrike">
              <a:solidFill>
                <a:srgbClr val="000000"/>
              </a:solidFill>
              <a:latin typeface="Humanst521 BT"/>
            </a:endParaRPr>
          </a:p>
        </p:txBody>
      </p:sp>
      <p:sp>
        <p:nvSpPr>
          <p:cNvPr id="96" name="Rectangle 10"/>
          <p:cNvSpPr/>
          <p:nvPr/>
        </p:nvSpPr>
        <p:spPr>
          <a:xfrm>
            <a:off x="3924360" y="5535720"/>
            <a:ext cx="287172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genuine</a:t>
            </a:r>
            <a:endParaRPr b="0" lang="en-US" sz="3200" spc="-1" strike="noStrike">
              <a:solidFill>
                <a:srgbClr val="000000"/>
              </a:solidFill>
              <a:latin typeface="Humanst521 BT"/>
            </a:endParaRPr>
          </a:p>
        </p:txBody>
      </p:sp>
      <p:sp>
        <p:nvSpPr>
          <p:cNvPr id="97" name="Text Box 18"/>
          <p:cNvSpPr/>
          <p:nvPr/>
        </p:nvSpPr>
        <p:spPr>
          <a:xfrm>
            <a:off x="135000" y="1157400"/>
            <a:ext cx="588780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t>
            </a:r>
            <a:r>
              <a:rPr b="0" lang="en-US" sz="3600" spc="-1" strike="noStrike">
                <a:solidFill>
                  <a:srgbClr val="ffffff"/>
                </a:solidFill>
                <a:latin typeface="Humanst521 BT"/>
              </a:rPr>
              <a:t>Let</a:t>
            </a:r>
            <a:r>
              <a:rPr b="0" lang="en-US" sz="3600" spc="-1" strike="noStrike">
                <a:solidFill>
                  <a:srgbClr val="000000"/>
                </a:solidFill>
                <a:latin typeface="Humanst521 BT"/>
              </a:rPr>
              <a:t> the little children come”</a:t>
            </a:r>
            <a:endParaRPr b="0" lang="en-US" sz="3600" spc="-1" strike="noStrike">
              <a:solidFill>
                <a:srgbClr val="000000"/>
              </a:solidFill>
              <a:latin typeface="Humanst521 BT"/>
            </a:endParaRPr>
          </a:p>
        </p:txBody>
      </p:sp>
    </p:spTree>
  </p:cSld>
  <p:transition spd="med">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iterate type="lt">
                                    <p:tmAbs val="0.00199999988079071"/>
                                  </p:iterate>
                                  <p:childTnLst>
                                    <p:set>
                                      <p:cBhvr>
                                        <p:cTn id="6" dur="1" fill="hold">
                                          <p:stCondLst>
                                            <p:cond delay="0"/>
                                          </p:stCondLst>
                                        </p:cTn>
                                        <p:tgtEl>
                                          <p:spTgt spid="93"/>
                                        </p:tgtEl>
                                        <p:attrNameLst>
                                          <p:attrName>style.visibility</p:attrName>
                                        </p:attrNameLst>
                                      </p:cBhvr>
                                      <p:to>
                                        <p:strVal val="visible"/>
                                      </p:to>
                                    </p:set>
                                  </p:childTnLst>
                                </p:cTn>
                              </p:par>
                            </p:childTnLst>
                          </p:cTn>
                        </p:par>
                        <p:par>
                          <p:cTn id="7" fill="hold">
                            <p:stCondLst>
                              <p:cond delay="1201"/>
                            </p:stCondLst>
                            <p:childTnLst>
                              <p:par>
                                <p:cTn id="8" nodeType="afterEffect" fill="hold" presetClass="entr" presetID="1">
                                  <p:stCondLst>
                                    <p:cond delay="0"/>
                                  </p:stCondLst>
                                  <p:iterate type="lt">
                                    <p:tmAbs val="0.00199999988079071"/>
                                  </p:iterate>
                                  <p:childTnLst>
                                    <p:set>
                                      <p:cBhvr>
                                        <p:cTn id="9" dur="1" fill="hold">
                                          <p:stCondLst>
                                            <p:cond delay="0"/>
                                          </p:stCondLst>
                                        </p:cTn>
                                        <p:tgtEl>
                                          <p:spTgt spid="94"/>
                                        </p:tgtEl>
                                        <p:attrNameLst>
                                          <p:attrName>style.visibility</p:attrName>
                                        </p:attrNameLst>
                                      </p:cBhvr>
                                      <p:to>
                                        <p:strVal val="visible"/>
                                      </p:to>
                                    </p:se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1">
                                  <p:stCondLst>
                                    <p:cond delay="0"/>
                                  </p:stCondLst>
                                  <p:iterate type="lt">
                                    <p:tmAbs val="0.00199999988079071"/>
                                  </p:iterate>
                                  <p:childTnLst>
                                    <p:set>
                                      <p:cBhvr>
                                        <p:cTn id="13" dur="1" fill="hold">
                                          <p:stCondLst>
                                            <p:cond delay="0"/>
                                          </p:stCondLst>
                                        </p:cTn>
                                        <p:tgtEl>
                                          <p:spTgt spid="95"/>
                                        </p:tgtEl>
                                        <p:attrNameLst>
                                          <p:attrName>style.visibility</p:attrName>
                                        </p:attrNameLst>
                                      </p:cBhvr>
                                      <p:to>
                                        <p:strVal val="visible"/>
                                      </p:to>
                                    </p:set>
                                  </p:childTnLst>
                                </p:cTn>
                              </p:par>
                            </p:childTnLst>
                          </p:cTn>
                        </p:par>
                        <p:par>
                          <p:cTn id="14" fill="hold">
                            <p:stCondLst>
                              <p:cond delay="2001"/>
                            </p:stCondLst>
                            <p:childTnLst>
                              <p:par>
                                <p:cTn id="15" nodeType="afterEffect" fill="hold" presetClass="entr" presetID="1">
                                  <p:stCondLst>
                                    <p:cond delay="1000"/>
                                  </p:stCondLst>
                                  <p:iterate type="lt">
                                    <p:tmAbs val="0.00199999988079071"/>
                                  </p:iterate>
                                  <p:childTnLst>
                                    <p:set>
                                      <p:cBhvr>
                                        <p:cTn id="16" dur="1" fill="hold">
                                          <p:stCondLst>
                                            <p:cond delay="0"/>
                                          </p:stCondLst>
                                        </p:cTn>
                                        <p:tgtEl>
                                          <p:spTgt spid="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4E23BF73-9726-4F9C-858B-9D4C6111FFB8}"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9"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Humanst521 BT"/>
              </a:rPr>
              <a:t>The Command to the Disciples</a:t>
            </a:r>
            <a:endParaRPr b="0" lang="en-US" sz="3800" spc="-1" strike="noStrike">
              <a:solidFill>
                <a:srgbClr val="ffffff"/>
              </a:solidFill>
              <a:latin typeface="Humanst521 BT"/>
            </a:endParaRPr>
          </a:p>
        </p:txBody>
      </p:sp>
      <p:sp>
        <p:nvSpPr>
          <p:cNvPr id="100" name="PlaceHolder 2"/>
          <p:cNvSpPr>
            <a:spLocks noGrp="1"/>
          </p:cNvSpPr>
          <p:nvPr>
            <p:ph/>
          </p:nvPr>
        </p:nvSpPr>
        <p:spPr>
          <a:xfrm>
            <a:off x="304920" y="2405160"/>
            <a:ext cx="8516880" cy="3859200"/>
          </a:xfrm>
          <a:prstGeom prst="rect">
            <a:avLst/>
          </a:prstGeom>
          <a:noFill/>
          <a:ln w="0">
            <a:noFill/>
          </a:ln>
        </p:spPr>
        <p:txBody>
          <a:bodyPr anchor="t">
            <a:normAutofit fontScale="95000"/>
          </a:bodyPr>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Humanst521 BT"/>
              </a:rPr>
              <a:t>Modern-Day Violators</a:t>
            </a:r>
            <a:endParaRPr b="0" lang="en-US" sz="3200" spc="-1" strike="noStrike">
              <a:solidFill>
                <a:srgbClr val="000000"/>
              </a:solidFill>
              <a:latin typeface="Humanst521 BT"/>
            </a:endParaRPr>
          </a:p>
          <a:p>
            <a:pPr marL="325800" indent="-32580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umanst521 BT"/>
              </a:rPr>
              <a:t>The Manipulator</a:t>
            </a:r>
            <a:r>
              <a:rPr b="0" lang="en-US" sz="3200" spc="-1" strike="noStrike">
                <a:solidFill>
                  <a:srgbClr val="000000"/>
                </a:solidFill>
                <a:latin typeface="Humanst521 BT"/>
              </a:rPr>
              <a:t>…works on the _______ of children, so that their responses are ________, not ____.</a:t>
            </a:r>
            <a:endParaRPr b="0" lang="en-US" sz="3200" spc="-1" strike="noStrike">
              <a:solidFill>
                <a:srgbClr val="000000"/>
              </a:solidFill>
              <a:latin typeface="Humanst521 BT"/>
            </a:endParaRPr>
          </a:p>
          <a:p>
            <a:pPr marL="325800" indent="-32580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umanst521 BT"/>
              </a:rPr>
              <a:t>The Discipler</a:t>
            </a:r>
            <a:r>
              <a:rPr b="0" lang="en-US" sz="3200" spc="-1" strike="noStrike">
                <a:solidFill>
                  <a:srgbClr val="000000"/>
                </a:solidFill>
                <a:latin typeface="Humanst521 BT"/>
              </a:rPr>
              <a:t>…works on _______ spiritual babies so much that he forgets to ____ the </a:t>
            </a:r>
            <a:br>
              <a:rPr sz="3200"/>
            </a:br>
            <a:r>
              <a:rPr b="0" lang="en-US" sz="3200" spc="-1" strike="noStrike">
                <a:solidFill>
                  <a:srgbClr val="000000"/>
                </a:solidFill>
                <a:latin typeface="Humanst521 BT"/>
              </a:rPr>
              <a:t>baby first.</a:t>
            </a:r>
            <a:endParaRPr b="0" lang="en-US" sz="3200" spc="-1" strike="noStrike">
              <a:solidFill>
                <a:srgbClr val="000000"/>
              </a:solidFill>
              <a:latin typeface="Humanst521 BT"/>
            </a:endParaRPr>
          </a:p>
        </p:txBody>
      </p:sp>
      <p:sp>
        <p:nvSpPr>
          <p:cNvPr id="101" name="Rectangle 6"/>
          <p:cNvSpPr/>
          <p:nvPr/>
        </p:nvSpPr>
        <p:spPr>
          <a:xfrm>
            <a:off x="6607080" y="2995560"/>
            <a:ext cx="198756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feelings</a:t>
            </a:r>
            <a:endParaRPr b="0" lang="en-US" sz="3200" spc="-1" strike="noStrike">
              <a:solidFill>
                <a:srgbClr val="000000"/>
              </a:solidFill>
              <a:latin typeface="Humanst521 BT"/>
            </a:endParaRPr>
          </a:p>
        </p:txBody>
      </p:sp>
      <p:sp>
        <p:nvSpPr>
          <p:cNvPr id="102" name="Rectangle 7"/>
          <p:cNvSpPr/>
          <p:nvPr/>
        </p:nvSpPr>
        <p:spPr>
          <a:xfrm>
            <a:off x="3408480" y="3911760"/>
            <a:ext cx="179856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faith</a:t>
            </a:r>
            <a:endParaRPr b="0" lang="en-US" sz="3200" spc="-1" strike="noStrike">
              <a:solidFill>
                <a:srgbClr val="000000"/>
              </a:solidFill>
              <a:latin typeface="Humanst521 BT"/>
            </a:endParaRPr>
          </a:p>
        </p:txBody>
      </p:sp>
      <p:sp>
        <p:nvSpPr>
          <p:cNvPr id="103" name="Rectangle 8"/>
          <p:cNvSpPr/>
          <p:nvPr/>
        </p:nvSpPr>
        <p:spPr>
          <a:xfrm>
            <a:off x="843120" y="3925800"/>
            <a:ext cx="204768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emotion</a:t>
            </a:r>
            <a:endParaRPr b="0" lang="en-US" sz="3200" spc="-1" strike="noStrike">
              <a:solidFill>
                <a:srgbClr val="000000"/>
              </a:solidFill>
              <a:latin typeface="Humanst521 BT"/>
            </a:endParaRPr>
          </a:p>
        </p:txBody>
      </p:sp>
      <p:sp>
        <p:nvSpPr>
          <p:cNvPr id="104" name="Rectangle 9"/>
          <p:cNvSpPr/>
          <p:nvPr/>
        </p:nvSpPr>
        <p:spPr>
          <a:xfrm>
            <a:off x="5170320" y="4549680"/>
            <a:ext cx="287208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  </a:t>
            </a:r>
            <a:r>
              <a:rPr b="0" lang="en-US" sz="3200" spc="-1" strike="noStrike">
                <a:solidFill>
                  <a:srgbClr val="cc0000"/>
                </a:solidFill>
                <a:latin typeface="Humanst521 BT"/>
              </a:rPr>
              <a:t>growing</a:t>
            </a:r>
            <a:endParaRPr b="0" lang="en-US" sz="3200" spc="-1" strike="noStrike">
              <a:solidFill>
                <a:srgbClr val="000000"/>
              </a:solidFill>
              <a:latin typeface="Humanst521 BT"/>
            </a:endParaRPr>
          </a:p>
        </p:txBody>
      </p:sp>
      <p:sp>
        <p:nvSpPr>
          <p:cNvPr id="105" name="Rectangle 10"/>
          <p:cNvSpPr/>
          <p:nvPr/>
        </p:nvSpPr>
        <p:spPr>
          <a:xfrm>
            <a:off x="6789600" y="5038560"/>
            <a:ext cx="1200240" cy="5590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birth</a:t>
            </a:r>
            <a:endParaRPr b="0" lang="en-US" sz="3200" spc="-1" strike="noStrike">
              <a:solidFill>
                <a:srgbClr val="000000"/>
              </a:solidFill>
              <a:latin typeface="Humanst521 BT"/>
            </a:endParaRPr>
          </a:p>
        </p:txBody>
      </p:sp>
      <p:sp>
        <p:nvSpPr>
          <p:cNvPr id="106" name="Rectangle 16"/>
          <p:cNvSpPr/>
          <p:nvPr/>
        </p:nvSpPr>
        <p:spPr>
          <a:xfrm>
            <a:off x="406440" y="1208160"/>
            <a:ext cx="677880" cy="538200"/>
          </a:xfrm>
          <a:prstGeom prst="rect">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07" name="Text Box 17"/>
          <p:cNvSpPr/>
          <p:nvPr/>
        </p:nvSpPr>
        <p:spPr>
          <a:xfrm>
            <a:off x="135000" y="1157400"/>
            <a:ext cx="588780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t>
            </a:r>
            <a:r>
              <a:rPr b="0" lang="en-US" sz="3600" spc="-1" strike="noStrike">
                <a:solidFill>
                  <a:srgbClr val="ffffff"/>
                </a:solidFill>
                <a:latin typeface="Humanst521 BT"/>
              </a:rPr>
              <a:t>Let</a:t>
            </a:r>
            <a:r>
              <a:rPr b="0" lang="en-US" sz="3600" spc="-1" strike="noStrike">
                <a:solidFill>
                  <a:srgbClr val="000000"/>
                </a:solidFill>
                <a:latin typeface="Humanst521 BT"/>
              </a:rPr>
              <a:t> the little children come”</a:t>
            </a:r>
            <a:endParaRPr b="0" lang="en-US" sz="3600" spc="-1" strike="noStrike">
              <a:solidFill>
                <a:srgbClr val="000000"/>
              </a:solidFill>
              <a:latin typeface="Humanst521 BT"/>
            </a:endParaRPr>
          </a:p>
        </p:txBody>
      </p:sp>
    </p:spTree>
  </p:cSld>
  <p:transition spd="med">
    <p:fade/>
  </p:transition>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1">
                                  <p:stCondLst>
                                    <p:cond delay="0"/>
                                  </p:stCondLst>
                                  <p:iterate type="lt">
                                    <p:tmAbs val="0.00199999988079071"/>
                                  </p:iterate>
                                  <p:childTnLst>
                                    <p:set>
                                      <p:cBhvr>
                                        <p:cTn id="22" dur="1" fill="hold">
                                          <p:stCondLst>
                                            <p:cond delay="0"/>
                                          </p:stCondLst>
                                        </p:cTn>
                                        <p:tgtEl>
                                          <p:spTgt spid="101"/>
                                        </p:tgtEl>
                                        <p:attrNameLst>
                                          <p:attrName>style.visibility</p:attrName>
                                        </p:attrNameLst>
                                      </p:cBhvr>
                                      <p:to>
                                        <p:strVal val="visible"/>
                                      </p:to>
                                    </p:set>
                                  </p:childTnLst>
                                </p:cTn>
                              </p:par>
                            </p:childTnLst>
                          </p:cTn>
                        </p:par>
                        <p:par>
                          <p:cTn id="23" fill="hold">
                            <p:stCondLst>
                              <p:cond delay="1401"/>
                            </p:stCondLst>
                            <p:childTnLst>
                              <p:par>
                                <p:cTn id="24" nodeType="afterEffect" fill="hold" presetClass="entr" presetID="1">
                                  <p:stCondLst>
                                    <p:cond delay="1000"/>
                                  </p:stCondLst>
                                  <p:iterate type="lt">
                                    <p:tmAbs val="0.00199999988079071"/>
                                  </p:iterate>
                                  <p:childTnLst>
                                    <p:set>
                                      <p:cBhvr>
                                        <p:cTn id="25" dur="1" fill="hold">
                                          <p:stCondLst>
                                            <p:cond delay="0"/>
                                          </p:stCondLst>
                                        </p:cTn>
                                        <p:tgtEl>
                                          <p:spTgt spid="103"/>
                                        </p:tgtEl>
                                        <p:attrNameLst>
                                          <p:attrName>style.visibility</p:attrName>
                                        </p:attrNameLst>
                                      </p:cBhvr>
                                      <p:to>
                                        <p:strVal val="visible"/>
                                      </p:to>
                                    </p:set>
                                  </p:childTnLst>
                                </p:cTn>
                              </p:par>
                            </p:childTnLst>
                          </p:cTn>
                        </p:par>
                        <p:par>
                          <p:cTn id="26" fill="hold">
                            <p:stCondLst>
                              <p:cond delay="3602"/>
                            </p:stCondLst>
                            <p:childTnLst>
                              <p:par>
                                <p:cTn id="27" nodeType="afterEffect" fill="hold" presetClass="entr" presetID="1">
                                  <p:stCondLst>
                                    <p:cond delay="0"/>
                                  </p:stCondLst>
                                  <p:iterate type="lt">
                                    <p:tmAbs val="0.00199999988079071"/>
                                  </p:iterate>
                                  <p:childTnLst>
                                    <p:set>
                                      <p:cBhvr>
                                        <p:cTn id="28" dur="1" fill="hold">
                                          <p:stCondLst>
                                            <p:cond delay="0"/>
                                          </p:stCondLst>
                                        </p:cTn>
                                        <p:tgtEl>
                                          <p:spTgt spid="102"/>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iterate type="lt">
                                    <p:tmAbs val="0.00199999988079071"/>
                                  </p:iterate>
                                  <p:childTnLst>
                                    <p:set>
                                      <p:cBhvr>
                                        <p:cTn id="32" dur="1" fill="hold">
                                          <p:stCondLst>
                                            <p:cond delay="0"/>
                                          </p:stCondLst>
                                        </p:cTn>
                                        <p:tgtEl>
                                          <p:spTgt spid="104"/>
                                        </p:tgtEl>
                                        <p:attrNameLst>
                                          <p:attrName>style.visibility</p:attrName>
                                        </p:attrNameLst>
                                      </p:cBhvr>
                                      <p:to>
                                        <p:strVal val="visible"/>
                                      </p:to>
                                    </p:set>
                                  </p:childTnLst>
                                </p:cTn>
                              </p:par>
                            </p:childTnLst>
                          </p:cTn>
                        </p:par>
                        <p:par>
                          <p:cTn id="33" fill="hold">
                            <p:stCondLst>
                              <p:cond delay="1201"/>
                            </p:stCondLst>
                            <p:childTnLst>
                              <p:par>
                                <p:cTn id="34" nodeType="afterEffect" fill="hold" presetClass="entr" presetID="1">
                                  <p:stCondLst>
                                    <p:cond delay="1000"/>
                                  </p:stCondLst>
                                  <p:iterate type="lt">
                                    <p:tmAbs val="0.00199999988079071"/>
                                  </p:iterate>
                                  <p:childTnLst>
                                    <p:set>
                                      <p:cBhvr>
                                        <p:cTn id="35" dur="1" fill="hold">
                                          <p:stCondLst>
                                            <p:cond delay="0"/>
                                          </p:stCondLst>
                                        </p:cTn>
                                        <p:tgtEl>
                                          <p:spTgt spid="1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E4F8B254-9A81-4E3C-9BDA-41E48BF9787E}"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9"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Age of the Children</a:t>
            </a:r>
            <a:endParaRPr b="0" lang="en-US" sz="3800" spc="-1" strike="noStrike">
              <a:solidFill>
                <a:srgbClr val="ffffff"/>
              </a:solidFill>
              <a:latin typeface="Humanst521 BT"/>
            </a:endParaRPr>
          </a:p>
        </p:txBody>
      </p:sp>
      <p:sp>
        <p:nvSpPr>
          <p:cNvPr id="110" name="PlaceHolder 2"/>
          <p:cNvSpPr>
            <a:spLocks noGrp="1"/>
          </p:cNvSpPr>
          <p:nvPr>
            <p:ph/>
          </p:nvPr>
        </p:nvSpPr>
        <p:spPr>
          <a:xfrm>
            <a:off x="366840" y="2352240"/>
            <a:ext cx="8516880" cy="450540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Humanst521 BT"/>
              </a:rPr>
              <a:t>Three Questions:</a:t>
            </a:r>
            <a:endParaRPr b="0" lang="en-US" sz="3200" spc="-1" strike="noStrike">
              <a:solidFill>
                <a:srgbClr val="000000"/>
              </a:solidFill>
              <a:latin typeface="Humanst521 BT"/>
            </a:endParaRPr>
          </a:p>
          <a:p>
            <a:pPr marL="609480" indent="-609480">
              <a:spcBef>
                <a:spcPts val="799"/>
              </a:spcBef>
              <a:buClr>
                <a:srgbClr val="0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What age were the children in this story?</a:t>
            </a:r>
            <a:endParaRPr b="0" lang="en-US" sz="3200" spc="-1" strike="noStrike">
              <a:solidFill>
                <a:srgbClr val="000000"/>
              </a:solidFill>
              <a:latin typeface="Humanst521 BT"/>
            </a:endParaRPr>
          </a:p>
          <a:p>
            <a:pPr marL="609480" indent="-609480">
              <a:spcBef>
                <a:spcPts val="799"/>
              </a:spcBef>
              <a:buClr>
                <a:srgbClr val="0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What do you think that was Jesus’ perspective on children being saved?</a:t>
            </a:r>
            <a:endParaRPr b="0" lang="en-US" sz="3200" spc="-1" strike="noStrike">
              <a:solidFill>
                <a:srgbClr val="000000"/>
              </a:solidFill>
              <a:latin typeface="Humanst521 BT"/>
            </a:endParaRPr>
          </a:p>
          <a:p>
            <a:pPr marL="609480" indent="-609480">
              <a:spcBef>
                <a:spcPts val="799"/>
              </a:spcBef>
              <a:buClr>
                <a:srgbClr val="0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When should we present the gospel to a child? </a:t>
            </a:r>
            <a:endParaRPr b="0" lang="en-US" sz="3200" spc="-1" strike="noStrike">
              <a:solidFill>
                <a:srgbClr val="000000"/>
              </a:solidFill>
              <a:latin typeface="Humanst521 BT"/>
            </a:endParaRPr>
          </a:p>
        </p:txBody>
      </p:sp>
      <p:sp>
        <p:nvSpPr>
          <p:cNvPr id="111" name="Rectangle 8"/>
          <p:cNvSpPr/>
          <p:nvPr/>
        </p:nvSpPr>
        <p:spPr>
          <a:xfrm>
            <a:off x="1827360" y="1217520"/>
            <a:ext cx="2628720" cy="538200"/>
          </a:xfrm>
          <a:prstGeom prst="rect">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12" name="Text Box 9"/>
          <p:cNvSpPr/>
          <p:nvPr/>
        </p:nvSpPr>
        <p:spPr>
          <a:xfrm>
            <a:off x="115920" y="1147680"/>
            <a:ext cx="588816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t>
            </a:r>
            <a:r>
              <a:rPr b="0" lang="en-US" sz="3600" spc="-1" strike="noStrike">
                <a:solidFill>
                  <a:srgbClr val="000000"/>
                </a:solidFill>
                <a:latin typeface="Humanst521 BT"/>
              </a:rPr>
              <a:t>Let the </a:t>
            </a:r>
            <a:r>
              <a:rPr b="0" lang="en-US" sz="3600" spc="-1" strike="noStrike">
                <a:solidFill>
                  <a:srgbClr val="ffffff"/>
                </a:solidFill>
                <a:latin typeface="Humanst521 BT"/>
              </a:rPr>
              <a:t>little children</a:t>
            </a:r>
            <a:r>
              <a:rPr b="0" lang="en-US" sz="3600" spc="-1" strike="noStrike">
                <a:solidFill>
                  <a:srgbClr val="000000"/>
                </a:solidFill>
                <a:latin typeface="Humanst521 BT"/>
              </a:rPr>
              <a:t> come”</a:t>
            </a:r>
            <a:endParaRPr b="0" lang="en-US" sz="3600" spc="-1" strike="noStrike">
              <a:solidFill>
                <a:srgbClr val="000000"/>
              </a:solidFill>
              <a:latin typeface="Humanst521 BT"/>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FE117602-8FB6-44B0-9C6B-62AA2F00AFC1}"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14" name="Rectangle 10"/>
          <p:cNvSpPr/>
          <p:nvPr/>
        </p:nvSpPr>
        <p:spPr>
          <a:xfrm>
            <a:off x="1827360" y="1217520"/>
            <a:ext cx="2619360" cy="538200"/>
          </a:xfrm>
          <a:prstGeom prst="rect">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15"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Age of the Children</a:t>
            </a:r>
            <a:endParaRPr b="0" lang="en-US" sz="3800" spc="-1" strike="noStrike">
              <a:solidFill>
                <a:srgbClr val="ffffff"/>
              </a:solidFill>
              <a:latin typeface="Humanst521 BT"/>
            </a:endParaRPr>
          </a:p>
        </p:txBody>
      </p:sp>
      <p:sp>
        <p:nvSpPr>
          <p:cNvPr id="116" name="PlaceHolder 2"/>
          <p:cNvSpPr>
            <a:spLocks noGrp="1"/>
          </p:cNvSpPr>
          <p:nvPr>
            <p:ph/>
          </p:nvPr>
        </p:nvSpPr>
        <p:spPr>
          <a:xfrm>
            <a:off x="304920" y="2476440"/>
            <a:ext cx="3014640" cy="3532320"/>
          </a:xfrm>
          <a:prstGeom prst="rect">
            <a:avLst/>
          </a:prstGeom>
          <a:noFill/>
          <a:ln w="0">
            <a:noFill/>
          </a:ln>
        </p:spPr>
        <p:txBody>
          <a:bodyPr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 asked people in our church…</a:t>
            </a:r>
            <a:endParaRPr b="0" lang="en-US" sz="2800" spc="-1" strike="noStrike">
              <a:solidFill>
                <a:srgbClr val="000000"/>
              </a:solidFill>
              <a:latin typeface="Humanst521 BT"/>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what age did you accept Jesus?</a:t>
            </a:r>
            <a:endParaRPr b="0" lang="en-US" sz="2800" spc="-1" strike="noStrike">
              <a:solidFill>
                <a:srgbClr val="000000"/>
              </a:solidFill>
              <a:latin typeface="Humanst521 BT"/>
            </a:endParaRPr>
          </a:p>
        </p:txBody>
      </p:sp>
      <p:graphicFrame>
        <p:nvGraphicFramePr>
          <p:cNvPr id="117" name="Object 6"/>
          <p:cNvGraphicFramePr/>
          <p:nvPr/>
        </p:nvGraphicFramePr>
        <p:xfrm>
          <a:off x="3510000" y="2776680"/>
          <a:ext cx="5411880" cy="3411360"/>
        </p:xfrm>
        <a:graphic>
          <a:graphicData uri="http://schemas.openxmlformats.org/presentationml/2006/ole">
            <p:oleObj r:id="rId1" spid="">
              <p:embed/>
              <p:pic>
                <p:nvPicPr>
                  <p:cNvPr id="118" name="Object 6" descr=""/>
                  <p:cNvPicPr/>
                  <p:nvPr/>
                </p:nvPicPr>
                <p:blipFill>
                  <a:blip r:embed="rId2"/>
                  <a:stretch/>
                </p:blipFill>
                <p:spPr>
                  <a:xfrm>
                    <a:off x="3510000" y="2776680"/>
                    <a:ext cx="5411880" cy="3411360"/>
                  </a:xfrm>
                  <a:prstGeom prst="rect">
                    <a:avLst/>
                  </a:prstGeom>
                  <a:ln w="0">
                    <a:noFill/>
                  </a:ln>
                </p:spPr>
              </p:pic>
            </p:oleObj>
          </a:graphicData>
        </a:graphic>
      </p:graphicFrame>
      <p:sp>
        <p:nvSpPr>
          <p:cNvPr id="119" name="Text Box 9"/>
          <p:cNvSpPr/>
          <p:nvPr/>
        </p:nvSpPr>
        <p:spPr>
          <a:xfrm>
            <a:off x="135000" y="1195560"/>
            <a:ext cx="588780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t>
            </a:r>
            <a:r>
              <a:rPr b="0" lang="en-US" sz="3600" spc="-1" strike="noStrike">
                <a:solidFill>
                  <a:srgbClr val="000000"/>
                </a:solidFill>
                <a:latin typeface="Humanst521 BT"/>
              </a:rPr>
              <a:t>Let the </a:t>
            </a:r>
            <a:r>
              <a:rPr b="0" lang="en-US" sz="3600" spc="-1" strike="noStrike">
                <a:solidFill>
                  <a:srgbClr val="ffffff"/>
                </a:solidFill>
                <a:latin typeface="Humanst521 BT"/>
              </a:rPr>
              <a:t>little children</a:t>
            </a:r>
            <a:r>
              <a:rPr b="0" lang="en-US" sz="3600" spc="-1" strike="noStrike">
                <a:solidFill>
                  <a:srgbClr val="000000"/>
                </a:solidFill>
                <a:latin typeface="Humanst521 BT"/>
              </a:rPr>
              <a:t> come”</a:t>
            </a:r>
            <a:endParaRPr b="0" lang="en-US" sz="3600" spc="-1" strike="noStrike">
              <a:solidFill>
                <a:srgbClr val="000000"/>
              </a:solidFill>
              <a:latin typeface="Humanst521 BT"/>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9CB157E4-1DFE-4A9D-BA75-E85629B3F24B}"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1"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Calibri"/>
              </a:rPr>
              <a:t>Ellen G. White , </a:t>
            </a:r>
            <a:r>
              <a:rPr b="0" i="1" lang="en-US" sz="3800" spc="-1" strike="noStrike">
                <a:solidFill>
                  <a:srgbClr val="ffffff"/>
                </a:solidFill>
                <a:latin typeface="Calibri"/>
              </a:rPr>
              <a:t>Testimonies,</a:t>
            </a:r>
            <a:r>
              <a:rPr b="0" lang="en-US" sz="3800" spc="-1" strike="noStrike">
                <a:solidFill>
                  <a:srgbClr val="ffffff"/>
                </a:solidFill>
                <a:latin typeface="Calibri"/>
              </a:rPr>
              <a:t> vol. 1, p. 400</a:t>
            </a:r>
            <a:endParaRPr b="0" lang="en-US" sz="3800" spc="-1" strike="noStrike">
              <a:solidFill>
                <a:srgbClr val="ffffff"/>
              </a:solidFill>
              <a:latin typeface="Humanst521 BT"/>
            </a:endParaRPr>
          </a:p>
        </p:txBody>
      </p:sp>
      <p:sp>
        <p:nvSpPr>
          <p:cNvPr id="122" name="PlaceHolder 2"/>
          <p:cNvSpPr>
            <a:spLocks noGrp="1"/>
          </p:cNvSpPr>
          <p:nvPr>
            <p:ph/>
          </p:nvPr>
        </p:nvSpPr>
        <p:spPr>
          <a:xfrm>
            <a:off x="284040" y="2303280"/>
            <a:ext cx="8150400" cy="3531960"/>
          </a:xfrm>
          <a:prstGeom prst="rect">
            <a:avLst/>
          </a:prstGeom>
          <a:noFill/>
          <a:ln w="0">
            <a:noFill/>
          </a:ln>
        </p:spPr>
        <p:txBody>
          <a:bodyPr anchor="ctr" anchorCtr="1">
            <a:normAutofit fontScale="94000"/>
          </a:bodyPr>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Humanst521 BT"/>
              </a:rPr>
              <a:t>	</a:t>
            </a:r>
            <a:r>
              <a:rPr b="0" i="1" lang="en-US" sz="2800" spc="-1" strike="noStrike">
                <a:solidFill>
                  <a:srgbClr val="000000"/>
                </a:solidFill>
                <a:latin typeface="Humanst521 BT"/>
              </a:rPr>
              <a:t>“</a:t>
            </a:r>
            <a:r>
              <a:rPr b="0" i="1" lang="en-US" sz="2800" spc="-1" strike="noStrike">
                <a:solidFill>
                  <a:srgbClr val="000000"/>
                </a:solidFill>
                <a:latin typeface="Humanst521 BT"/>
              </a:rPr>
              <a:t>Children of eight, ten or twelve years, are old enough to be addressed on the subject of personal religion.  Do not teach your children with reference to some future period when they shall be old enough to repent and believe the truth.  If properly instructed, very young children may have correct views of their state as sinners, and of the way of salvation through Christ.”</a:t>
            </a:r>
            <a:endParaRPr b="0" lang="en-US" sz="2800" spc="-1" strike="noStrike">
              <a:solidFill>
                <a:srgbClr val="000000"/>
              </a:solidFill>
              <a:latin typeface="Humanst521 BT"/>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B05A8C77-5737-4A7D-A8D5-5447156E8EA2}"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4" name="Rectangle 272"/>
          <p:cNvSpPr/>
          <p:nvPr/>
        </p:nvSpPr>
        <p:spPr>
          <a:xfrm>
            <a:off x="4568760" y="1217520"/>
            <a:ext cx="1206720" cy="538200"/>
          </a:xfrm>
          <a:prstGeom prst="rect">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25"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Response of Children</a:t>
            </a:r>
            <a:endParaRPr b="0" lang="en-US" sz="3800" spc="-1" strike="noStrike">
              <a:solidFill>
                <a:srgbClr val="ffffff"/>
              </a:solidFill>
              <a:latin typeface="Humanst521 BT"/>
            </a:endParaRPr>
          </a:p>
        </p:txBody>
      </p:sp>
      <p:sp>
        <p:nvSpPr>
          <p:cNvPr id="126" name="AutoShape 7"/>
          <p:cNvSpPr/>
          <p:nvPr/>
        </p:nvSpPr>
        <p:spPr>
          <a:xfrm>
            <a:off x="2487600" y="2406600"/>
            <a:ext cx="6372360" cy="3505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27" name="Text Box 15"/>
          <p:cNvSpPr/>
          <p:nvPr/>
        </p:nvSpPr>
        <p:spPr>
          <a:xfrm>
            <a:off x="163440" y="1166760"/>
            <a:ext cx="600552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t>
            </a:r>
            <a:r>
              <a:rPr b="0" lang="en-US" sz="3600" spc="-1" strike="noStrike">
                <a:solidFill>
                  <a:srgbClr val="000000"/>
                </a:solidFill>
                <a:latin typeface="Humanst521 BT"/>
              </a:rPr>
              <a:t>Let the little children </a:t>
            </a:r>
            <a:r>
              <a:rPr b="0" lang="en-US" sz="3600" spc="-1" strike="noStrike">
                <a:solidFill>
                  <a:srgbClr val="ffffff"/>
                </a:solidFill>
                <a:latin typeface="Humanst521 BT"/>
              </a:rPr>
              <a:t>come </a:t>
            </a:r>
            <a:r>
              <a:rPr b="0" lang="en-US" sz="3600" spc="-1" strike="noStrike">
                <a:solidFill>
                  <a:srgbClr val="000000"/>
                </a:solidFill>
                <a:latin typeface="Humanst521 BT"/>
              </a:rPr>
              <a:t>”</a:t>
            </a:r>
            <a:endParaRPr b="0" lang="en-US" sz="3600" spc="-1" strike="noStrike">
              <a:solidFill>
                <a:srgbClr val="000000"/>
              </a:solidFill>
              <a:latin typeface="Humanst521 BT"/>
            </a:endParaRPr>
          </a:p>
        </p:txBody>
      </p:sp>
      <p:grpSp>
        <p:nvGrpSpPr>
          <p:cNvPr id="128" name="Group 271"/>
          <p:cNvGrpSpPr/>
          <p:nvPr/>
        </p:nvGrpSpPr>
        <p:grpSpPr>
          <a:xfrm>
            <a:off x="2487600" y="4159080"/>
            <a:ext cx="6372360" cy="1752840"/>
            <a:chOff x="2487600" y="4159080"/>
            <a:chExt cx="6372360" cy="1752840"/>
          </a:xfrm>
        </p:grpSpPr>
        <p:sp>
          <p:nvSpPr>
            <p:cNvPr id="129" name="AutoShape 11"/>
            <p:cNvSpPr/>
            <p:nvPr/>
          </p:nvSpPr>
          <p:spPr>
            <a:xfrm>
              <a:off x="4081320" y="4713120"/>
              <a:ext cx="1416240" cy="736920"/>
            </a:xfrm>
            <a:prstGeom prst="rightArrow">
              <a:avLst>
                <a:gd name="adj1" fmla="val 50000"/>
                <a:gd name="adj2" fmla="val 48046"/>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30" name="Oval 12"/>
            <p:cNvSpPr/>
            <p:nvPr/>
          </p:nvSpPr>
          <p:spPr>
            <a:xfrm>
              <a:off x="5497560" y="4159080"/>
              <a:ext cx="3362400" cy="175284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ore</a:t>
              </a:r>
              <a:endParaRPr b="0" lang="en-US" sz="24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fruit</a:t>
              </a:r>
              <a:endParaRPr b="0" lang="en-US" sz="2400" spc="-1" strike="noStrike">
                <a:solidFill>
                  <a:srgbClr val="000000"/>
                </a:solidFill>
                <a:latin typeface="Humanst521 BT"/>
              </a:endParaRPr>
            </a:p>
          </p:txBody>
        </p:sp>
        <p:sp>
          <p:nvSpPr>
            <p:cNvPr id="131" name="Oval 13"/>
            <p:cNvSpPr/>
            <p:nvPr/>
          </p:nvSpPr>
          <p:spPr>
            <a:xfrm>
              <a:off x="2487600" y="4527720"/>
              <a:ext cx="2502000" cy="1015920"/>
            </a:xfrm>
            <a:prstGeom prst="ellipse">
              <a:avLst/>
            </a:prstGeom>
            <a:solidFill>
              <a:srgbClr val="3399ff"/>
            </a:solidFill>
            <a:ln w="0">
              <a:noFill/>
            </a:ln>
            <a:effectLst>
              <a:outerShdw dist="17819" dir="2700000" blurRad="0" rotWithShape="0">
                <a:srgbClr val="1f5c99"/>
              </a:outerShdw>
            </a:effectLst>
          </p:spPr>
          <p:style>
            <a:lnRef idx="0"/>
            <a:fillRef idx="0"/>
            <a:effectRef idx="0"/>
            <a:fontRef idx="minor"/>
          </p:style>
          <p:txBody>
            <a:bodyPr lIns="0" rIns="0" tIns="9144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Less</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resources</a:t>
              </a:r>
              <a:endParaRPr b="0" lang="en-US" sz="2400" spc="-1" strike="noStrike">
                <a:solidFill>
                  <a:srgbClr val="000000"/>
                </a:solidFill>
                <a:latin typeface="Humanst521 BT"/>
              </a:endParaRPr>
            </a:p>
          </p:txBody>
        </p:sp>
        <p:pic>
          <p:nvPicPr>
            <p:cNvPr id="132" name="Picture 183" descr="j0203050"/>
            <p:cNvPicPr/>
            <p:nvPr/>
          </p:nvPicPr>
          <p:blipFill>
            <a:blip r:embed="rId1"/>
            <a:stretch/>
          </p:blipFill>
          <p:spPr>
            <a:xfrm>
              <a:off x="7043760" y="4219560"/>
              <a:ext cx="1476360" cy="1579680"/>
            </a:xfrm>
            <a:prstGeom prst="rect">
              <a:avLst/>
            </a:prstGeom>
            <a:ln w="0">
              <a:noFill/>
            </a:ln>
          </p:spPr>
        </p:pic>
        <p:pic>
          <p:nvPicPr>
            <p:cNvPr id="133" name="Picture 184" descr="j0203050"/>
            <p:cNvPicPr/>
            <p:nvPr/>
          </p:nvPicPr>
          <p:blipFill>
            <a:blip r:embed="rId2"/>
            <a:stretch/>
          </p:blipFill>
          <p:spPr>
            <a:xfrm flipH="1">
              <a:off x="6887880" y="4262400"/>
              <a:ext cx="1476360" cy="1579680"/>
            </a:xfrm>
            <a:prstGeom prst="rect">
              <a:avLst/>
            </a:prstGeom>
            <a:ln w="0">
              <a:noFill/>
            </a:ln>
          </p:spPr>
        </p:pic>
      </p:grpSp>
      <p:grpSp>
        <p:nvGrpSpPr>
          <p:cNvPr id="134" name="Group 270"/>
          <p:cNvGrpSpPr/>
          <p:nvPr/>
        </p:nvGrpSpPr>
        <p:grpSpPr>
          <a:xfrm>
            <a:off x="2487600" y="2406600"/>
            <a:ext cx="6372360" cy="1752480"/>
            <a:chOff x="2487600" y="2406600"/>
            <a:chExt cx="6372360" cy="1752480"/>
          </a:xfrm>
        </p:grpSpPr>
        <p:sp>
          <p:nvSpPr>
            <p:cNvPr id="135" name="AutoShape 8"/>
            <p:cNvSpPr/>
            <p:nvPr/>
          </p:nvSpPr>
          <p:spPr>
            <a:xfrm>
              <a:off x="4997520" y="2960640"/>
              <a:ext cx="1415880" cy="736560"/>
            </a:xfrm>
            <a:prstGeom prst="rightArrow">
              <a:avLst>
                <a:gd name="adj1" fmla="val 50000"/>
                <a:gd name="adj2" fmla="val 48057"/>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36" name="Oval 9"/>
            <p:cNvSpPr/>
            <p:nvPr/>
          </p:nvSpPr>
          <p:spPr>
            <a:xfrm>
              <a:off x="2487600" y="2406600"/>
              <a:ext cx="3363840" cy="17524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ore</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resources</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oney, time, staff)</a:t>
              </a:r>
              <a:endParaRPr b="0" lang="en-US" sz="2400" spc="-1" strike="noStrike">
                <a:solidFill>
                  <a:srgbClr val="000000"/>
                </a:solidFill>
                <a:latin typeface="Humanst521 BT"/>
              </a:endParaRPr>
            </a:p>
          </p:txBody>
        </p:sp>
        <p:sp>
          <p:nvSpPr>
            <p:cNvPr id="137" name="Oval 10"/>
            <p:cNvSpPr/>
            <p:nvPr/>
          </p:nvSpPr>
          <p:spPr>
            <a:xfrm>
              <a:off x="6396120" y="2774880"/>
              <a:ext cx="2463840" cy="1015920"/>
            </a:xfrm>
            <a:prstGeom prst="ellipse">
              <a:avLst/>
            </a:prstGeom>
            <a:solidFill>
              <a:srgbClr val="3399ff"/>
            </a:solidFill>
            <a:ln w="0">
              <a:noFill/>
            </a:ln>
            <a:effectLst>
              <a:outerShdw dist="17819" dir="2700000" blurRad="0" rotWithShape="0">
                <a:srgbClr val="1f5c99"/>
              </a:outerShdw>
            </a:effectLst>
          </p:spPr>
          <p:style>
            <a:lnRef idx="0"/>
            <a:fillRef idx="0"/>
            <a:effectRef idx="0"/>
            <a:fontRef idx="minor"/>
          </p:style>
          <p:txBody>
            <a:bodyPr lIns="90000" rIns="90000" tIns="9144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Less</a:t>
              </a:r>
              <a:endParaRPr b="0" lang="en-US" sz="24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fruit </a:t>
              </a:r>
              <a:endParaRPr b="0" lang="en-US" sz="2400" spc="-1" strike="noStrike">
                <a:solidFill>
                  <a:srgbClr val="000000"/>
                </a:solidFill>
                <a:latin typeface="Humanst521 BT"/>
              </a:endParaRPr>
            </a:p>
          </p:txBody>
        </p:sp>
        <p:grpSp>
          <p:nvGrpSpPr>
            <p:cNvPr id="138" name="Group 268"/>
            <p:cNvGrpSpPr/>
            <p:nvPr/>
          </p:nvGrpSpPr>
          <p:grpSpPr>
            <a:xfrm>
              <a:off x="6896160" y="2857680"/>
              <a:ext cx="674640" cy="863280"/>
              <a:chOff x="6896160" y="2857680"/>
              <a:chExt cx="674640" cy="863280"/>
            </a:xfrm>
          </p:grpSpPr>
          <p:sp>
            <p:nvSpPr>
              <p:cNvPr id="139" name="Freeform 226"/>
              <p:cNvSpPr/>
              <p:nvPr/>
            </p:nvSpPr>
            <p:spPr>
              <a:xfrm flipH="1">
                <a:off x="6896160" y="2857680"/>
                <a:ext cx="674640" cy="863280"/>
              </a:xfrm>
              <a:custGeom>
                <a:avLst/>
                <a:gdLst>
                  <a:gd name="textAreaLeft" fmla="*/ 360 w 674640"/>
                  <a:gd name="textAreaRight" fmla="*/ 675360 w 674640"/>
                  <a:gd name="textAreaTop" fmla="*/ 0 h 863280"/>
                  <a:gd name="textAreaBottom" fmla="*/ 863640 h 863280"/>
                </a:gdLst>
                <a:ahLst/>
                <a:rect l="textAreaLeft" t="textAreaTop" r="textAreaRight" b="textAreaBottom"/>
                <a:pathLst>
                  <a:path w="2404" h="3049">
                    <a:moveTo>
                      <a:pt x="1156" y="31"/>
                    </a:moveTo>
                    <a:lnTo>
                      <a:pt x="1142" y="44"/>
                    </a:lnTo>
                    <a:lnTo>
                      <a:pt x="1130" y="59"/>
                    </a:lnTo>
                    <a:lnTo>
                      <a:pt x="1118" y="74"/>
                    </a:lnTo>
                    <a:lnTo>
                      <a:pt x="1107" y="88"/>
                    </a:lnTo>
                    <a:lnTo>
                      <a:pt x="1096" y="103"/>
                    </a:lnTo>
                    <a:lnTo>
                      <a:pt x="1088" y="120"/>
                    </a:lnTo>
                    <a:lnTo>
                      <a:pt x="1083" y="139"/>
                    </a:lnTo>
                    <a:lnTo>
                      <a:pt x="1082" y="159"/>
                    </a:lnTo>
                    <a:lnTo>
                      <a:pt x="1076" y="163"/>
                    </a:lnTo>
                    <a:lnTo>
                      <a:pt x="1070" y="168"/>
                    </a:lnTo>
                    <a:lnTo>
                      <a:pt x="1065" y="172"/>
                    </a:lnTo>
                    <a:lnTo>
                      <a:pt x="1066" y="178"/>
                    </a:lnTo>
                    <a:lnTo>
                      <a:pt x="1075" y="178"/>
                    </a:lnTo>
                    <a:lnTo>
                      <a:pt x="1090" y="164"/>
                    </a:lnTo>
                    <a:lnTo>
                      <a:pt x="1108" y="151"/>
                    </a:lnTo>
                    <a:lnTo>
                      <a:pt x="1125" y="137"/>
                    </a:lnTo>
                    <a:lnTo>
                      <a:pt x="1142" y="125"/>
                    </a:lnTo>
                    <a:lnTo>
                      <a:pt x="1157" y="110"/>
                    </a:lnTo>
                    <a:lnTo>
                      <a:pt x="1172" y="96"/>
                    </a:lnTo>
                    <a:lnTo>
                      <a:pt x="1183" y="80"/>
                    </a:lnTo>
                    <a:lnTo>
                      <a:pt x="1193" y="63"/>
                    </a:lnTo>
                    <a:lnTo>
                      <a:pt x="1211" y="49"/>
                    </a:lnTo>
                    <a:lnTo>
                      <a:pt x="1204" y="61"/>
                    </a:lnTo>
                    <a:lnTo>
                      <a:pt x="1196" y="76"/>
                    </a:lnTo>
                    <a:lnTo>
                      <a:pt x="1189" y="88"/>
                    </a:lnTo>
                    <a:lnTo>
                      <a:pt x="1183" y="103"/>
                    </a:lnTo>
                    <a:lnTo>
                      <a:pt x="1175" y="116"/>
                    </a:lnTo>
                    <a:lnTo>
                      <a:pt x="1169" y="130"/>
                    </a:lnTo>
                    <a:lnTo>
                      <a:pt x="1162" y="145"/>
                    </a:lnTo>
                    <a:lnTo>
                      <a:pt x="1158" y="159"/>
                    </a:lnTo>
                    <a:lnTo>
                      <a:pt x="1163" y="166"/>
                    </a:lnTo>
                    <a:lnTo>
                      <a:pt x="1172" y="170"/>
                    </a:lnTo>
                    <a:lnTo>
                      <a:pt x="1178" y="164"/>
                    </a:lnTo>
                    <a:lnTo>
                      <a:pt x="1185" y="158"/>
                    </a:lnTo>
                    <a:lnTo>
                      <a:pt x="1190" y="151"/>
                    </a:lnTo>
                    <a:lnTo>
                      <a:pt x="1195" y="145"/>
                    </a:lnTo>
                    <a:lnTo>
                      <a:pt x="1199" y="137"/>
                    </a:lnTo>
                    <a:lnTo>
                      <a:pt x="1202" y="130"/>
                    </a:lnTo>
                    <a:lnTo>
                      <a:pt x="1206" y="123"/>
                    </a:lnTo>
                    <a:lnTo>
                      <a:pt x="1213" y="118"/>
                    </a:lnTo>
                    <a:lnTo>
                      <a:pt x="1212" y="126"/>
                    </a:lnTo>
                    <a:lnTo>
                      <a:pt x="1207" y="136"/>
                    </a:lnTo>
                    <a:lnTo>
                      <a:pt x="1200" y="145"/>
                    </a:lnTo>
                    <a:lnTo>
                      <a:pt x="1195" y="154"/>
                    </a:lnTo>
                    <a:lnTo>
                      <a:pt x="1193" y="162"/>
                    </a:lnTo>
                    <a:lnTo>
                      <a:pt x="1190" y="169"/>
                    </a:lnTo>
                    <a:lnTo>
                      <a:pt x="1189" y="175"/>
                    </a:lnTo>
                    <a:lnTo>
                      <a:pt x="1195" y="184"/>
                    </a:lnTo>
                    <a:lnTo>
                      <a:pt x="1202" y="183"/>
                    </a:lnTo>
                    <a:lnTo>
                      <a:pt x="1210" y="180"/>
                    </a:lnTo>
                    <a:lnTo>
                      <a:pt x="1215" y="174"/>
                    </a:lnTo>
                    <a:lnTo>
                      <a:pt x="1221" y="168"/>
                    </a:lnTo>
                    <a:lnTo>
                      <a:pt x="1224" y="159"/>
                    </a:lnTo>
                    <a:lnTo>
                      <a:pt x="1231" y="152"/>
                    </a:lnTo>
                    <a:lnTo>
                      <a:pt x="1237" y="145"/>
                    </a:lnTo>
                    <a:lnTo>
                      <a:pt x="1245" y="141"/>
                    </a:lnTo>
                    <a:lnTo>
                      <a:pt x="1266" y="147"/>
                    </a:lnTo>
                    <a:lnTo>
                      <a:pt x="1259" y="156"/>
                    </a:lnTo>
                    <a:lnTo>
                      <a:pt x="1253" y="164"/>
                    </a:lnTo>
                    <a:lnTo>
                      <a:pt x="1245" y="173"/>
                    </a:lnTo>
                    <a:lnTo>
                      <a:pt x="1239" y="183"/>
                    </a:lnTo>
                    <a:lnTo>
                      <a:pt x="1232" y="191"/>
                    </a:lnTo>
                    <a:lnTo>
                      <a:pt x="1224" y="201"/>
                    </a:lnTo>
                    <a:lnTo>
                      <a:pt x="1217" y="210"/>
                    </a:lnTo>
                    <a:lnTo>
                      <a:pt x="1213" y="221"/>
                    </a:lnTo>
                    <a:lnTo>
                      <a:pt x="1215" y="224"/>
                    </a:lnTo>
                    <a:lnTo>
                      <a:pt x="1218" y="228"/>
                    </a:lnTo>
                    <a:lnTo>
                      <a:pt x="1222" y="231"/>
                    </a:lnTo>
                    <a:lnTo>
                      <a:pt x="1229" y="233"/>
                    </a:lnTo>
                    <a:lnTo>
                      <a:pt x="1269" y="200"/>
                    </a:lnTo>
                    <a:lnTo>
                      <a:pt x="1264" y="212"/>
                    </a:lnTo>
                    <a:lnTo>
                      <a:pt x="1256" y="223"/>
                    </a:lnTo>
                    <a:lnTo>
                      <a:pt x="1245" y="233"/>
                    </a:lnTo>
                    <a:lnTo>
                      <a:pt x="1235" y="243"/>
                    </a:lnTo>
                    <a:lnTo>
                      <a:pt x="1222" y="250"/>
                    </a:lnTo>
                    <a:lnTo>
                      <a:pt x="1210" y="259"/>
                    </a:lnTo>
                    <a:lnTo>
                      <a:pt x="1196" y="267"/>
                    </a:lnTo>
                    <a:lnTo>
                      <a:pt x="1185" y="276"/>
                    </a:lnTo>
                    <a:lnTo>
                      <a:pt x="1075" y="350"/>
                    </a:lnTo>
                    <a:lnTo>
                      <a:pt x="1077" y="357"/>
                    </a:lnTo>
                    <a:lnTo>
                      <a:pt x="1085" y="362"/>
                    </a:lnTo>
                    <a:lnTo>
                      <a:pt x="1096" y="362"/>
                    </a:lnTo>
                    <a:lnTo>
                      <a:pt x="1107" y="359"/>
                    </a:lnTo>
                    <a:lnTo>
                      <a:pt x="1117" y="354"/>
                    </a:lnTo>
                    <a:lnTo>
                      <a:pt x="1128" y="350"/>
                    </a:lnTo>
                    <a:lnTo>
                      <a:pt x="1139" y="343"/>
                    </a:lnTo>
                    <a:lnTo>
                      <a:pt x="1150" y="338"/>
                    </a:lnTo>
                    <a:lnTo>
                      <a:pt x="1161" y="334"/>
                    </a:lnTo>
                    <a:lnTo>
                      <a:pt x="1173" y="329"/>
                    </a:lnTo>
                    <a:lnTo>
                      <a:pt x="1184" y="323"/>
                    </a:lnTo>
                    <a:lnTo>
                      <a:pt x="1195" y="319"/>
                    </a:lnTo>
                    <a:lnTo>
                      <a:pt x="1206" y="314"/>
                    </a:lnTo>
                    <a:lnTo>
                      <a:pt x="1217" y="313"/>
                    </a:lnTo>
                    <a:lnTo>
                      <a:pt x="1208" y="323"/>
                    </a:lnTo>
                    <a:lnTo>
                      <a:pt x="1200" y="332"/>
                    </a:lnTo>
                    <a:lnTo>
                      <a:pt x="1188" y="340"/>
                    </a:lnTo>
                    <a:lnTo>
                      <a:pt x="1177" y="348"/>
                    </a:lnTo>
                    <a:lnTo>
                      <a:pt x="1163" y="353"/>
                    </a:lnTo>
                    <a:lnTo>
                      <a:pt x="1150" y="359"/>
                    </a:lnTo>
                    <a:lnTo>
                      <a:pt x="1136" y="364"/>
                    </a:lnTo>
                    <a:lnTo>
                      <a:pt x="1125" y="370"/>
                    </a:lnTo>
                    <a:lnTo>
                      <a:pt x="1119" y="381"/>
                    </a:lnTo>
                    <a:lnTo>
                      <a:pt x="1112" y="391"/>
                    </a:lnTo>
                    <a:lnTo>
                      <a:pt x="1102" y="399"/>
                    </a:lnTo>
                    <a:lnTo>
                      <a:pt x="1092" y="406"/>
                    </a:lnTo>
                    <a:lnTo>
                      <a:pt x="1079" y="411"/>
                    </a:lnTo>
                    <a:lnTo>
                      <a:pt x="1068" y="417"/>
                    </a:lnTo>
                    <a:lnTo>
                      <a:pt x="1055" y="422"/>
                    </a:lnTo>
                    <a:lnTo>
                      <a:pt x="1045" y="428"/>
                    </a:lnTo>
                    <a:lnTo>
                      <a:pt x="1037" y="435"/>
                    </a:lnTo>
                    <a:lnTo>
                      <a:pt x="1030" y="440"/>
                    </a:lnTo>
                    <a:lnTo>
                      <a:pt x="1020" y="444"/>
                    </a:lnTo>
                    <a:lnTo>
                      <a:pt x="1011" y="448"/>
                    </a:lnTo>
                    <a:lnTo>
                      <a:pt x="1001" y="450"/>
                    </a:lnTo>
                    <a:lnTo>
                      <a:pt x="994" y="455"/>
                    </a:lnTo>
                    <a:lnTo>
                      <a:pt x="987" y="461"/>
                    </a:lnTo>
                    <a:lnTo>
                      <a:pt x="983" y="472"/>
                    </a:lnTo>
                    <a:lnTo>
                      <a:pt x="984" y="477"/>
                    </a:lnTo>
                    <a:lnTo>
                      <a:pt x="989" y="481"/>
                    </a:lnTo>
                    <a:lnTo>
                      <a:pt x="994" y="481"/>
                    </a:lnTo>
                    <a:lnTo>
                      <a:pt x="1000" y="482"/>
                    </a:lnTo>
                    <a:lnTo>
                      <a:pt x="1005" y="482"/>
                    </a:lnTo>
                    <a:lnTo>
                      <a:pt x="1010" y="483"/>
                    </a:lnTo>
                    <a:lnTo>
                      <a:pt x="1011" y="488"/>
                    </a:lnTo>
                    <a:lnTo>
                      <a:pt x="1011" y="497"/>
                    </a:lnTo>
                    <a:lnTo>
                      <a:pt x="993" y="503"/>
                    </a:lnTo>
                    <a:lnTo>
                      <a:pt x="974" y="511"/>
                    </a:lnTo>
                    <a:lnTo>
                      <a:pt x="956" y="521"/>
                    </a:lnTo>
                    <a:lnTo>
                      <a:pt x="940" y="535"/>
                    </a:lnTo>
                    <a:lnTo>
                      <a:pt x="924" y="548"/>
                    </a:lnTo>
                    <a:lnTo>
                      <a:pt x="909" y="563"/>
                    </a:lnTo>
                    <a:lnTo>
                      <a:pt x="896" y="579"/>
                    </a:lnTo>
                    <a:lnTo>
                      <a:pt x="886" y="596"/>
                    </a:lnTo>
                    <a:lnTo>
                      <a:pt x="893" y="602"/>
                    </a:lnTo>
                    <a:lnTo>
                      <a:pt x="893" y="610"/>
                    </a:lnTo>
                    <a:lnTo>
                      <a:pt x="889" y="616"/>
                    </a:lnTo>
                    <a:lnTo>
                      <a:pt x="884" y="623"/>
                    </a:lnTo>
                    <a:lnTo>
                      <a:pt x="878" y="628"/>
                    </a:lnTo>
                    <a:lnTo>
                      <a:pt x="875" y="634"/>
                    </a:lnTo>
                    <a:lnTo>
                      <a:pt x="879" y="639"/>
                    </a:lnTo>
                    <a:lnTo>
                      <a:pt x="893" y="644"/>
                    </a:lnTo>
                    <a:lnTo>
                      <a:pt x="901" y="639"/>
                    </a:lnTo>
                    <a:lnTo>
                      <a:pt x="909" y="637"/>
                    </a:lnTo>
                    <a:lnTo>
                      <a:pt x="917" y="633"/>
                    </a:lnTo>
                    <a:lnTo>
                      <a:pt x="925" y="630"/>
                    </a:lnTo>
                    <a:lnTo>
                      <a:pt x="917" y="641"/>
                    </a:lnTo>
                    <a:lnTo>
                      <a:pt x="908" y="654"/>
                    </a:lnTo>
                    <a:lnTo>
                      <a:pt x="900" y="666"/>
                    </a:lnTo>
                    <a:lnTo>
                      <a:pt x="892" y="678"/>
                    </a:lnTo>
                    <a:lnTo>
                      <a:pt x="881" y="689"/>
                    </a:lnTo>
                    <a:lnTo>
                      <a:pt x="871" y="700"/>
                    </a:lnTo>
                    <a:lnTo>
                      <a:pt x="860" y="710"/>
                    </a:lnTo>
                    <a:lnTo>
                      <a:pt x="848" y="720"/>
                    </a:lnTo>
                    <a:lnTo>
                      <a:pt x="846" y="728"/>
                    </a:lnTo>
                    <a:lnTo>
                      <a:pt x="852" y="738"/>
                    </a:lnTo>
                    <a:lnTo>
                      <a:pt x="858" y="738"/>
                    </a:lnTo>
                    <a:lnTo>
                      <a:pt x="864" y="738"/>
                    </a:lnTo>
                    <a:lnTo>
                      <a:pt x="870" y="738"/>
                    </a:lnTo>
                    <a:lnTo>
                      <a:pt x="878" y="741"/>
                    </a:lnTo>
                    <a:lnTo>
                      <a:pt x="868" y="754"/>
                    </a:lnTo>
                    <a:lnTo>
                      <a:pt x="858" y="768"/>
                    </a:lnTo>
                    <a:lnTo>
                      <a:pt x="846" y="780"/>
                    </a:lnTo>
                    <a:lnTo>
                      <a:pt x="835" y="792"/>
                    </a:lnTo>
                    <a:lnTo>
                      <a:pt x="820" y="802"/>
                    </a:lnTo>
                    <a:lnTo>
                      <a:pt x="806" y="813"/>
                    </a:lnTo>
                    <a:lnTo>
                      <a:pt x="792" y="824"/>
                    </a:lnTo>
                    <a:lnTo>
                      <a:pt x="778" y="835"/>
                    </a:lnTo>
                    <a:lnTo>
                      <a:pt x="748" y="859"/>
                    </a:lnTo>
                    <a:lnTo>
                      <a:pt x="719" y="884"/>
                    </a:lnTo>
                    <a:lnTo>
                      <a:pt x="691" y="910"/>
                    </a:lnTo>
                    <a:lnTo>
                      <a:pt x="665" y="938"/>
                    </a:lnTo>
                    <a:lnTo>
                      <a:pt x="637" y="964"/>
                    </a:lnTo>
                    <a:lnTo>
                      <a:pt x="610" y="990"/>
                    </a:lnTo>
                    <a:lnTo>
                      <a:pt x="581" y="1014"/>
                    </a:lnTo>
                    <a:lnTo>
                      <a:pt x="551" y="1038"/>
                    </a:lnTo>
                    <a:lnTo>
                      <a:pt x="538" y="1050"/>
                    </a:lnTo>
                    <a:lnTo>
                      <a:pt x="527" y="1066"/>
                    </a:lnTo>
                    <a:lnTo>
                      <a:pt x="517" y="1081"/>
                    </a:lnTo>
                    <a:lnTo>
                      <a:pt x="509" y="1099"/>
                    </a:lnTo>
                    <a:lnTo>
                      <a:pt x="500" y="1115"/>
                    </a:lnTo>
                    <a:lnTo>
                      <a:pt x="491" y="1132"/>
                    </a:lnTo>
                    <a:lnTo>
                      <a:pt x="480" y="1148"/>
                    </a:lnTo>
                    <a:lnTo>
                      <a:pt x="471" y="1164"/>
                    </a:lnTo>
                    <a:lnTo>
                      <a:pt x="458" y="1190"/>
                    </a:lnTo>
                    <a:lnTo>
                      <a:pt x="446" y="1215"/>
                    </a:lnTo>
                    <a:lnTo>
                      <a:pt x="435" y="1241"/>
                    </a:lnTo>
                    <a:lnTo>
                      <a:pt x="424" y="1267"/>
                    </a:lnTo>
                    <a:lnTo>
                      <a:pt x="413" y="1293"/>
                    </a:lnTo>
                    <a:lnTo>
                      <a:pt x="402" y="1320"/>
                    </a:lnTo>
                    <a:lnTo>
                      <a:pt x="391" y="1347"/>
                    </a:lnTo>
                    <a:lnTo>
                      <a:pt x="381" y="1374"/>
                    </a:lnTo>
                    <a:lnTo>
                      <a:pt x="376" y="1383"/>
                    </a:lnTo>
                    <a:lnTo>
                      <a:pt x="373" y="1394"/>
                    </a:lnTo>
                    <a:lnTo>
                      <a:pt x="368" y="1406"/>
                    </a:lnTo>
                    <a:lnTo>
                      <a:pt x="364" y="1417"/>
                    </a:lnTo>
                    <a:lnTo>
                      <a:pt x="359" y="1428"/>
                    </a:lnTo>
                    <a:lnTo>
                      <a:pt x="354" y="1439"/>
                    </a:lnTo>
                    <a:lnTo>
                      <a:pt x="350" y="1450"/>
                    </a:lnTo>
                    <a:lnTo>
                      <a:pt x="347" y="1461"/>
                    </a:lnTo>
                    <a:lnTo>
                      <a:pt x="347" y="1473"/>
                    </a:lnTo>
                    <a:lnTo>
                      <a:pt x="346" y="1485"/>
                    </a:lnTo>
                    <a:lnTo>
                      <a:pt x="342" y="1498"/>
                    </a:lnTo>
                    <a:lnTo>
                      <a:pt x="339" y="1511"/>
                    </a:lnTo>
                    <a:lnTo>
                      <a:pt x="333" y="1522"/>
                    </a:lnTo>
                    <a:lnTo>
                      <a:pt x="328" y="1533"/>
                    </a:lnTo>
                    <a:lnTo>
                      <a:pt x="322" y="1544"/>
                    </a:lnTo>
                    <a:lnTo>
                      <a:pt x="316" y="1555"/>
                    </a:lnTo>
                    <a:lnTo>
                      <a:pt x="305" y="1581"/>
                    </a:lnTo>
                    <a:lnTo>
                      <a:pt x="297" y="1607"/>
                    </a:lnTo>
                    <a:lnTo>
                      <a:pt x="288" y="1632"/>
                    </a:lnTo>
                    <a:lnTo>
                      <a:pt x="281" y="1658"/>
                    </a:lnTo>
                    <a:lnTo>
                      <a:pt x="272" y="1684"/>
                    </a:lnTo>
                    <a:lnTo>
                      <a:pt x="265" y="1711"/>
                    </a:lnTo>
                    <a:lnTo>
                      <a:pt x="257" y="1738"/>
                    </a:lnTo>
                    <a:lnTo>
                      <a:pt x="250" y="1766"/>
                    </a:lnTo>
                    <a:lnTo>
                      <a:pt x="244" y="1772"/>
                    </a:lnTo>
                    <a:lnTo>
                      <a:pt x="241" y="1781"/>
                    </a:lnTo>
                    <a:lnTo>
                      <a:pt x="238" y="1788"/>
                    </a:lnTo>
                    <a:lnTo>
                      <a:pt x="238" y="1798"/>
                    </a:lnTo>
                    <a:lnTo>
                      <a:pt x="236" y="1807"/>
                    </a:lnTo>
                    <a:lnTo>
                      <a:pt x="236" y="1815"/>
                    </a:lnTo>
                    <a:lnTo>
                      <a:pt x="236" y="1824"/>
                    </a:lnTo>
                    <a:lnTo>
                      <a:pt x="236" y="1834"/>
                    </a:lnTo>
                    <a:lnTo>
                      <a:pt x="228" y="1850"/>
                    </a:lnTo>
                    <a:lnTo>
                      <a:pt x="223" y="1867"/>
                    </a:lnTo>
                    <a:lnTo>
                      <a:pt x="219" y="1885"/>
                    </a:lnTo>
                    <a:lnTo>
                      <a:pt x="216" y="1905"/>
                    </a:lnTo>
                    <a:lnTo>
                      <a:pt x="211" y="1923"/>
                    </a:lnTo>
                    <a:lnTo>
                      <a:pt x="206" y="1942"/>
                    </a:lnTo>
                    <a:lnTo>
                      <a:pt x="201" y="1959"/>
                    </a:lnTo>
                    <a:lnTo>
                      <a:pt x="195" y="1976"/>
                    </a:lnTo>
                    <a:lnTo>
                      <a:pt x="197" y="1984"/>
                    </a:lnTo>
                    <a:lnTo>
                      <a:pt x="187" y="2014"/>
                    </a:lnTo>
                    <a:lnTo>
                      <a:pt x="180" y="2043"/>
                    </a:lnTo>
                    <a:lnTo>
                      <a:pt x="174" y="2073"/>
                    </a:lnTo>
                    <a:lnTo>
                      <a:pt x="169" y="2102"/>
                    </a:lnTo>
                    <a:lnTo>
                      <a:pt x="164" y="2132"/>
                    </a:lnTo>
                    <a:lnTo>
                      <a:pt x="159" y="2161"/>
                    </a:lnTo>
                    <a:lnTo>
                      <a:pt x="154" y="2190"/>
                    </a:lnTo>
                    <a:lnTo>
                      <a:pt x="149" y="2220"/>
                    </a:lnTo>
                    <a:lnTo>
                      <a:pt x="148" y="2230"/>
                    </a:lnTo>
                    <a:lnTo>
                      <a:pt x="146" y="2242"/>
                    </a:lnTo>
                    <a:lnTo>
                      <a:pt x="145" y="2252"/>
                    </a:lnTo>
                    <a:lnTo>
                      <a:pt x="151" y="2260"/>
                    </a:lnTo>
                    <a:lnTo>
                      <a:pt x="162" y="2233"/>
                    </a:lnTo>
                    <a:lnTo>
                      <a:pt x="175" y="2208"/>
                    </a:lnTo>
                    <a:lnTo>
                      <a:pt x="189" y="2182"/>
                    </a:lnTo>
                    <a:lnTo>
                      <a:pt x="203" y="2156"/>
                    </a:lnTo>
                    <a:lnTo>
                      <a:pt x="217" y="2129"/>
                    </a:lnTo>
                    <a:lnTo>
                      <a:pt x="230" y="2103"/>
                    </a:lnTo>
                    <a:lnTo>
                      <a:pt x="244" y="2078"/>
                    </a:lnTo>
                    <a:lnTo>
                      <a:pt x="257" y="2052"/>
                    </a:lnTo>
                    <a:lnTo>
                      <a:pt x="261" y="2042"/>
                    </a:lnTo>
                    <a:lnTo>
                      <a:pt x="267" y="2033"/>
                    </a:lnTo>
                    <a:lnTo>
                      <a:pt x="271" y="2025"/>
                    </a:lnTo>
                    <a:lnTo>
                      <a:pt x="277" y="2018"/>
                    </a:lnTo>
                    <a:lnTo>
                      <a:pt x="281" y="2009"/>
                    </a:lnTo>
                    <a:lnTo>
                      <a:pt x="286" y="2000"/>
                    </a:lnTo>
                    <a:lnTo>
                      <a:pt x="289" y="1992"/>
                    </a:lnTo>
                    <a:lnTo>
                      <a:pt x="294" y="1984"/>
                    </a:lnTo>
                    <a:lnTo>
                      <a:pt x="301" y="1971"/>
                    </a:lnTo>
                    <a:lnTo>
                      <a:pt x="310" y="1959"/>
                    </a:lnTo>
                    <a:lnTo>
                      <a:pt x="319" y="1945"/>
                    </a:lnTo>
                    <a:lnTo>
                      <a:pt x="327" y="1933"/>
                    </a:lnTo>
                    <a:lnTo>
                      <a:pt x="336" y="1921"/>
                    </a:lnTo>
                    <a:lnTo>
                      <a:pt x="347" y="1908"/>
                    </a:lnTo>
                    <a:lnTo>
                      <a:pt x="358" y="1897"/>
                    </a:lnTo>
                    <a:lnTo>
                      <a:pt x="371" y="1889"/>
                    </a:lnTo>
                    <a:lnTo>
                      <a:pt x="374" y="1881"/>
                    </a:lnTo>
                    <a:lnTo>
                      <a:pt x="377" y="1874"/>
                    </a:lnTo>
                    <a:lnTo>
                      <a:pt x="381" y="1868"/>
                    </a:lnTo>
                    <a:lnTo>
                      <a:pt x="386" y="1863"/>
                    </a:lnTo>
                    <a:lnTo>
                      <a:pt x="395" y="1850"/>
                    </a:lnTo>
                    <a:lnTo>
                      <a:pt x="404" y="1837"/>
                    </a:lnTo>
                    <a:lnTo>
                      <a:pt x="412" y="1831"/>
                    </a:lnTo>
                    <a:lnTo>
                      <a:pt x="418" y="1825"/>
                    </a:lnTo>
                    <a:lnTo>
                      <a:pt x="423" y="1818"/>
                    </a:lnTo>
                    <a:lnTo>
                      <a:pt x="429" y="1811"/>
                    </a:lnTo>
                    <a:lnTo>
                      <a:pt x="433" y="1804"/>
                    </a:lnTo>
                    <a:lnTo>
                      <a:pt x="439" y="1797"/>
                    </a:lnTo>
                    <a:lnTo>
                      <a:pt x="445" y="1789"/>
                    </a:lnTo>
                    <a:lnTo>
                      <a:pt x="455" y="1785"/>
                    </a:lnTo>
                    <a:lnTo>
                      <a:pt x="462" y="1770"/>
                    </a:lnTo>
                    <a:lnTo>
                      <a:pt x="471" y="1755"/>
                    </a:lnTo>
                    <a:lnTo>
                      <a:pt x="478" y="1742"/>
                    </a:lnTo>
                    <a:lnTo>
                      <a:pt x="488" y="1728"/>
                    </a:lnTo>
                    <a:lnTo>
                      <a:pt x="495" y="1713"/>
                    </a:lnTo>
                    <a:lnTo>
                      <a:pt x="502" y="1700"/>
                    </a:lnTo>
                    <a:lnTo>
                      <a:pt x="509" y="1685"/>
                    </a:lnTo>
                    <a:lnTo>
                      <a:pt x="515" y="1670"/>
                    </a:lnTo>
                    <a:lnTo>
                      <a:pt x="523" y="1643"/>
                    </a:lnTo>
                    <a:lnTo>
                      <a:pt x="529" y="1616"/>
                    </a:lnTo>
                    <a:lnTo>
                      <a:pt x="531" y="1590"/>
                    </a:lnTo>
                    <a:lnTo>
                      <a:pt x="532" y="1563"/>
                    </a:lnTo>
                    <a:lnTo>
                      <a:pt x="529" y="1534"/>
                    </a:lnTo>
                    <a:lnTo>
                      <a:pt x="529" y="1507"/>
                    </a:lnTo>
                    <a:lnTo>
                      <a:pt x="529" y="1480"/>
                    </a:lnTo>
                    <a:lnTo>
                      <a:pt x="533" y="1453"/>
                    </a:lnTo>
                    <a:lnTo>
                      <a:pt x="529" y="1437"/>
                    </a:lnTo>
                    <a:lnTo>
                      <a:pt x="531" y="1421"/>
                    </a:lnTo>
                    <a:lnTo>
                      <a:pt x="532" y="1406"/>
                    </a:lnTo>
                    <a:lnTo>
                      <a:pt x="536" y="1390"/>
                    </a:lnTo>
                    <a:lnTo>
                      <a:pt x="538" y="1372"/>
                    </a:lnTo>
                    <a:lnTo>
                      <a:pt x="542" y="1356"/>
                    </a:lnTo>
                    <a:lnTo>
                      <a:pt x="542" y="1339"/>
                    </a:lnTo>
                    <a:lnTo>
                      <a:pt x="542" y="1325"/>
                    </a:lnTo>
                    <a:lnTo>
                      <a:pt x="544" y="1307"/>
                    </a:lnTo>
                    <a:lnTo>
                      <a:pt x="548" y="1290"/>
                    </a:lnTo>
                    <a:lnTo>
                      <a:pt x="551" y="1272"/>
                    </a:lnTo>
                    <a:lnTo>
                      <a:pt x="558" y="1255"/>
                    </a:lnTo>
                    <a:lnTo>
                      <a:pt x="561" y="1236"/>
                    </a:lnTo>
                    <a:lnTo>
                      <a:pt x="569" y="1220"/>
                    </a:lnTo>
                    <a:lnTo>
                      <a:pt x="576" y="1204"/>
                    </a:lnTo>
                    <a:lnTo>
                      <a:pt x="586" y="1190"/>
                    </a:lnTo>
                    <a:lnTo>
                      <a:pt x="585" y="1181"/>
                    </a:lnTo>
                    <a:lnTo>
                      <a:pt x="587" y="1175"/>
                    </a:lnTo>
                    <a:lnTo>
                      <a:pt x="589" y="1170"/>
                    </a:lnTo>
                    <a:lnTo>
                      <a:pt x="593" y="1166"/>
                    </a:lnTo>
                    <a:lnTo>
                      <a:pt x="602" y="1158"/>
                    </a:lnTo>
                    <a:lnTo>
                      <a:pt x="610" y="1150"/>
                    </a:lnTo>
                    <a:lnTo>
                      <a:pt x="618" y="1147"/>
                    </a:lnTo>
                    <a:lnTo>
                      <a:pt x="626" y="1146"/>
                    </a:lnTo>
                    <a:lnTo>
                      <a:pt x="635" y="1146"/>
                    </a:lnTo>
                    <a:lnTo>
                      <a:pt x="643" y="1150"/>
                    </a:lnTo>
                    <a:lnTo>
                      <a:pt x="647" y="1142"/>
                    </a:lnTo>
                    <a:lnTo>
                      <a:pt x="651" y="1133"/>
                    </a:lnTo>
                    <a:lnTo>
                      <a:pt x="653" y="1123"/>
                    </a:lnTo>
                    <a:lnTo>
                      <a:pt x="656" y="1115"/>
                    </a:lnTo>
                    <a:lnTo>
                      <a:pt x="657" y="1105"/>
                    </a:lnTo>
                    <a:lnTo>
                      <a:pt x="659" y="1095"/>
                    </a:lnTo>
                    <a:lnTo>
                      <a:pt x="663" y="1087"/>
                    </a:lnTo>
                    <a:lnTo>
                      <a:pt x="668" y="1079"/>
                    </a:lnTo>
                    <a:lnTo>
                      <a:pt x="665" y="1077"/>
                    </a:lnTo>
                    <a:lnTo>
                      <a:pt x="675" y="1072"/>
                    </a:lnTo>
                    <a:lnTo>
                      <a:pt x="686" y="1066"/>
                    </a:lnTo>
                    <a:lnTo>
                      <a:pt x="692" y="1057"/>
                    </a:lnTo>
                    <a:lnTo>
                      <a:pt x="696" y="1046"/>
                    </a:lnTo>
                    <a:lnTo>
                      <a:pt x="680" y="1028"/>
                    </a:lnTo>
                    <a:lnTo>
                      <a:pt x="684" y="1020"/>
                    </a:lnTo>
                    <a:lnTo>
                      <a:pt x="690" y="1017"/>
                    </a:lnTo>
                    <a:lnTo>
                      <a:pt x="697" y="1012"/>
                    </a:lnTo>
                    <a:lnTo>
                      <a:pt x="705" y="1009"/>
                    </a:lnTo>
                    <a:lnTo>
                      <a:pt x="712" y="1006"/>
                    </a:lnTo>
                    <a:lnTo>
                      <a:pt x="719" y="1006"/>
                    </a:lnTo>
                    <a:lnTo>
                      <a:pt x="727" y="1004"/>
                    </a:lnTo>
                    <a:lnTo>
                      <a:pt x="735" y="1006"/>
                    </a:lnTo>
                    <a:lnTo>
                      <a:pt x="730" y="1013"/>
                    </a:lnTo>
                    <a:lnTo>
                      <a:pt x="726" y="1022"/>
                    </a:lnTo>
                    <a:lnTo>
                      <a:pt x="719" y="1029"/>
                    </a:lnTo>
                    <a:lnTo>
                      <a:pt x="719" y="1038"/>
                    </a:lnTo>
                    <a:lnTo>
                      <a:pt x="728" y="1034"/>
                    </a:lnTo>
                    <a:lnTo>
                      <a:pt x="737" y="1031"/>
                    </a:lnTo>
                    <a:lnTo>
                      <a:pt x="743" y="1025"/>
                    </a:lnTo>
                    <a:lnTo>
                      <a:pt x="750" y="1020"/>
                    </a:lnTo>
                    <a:lnTo>
                      <a:pt x="756" y="1014"/>
                    </a:lnTo>
                    <a:lnTo>
                      <a:pt x="764" y="1008"/>
                    </a:lnTo>
                    <a:lnTo>
                      <a:pt x="771" y="1003"/>
                    </a:lnTo>
                    <a:lnTo>
                      <a:pt x="781" y="1001"/>
                    </a:lnTo>
                    <a:lnTo>
                      <a:pt x="782" y="990"/>
                    </a:lnTo>
                    <a:lnTo>
                      <a:pt x="781" y="980"/>
                    </a:lnTo>
                    <a:lnTo>
                      <a:pt x="760" y="991"/>
                    </a:lnTo>
                    <a:lnTo>
                      <a:pt x="757" y="979"/>
                    </a:lnTo>
                    <a:lnTo>
                      <a:pt x="760" y="970"/>
                    </a:lnTo>
                    <a:lnTo>
                      <a:pt x="765" y="963"/>
                    </a:lnTo>
                    <a:lnTo>
                      <a:pt x="772" y="957"/>
                    </a:lnTo>
                    <a:lnTo>
                      <a:pt x="779" y="950"/>
                    </a:lnTo>
                    <a:lnTo>
                      <a:pt x="787" y="944"/>
                    </a:lnTo>
                    <a:lnTo>
                      <a:pt x="793" y="938"/>
                    </a:lnTo>
                    <a:lnTo>
                      <a:pt x="799" y="932"/>
                    </a:lnTo>
                    <a:lnTo>
                      <a:pt x="810" y="928"/>
                    </a:lnTo>
                    <a:lnTo>
                      <a:pt x="821" y="921"/>
                    </a:lnTo>
                    <a:lnTo>
                      <a:pt x="825" y="917"/>
                    </a:lnTo>
                    <a:lnTo>
                      <a:pt x="830" y="916"/>
                    </a:lnTo>
                    <a:lnTo>
                      <a:pt x="833" y="919"/>
                    </a:lnTo>
                    <a:lnTo>
                      <a:pt x="838" y="927"/>
                    </a:lnTo>
                    <a:lnTo>
                      <a:pt x="840" y="931"/>
                    </a:lnTo>
                    <a:lnTo>
                      <a:pt x="843" y="935"/>
                    </a:lnTo>
                    <a:lnTo>
                      <a:pt x="847" y="935"/>
                    </a:lnTo>
                    <a:lnTo>
                      <a:pt x="852" y="936"/>
                    </a:lnTo>
                    <a:lnTo>
                      <a:pt x="860" y="930"/>
                    </a:lnTo>
                    <a:lnTo>
                      <a:pt x="865" y="922"/>
                    </a:lnTo>
                    <a:lnTo>
                      <a:pt x="868" y="912"/>
                    </a:lnTo>
                    <a:lnTo>
                      <a:pt x="875" y="906"/>
                    </a:lnTo>
                    <a:lnTo>
                      <a:pt x="878" y="932"/>
                    </a:lnTo>
                    <a:lnTo>
                      <a:pt x="885" y="928"/>
                    </a:lnTo>
                    <a:lnTo>
                      <a:pt x="895" y="926"/>
                    </a:lnTo>
                    <a:lnTo>
                      <a:pt x="902" y="922"/>
                    </a:lnTo>
                    <a:lnTo>
                      <a:pt x="904" y="914"/>
                    </a:lnTo>
                    <a:lnTo>
                      <a:pt x="912" y="904"/>
                    </a:lnTo>
                    <a:lnTo>
                      <a:pt x="919" y="895"/>
                    </a:lnTo>
                    <a:lnTo>
                      <a:pt x="925" y="884"/>
                    </a:lnTo>
                    <a:lnTo>
                      <a:pt x="931" y="874"/>
                    </a:lnTo>
                    <a:lnTo>
                      <a:pt x="936" y="862"/>
                    </a:lnTo>
                    <a:lnTo>
                      <a:pt x="941" y="851"/>
                    </a:lnTo>
                    <a:lnTo>
                      <a:pt x="946" y="840"/>
                    </a:lnTo>
                    <a:lnTo>
                      <a:pt x="954" y="830"/>
                    </a:lnTo>
                    <a:lnTo>
                      <a:pt x="962" y="833"/>
                    </a:lnTo>
                    <a:lnTo>
                      <a:pt x="960" y="840"/>
                    </a:lnTo>
                    <a:lnTo>
                      <a:pt x="960" y="847"/>
                    </a:lnTo>
                    <a:lnTo>
                      <a:pt x="961" y="854"/>
                    </a:lnTo>
                    <a:lnTo>
                      <a:pt x="965" y="861"/>
                    </a:lnTo>
                    <a:lnTo>
                      <a:pt x="971" y="862"/>
                    </a:lnTo>
                    <a:lnTo>
                      <a:pt x="978" y="861"/>
                    </a:lnTo>
                    <a:lnTo>
                      <a:pt x="983" y="860"/>
                    </a:lnTo>
                    <a:lnTo>
                      <a:pt x="988" y="867"/>
                    </a:lnTo>
                    <a:lnTo>
                      <a:pt x="993" y="859"/>
                    </a:lnTo>
                    <a:lnTo>
                      <a:pt x="995" y="847"/>
                    </a:lnTo>
                    <a:lnTo>
                      <a:pt x="995" y="835"/>
                    </a:lnTo>
                    <a:lnTo>
                      <a:pt x="999" y="824"/>
                    </a:lnTo>
                    <a:lnTo>
                      <a:pt x="1020" y="757"/>
                    </a:lnTo>
                    <a:lnTo>
                      <a:pt x="1027" y="749"/>
                    </a:lnTo>
                    <a:lnTo>
                      <a:pt x="1034" y="747"/>
                    </a:lnTo>
                    <a:lnTo>
                      <a:pt x="1043" y="744"/>
                    </a:lnTo>
                    <a:lnTo>
                      <a:pt x="1052" y="746"/>
                    </a:lnTo>
                    <a:lnTo>
                      <a:pt x="1054" y="748"/>
                    </a:lnTo>
                    <a:lnTo>
                      <a:pt x="1053" y="757"/>
                    </a:lnTo>
                    <a:lnTo>
                      <a:pt x="1052" y="768"/>
                    </a:lnTo>
                    <a:lnTo>
                      <a:pt x="1048" y="779"/>
                    </a:lnTo>
                    <a:lnTo>
                      <a:pt x="1047" y="790"/>
                    </a:lnTo>
                    <a:lnTo>
                      <a:pt x="1043" y="801"/>
                    </a:lnTo>
                    <a:lnTo>
                      <a:pt x="1043" y="812"/>
                    </a:lnTo>
                    <a:lnTo>
                      <a:pt x="1044" y="822"/>
                    </a:lnTo>
                    <a:lnTo>
                      <a:pt x="1050" y="833"/>
                    </a:lnTo>
                    <a:lnTo>
                      <a:pt x="1058" y="834"/>
                    </a:lnTo>
                    <a:lnTo>
                      <a:pt x="1064" y="832"/>
                    </a:lnTo>
                    <a:lnTo>
                      <a:pt x="1066" y="827"/>
                    </a:lnTo>
                    <a:lnTo>
                      <a:pt x="1069" y="822"/>
                    </a:lnTo>
                    <a:lnTo>
                      <a:pt x="1070" y="814"/>
                    </a:lnTo>
                    <a:lnTo>
                      <a:pt x="1071" y="807"/>
                    </a:lnTo>
                    <a:lnTo>
                      <a:pt x="1072" y="800"/>
                    </a:lnTo>
                    <a:lnTo>
                      <a:pt x="1077" y="796"/>
                    </a:lnTo>
                    <a:lnTo>
                      <a:pt x="1083" y="792"/>
                    </a:lnTo>
                    <a:lnTo>
                      <a:pt x="1088" y="787"/>
                    </a:lnTo>
                    <a:lnTo>
                      <a:pt x="1091" y="780"/>
                    </a:lnTo>
                    <a:lnTo>
                      <a:pt x="1098" y="775"/>
                    </a:lnTo>
                    <a:lnTo>
                      <a:pt x="1103" y="774"/>
                    </a:lnTo>
                    <a:lnTo>
                      <a:pt x="1110" y="773"/>
                    </a:lnTo>
                    <a:lnTo>
                      <a:pt x="1117" y="770"/>
                    </a:lnTo>
                    <a:lnTo>
                      <a:pt x="1124" y="773"/>
                    </a:lnTo>
                    <a:lnTo>
                      <a:pt x="1124" y="779"/>
                    </a:lnTo>
                    <a:lnTo>
                      <a:pt x="1125" y="786"/>
                    </a:lnTo>
                    <a:lnTo>
                      <a:pt x="1129" y="791"/>
                    </a:lnTo>
                    <a:lnTo>
                      <a:pt x="1135" y="796"/>
                    </a:lnTo>
                    <a:lnTo>
                      <a:pt x="1145" y="787"/>
                    </a:lnTo>
                    <a:lnTo>
                      <a:pt x="1152" y="778"/>
                    </a:lnTo>
                    <a:lnTo>
                      <a:pt x="1157" y="765"/>
                    </a:lnTo>
                    <a:lnTo>
                      <a:pt x="1162" y="754"/>
                    </a:lnTo>
                    <a:lnTo>
                      <a:pt x="1164" y="741"/>
                    </a:lnTo>
                    <a:lnTo>
                      <a:pt x="1168" y="727"/>
                    </a:lnTo>
                    <a:lnTo>
                      <a:pt x="1173" y="715"/>
                    </a:lnTo>
                    <a:lnTo>
                      <a:pt x="1179" y="704"/>
                    </a:lnTo>
                    <a:lnTo>
                      <a:pt x="1183" y="693"/>
                    </a:lnTo>
                    <a:lnTo>
                      <a:pt x="1186" y="682"/>
                    </a:lnTo>
                    <a:lnTo>
                      <a:pt x="1191" y="671"/>
                    </a:lnTo>
                    <a:lnTo>
                      <a:pt x="1201" y="665"/>
                    </a:lnTo>
                    <a:lnTo>
                      <a:pt x="1216" y="667"/>
                    </a:lnTo>
                    <a:lnTo>
                      <a:pt x="1215" y="678"/>
                    </a:lnTo>
                    <a:lnTo>
                      <a:pt x="1212" y="689"/>
                    </a:lnTo>
                    <a:lnTo>
                      <a:pt x="1210" y="700"/>
                    </a:lnTo>
                    <a:lnTo>
                      <a:pt x="1208" y="713"/>
                    </a:lnTo>
                    <a:lnTo>
                      <a:pt x="1205" y="724"/>
                    </a:lnTo>
                    <a:lnTo>
                      <a:pt x="1205" y="735"/>
                    </a:lnTo>
                    <a:lnTo>
                      <a:pt x="1205" y="746"/>
                    </a:lnTo>
                    <a:lnTo>
                      <a:pt x="1208" y="757"/>
                    </a:lnTo>
                    <a:lnTo>
                      <a:pt x="1218" y="757"/>
                    </a:lnTo>
                    <a:lnTo>
                      <a:pt x="1229" y="752"/>
                    </a:lnTo>
                    <a:lnTo>
                      <a:pt x="1235" y="736"/>
                    </a:lnTo>
                    <a:lnTo>
                      <a:pt x="1234" y="744"/>
                    </a:lnTo>
                    <a:lnTo>
                      <a:pt x="1234" y="754"/>
                    </a:lnTo>
                    <a:lnTo>
                      <a:pt x="1235" y="763"/>
                    </a:lnTo>
                    <a:lnTo>
                      <a:pt x="1238" y="773"/>
                    </a:lnTo>
                    <a:lnTo>
                      <a:pt x="1246" y="764"/>
                    </a:lnTo>
                    <a:lnTo>
                      <a:pt x="1254" y="755"/>
                    </a:lnTo>
                    <a:lnTo>
                      <a:pt x="1259" y="744"/>
                    </a:lnTo>
                    <a:lnTo>
                      <a:pt x="1266" y="736"/>
                    </a:lnTo>
                    <a:lnTo>
                      <a:pt x="1270" y="728"/>
                    </a:lnTo>
                    <a:lnTo>
                      <a:pt x="1273" y="722"/>
                    </a:lnTo>
                    <a:lnTo>
                      <a:pt x="1277" y="715"/>
                    </a:lnTo>
                    <a:lnTo>
                      <a:pt x="1282" y="709"/>
                    </a:lnTo>
                    <a:lnTo>
                      <a:pt x="1284" y="702"/>
                    </a:lnTo>
                    <a:lnTo>
                      <a:pt x="1288" y="694"/>
                    </a:lnTo>
                    <a:lnTo>
                      <a:pt x="1292" y="687"/>
                    </a:lnTo>
                    <a:lnTo>
                      <a:pt x="1295" y="681"/>
                    </a:lnTo>
                    <a:lnTo>
                      <a:pt x="1297" y="688"/>
                    </a:lnTo>
                    <a:lnTo>
                      <a:pt x="1295" y="695"/>
                    </a:lnTo>
                    <a:lnTo>
                      <a:pt x="1295" y="702"/>
                    </a:lnTo>
                    <a:lnTo>
                      <a:pt x="1303" y="706"/>
                    </a:lnTo>
                    <a:lnTo>
                      <a:pt x="1311" y="703"/>
                    </a:lnTo>
                    <a:lnTo>
                      <a:pt x="1319" y="698"/>
                    </a:lnTo>
                    <a:lnTo>
                      <a:pt x="1324" y="689"/>
                    </a:lnTo>
                    <a:lnTo>
                      <a:pt x="1329" y="681"/>
                    </a:lnTo>
                    <a:lnTo>
                      <a:pt x="1332" y="670"/>
                    </a:lnTo>
                    <a:lnTo>
                      <a:pt x="1336" y="660"/>
                    </a:lnTo>
                    <a:lnTo>
                      <a:pt x="1341" y="650"/>
                    </a:lnTo>
                    <a:lnTo>
                      <a:pt x="1348" y="644"/>
                    </a:lnTo>
                    <a:lnTo>
                      <a:pt x="1349" y="638"/>
                    </a:lnTo>
                    <a:lnTo>
                      <a:pt x="1353" y="633"/>
                    </a:lnTo>
                    <a:lnTo>
                      <a:pt x="1358" y="633"/>
                    </a:lnTo>
                    <a:lnTo>
                      <a:pt x="1363" y="637"/>
                    </a:lnTo>
                    <a:lnTo>
                      <a:pt x="1365" y="643"/>
                    </a:lnTo>
                    <a:lnTo>
                      <a:pt x="1369" y="649"/>
                    </a:lnTo>
                    <a:lnTo>
                      <a:pt x="1364" y="659"/>
                    </a:lnTo>
                    <a:lnTo>
                      <a:pt x="1360" y="668"/>
                    </a:lnTo>
                    <a:lnTo>
                      <a:pt x="1356" y="679"/>
                    </a:lnTo>
                    <a:lnTo>
                      <a:pt x="1352" y="690"/>
                    </a:lnTo>
                    <a:lnTo>
                      <a:pt x="1347" y="702"/>
                    </a:lnTo>
                    <a:lnTo>
                      <a:pt x="1343" y="713"/>
                    </a:lnTo>
                    <a:lnTo>
                      <a:pt x="1340" y="724"/>
                    </a:lnTo>
                    <a:lnTo>
                      <a:pt x="1337" y="736"/>
                    </a:lnTo>
                    <a:lnTo>
                      <a:pt x="1341" y="741"/>
                    </a:lnTo>
                    <a:lnTo>
                      <a:pt x="1346" y="746"/>
                    </a:lnTo>
                    <a:lnTo>
                      <a:pt x="1348" y="751"/>
                    </a:lnTo>
                    <a:lnTo>
                      <a:pt x="1345" y="757"/>
                    </a:lnTo>
                    <a:lnTo>
                      <a:pt x="1342" y="762"/>
                    </a:lnTo>
                    <a:lnTo>
                      <a:pt x="1345" y="769"/>
                    </a:lnTo>
                    <a:lnTo>
                      <a:pt x="1353" y="758"/>
                    </a:lnTo>
                    <a:lnTo>
                      <a:pt x="1364" y="749"/>
                    </a:lnTo>
                    <a:lnTo>
                      <a:pt x="1374" y="742"/>
                    </a:lnTo>
                    <a:lnTo>
                      <a:pt x="1385" y="735"/>
                    </a:lnTo>
                    <a:lnTo>
                      <a:pt x="1395" y="726"/>
                    </a:lnTo>
                    <a:lnTo>
                      <a:pt x="1406" y="719"/>
                    </a:lnTo>
                    <a:lnTo>
                      <a:pt x="1416" y="710"/>
                    </a:lnTo>
                    <a:lnTo>
                      <a:pt x="1427" y="702"/>
                    </a:lnTo>
                    <a:lnTo>
                      <a:pt x="1429" y="702"/>
                    </a:lnTo>
                    <a:lnTo>
                      <a:pt x="1423" y="713"/>
                    </a:lnTo>
                    <a:lnTo>
                      <a:pt x="1417" y="726"/>
                    </a:lnTo>
                    <a:lnTo>
                      <a:pt x="1414" y="732"/>
                    </a:lnTo>
                    <a:lnTo>
                      <a:pt x="1414" y="738"/>
                    </a:lnTo>
                    <a:lnTo>
                      <a:pt x="1417" y="744"/>
                    </a:lnTo>
                    <a:lnTo>
                      <a:pt x="1424" y="751"/>
                    </a:lnTo>
                    <a:lnTo>
                      <a:pt x="1432" y="746"/>
                    </a:lnTo>
                    <a:lnTo>
                      <a:pt x="1439" y="741"/>
                    </a:lnTo>
                    <a:lnTo>
                      <a:pt x="1444" y="733"/>
                    </a:lnTo>
                    <a:lnTo>
                      <a:pt x="1450" y="726"/>
                    </a:lnTo>
                    <a:lnTo>
                      <a:pt x="1454" y="716"/>
                    </a:lnTo>
                    <a:lnTo>
                      <a:pt x="1460" y="709"/>
                    </a:lnTo>
                    <a:lnTo>
                      <a:pt x="1465" y="702"/>
                    </a:lnTo>
                    <a:lnTo>
                      <a:pt x="1473" y="695"/>
                    </a:lnTo>
                    <a:lnTo>
                      <a:pt x="1474" y="686"/>
                    </a:lnTo>
                    <a:lnTo>
                      <a:pt x="1478" y="677"/>
                    </a:lnTo>
                    <a:lnTo>
                      <a:pt x="1483" y="670"/>
                    </a:lnTo>
                    <a:lnTo>
                      <a:pt x="1492" y="662"/>
                    </a:lnTo>
                    <a:lnTo>
                      <a:pt x="1489" y="667"/>
                    </a:lnTo>
                    <a:lnTo>
                      <a:pt x="1487" y="673"/>
                    </a:lnTo>
                    <a:lnTo>
                      <a:pt x="1484" y="681"/>
                    </a:lnTo>
                    <a:lnTo>
                      <a:pt x="1483" y="688"/>
                    </a:lnTo>
                    <a:lnTo>
                      <a:pt x="1481" y="694"/>
                    </a:lnTo>
                    <a:lnTo>
                      <a:pt x="1481" y="702"/>
                    </a:lnTo>
                    <a:lnTo>
                      <a:pt x="1482" y="708"/>
                    </a:lnTo>
                    <a:lnTo>
                      <a:pt x="1487" y="715"/>
                    </a:lnTo>
                    <a:lnTo>
                      <a:pt x="1493" y="716"/>
                    </a:lnTo>
                    <a:lnTo>
                      <a:pt x="1499" y="714"/>
                    </a:lnTo>
                    <a:lnTo>
                      <a:pt x="1505" y="710"/>
                    </a:lnTo>
                    <a:lnTo>
                      <a:pt x="1510" y="706"/>
                    </a:lnTo>
                    <a:lnTo>
                      <a:pt x="1511" y="695"/>
                    </a:lnTo>
                    <a:lnTo>
                      <a:pt x="1509" y="704"/>
                    </a:lnTo>
                    <a:lnTo>
                      <a:pt x="1506" y="714"/>
                    </a:lnTo>
                    <a:lnTo>
                      <a:pt x="1501" y="722"/>
                    </a:lnTo>
                    <a:lnTo>
                      <a:pt x="1495" y="732"/>
                    </a:lnTo>
                    <a:lnTo>
                      <a:pt x="1490" y="741"/>
                    </a:lnTo>
                    <a:lnTo>
                      <a:pt x="1485" y="751"/>
                    </a:lnTo>
                    <a:lnTo>
                      <a:pt x="1484" y="759"/>
                    </a:lnTo>
                    <a:lnTo>
                      <a:pt x="1492" y="770"/>
                    </a:lnTo>
                    <a:lnTo>
                      <a:pt x="1499" y="769"/>
                    </a:lnTo>
                    <a:lnTo>
                      <a:pt x="1506" y="765"/>
                    </a:lnTo>
                    <a:lnTo>
                      <a:pt x="1511" y="759"/>
                    </a:lnTo>
                    <a:lnTo>
                      <a:pt x="1517" y="753"/>
                    </a:lnTo>
                    <a:lnTo>
                      <a:pt x="1521" y="744"/>
                    </a:lnTo>
                    <a:lnTo>
                      <a:pt x="1525" y="738"/>
                    </a:lnTo>
                    <a:lnTo>
                      <a:pt x="1530" y="731"/>
                    </a:lnTo>
                    <a:lnTo>
                      <a:pt x="1537" y="727"/>
                    </a:lnTo>
                    <a:lnTo>
                      <a:pt x="1526" y="744"/>
                    </a:lnTo>
                    <a:lnTo>
                      <a:pt x="1517" y="763"/>
                    </a:lnTo>
                    <a:lnTo>
                      <a:pt x="1506" y="781"/>
                    </a:lnTo>
                    <a:lnTo>
                      <a:pt x="1498" y="800"/>
                    </a:lnTo>
                    <a:lnTo>
                      <a:pt x="1487" y="817"/>
                    </a:lnTo>
                    <a:lnTo>
                      <a:pt x="1477" y="835"/>
                    </a:lnTo>
                    <a:lnTo>
                      <a:pt x="1466" y="854"/>
                    </a:lnTo>
                    <a:lnTo>
                      <a:pt x="1456" y="872"/>
                    </a:lnTo>
                    <a:lnTo>
                      <a:pt x="1447" y="884"/>
                    </a:lnTo>
                    <a:lnTo>
                      <a:pt x="1436" y="898"/>
                    </a:lnTo>
                    <a:lnTo>
                      <a:pt x="1430" y="904"/>
                    </a:lnTo>
                    <a:lnTo>
                      <a:pt x="1428" y="910"/>
                    </a:lnTo>
                    <a:lnTo>
                      <a:pt x="1427" y="917"/>
                    </a:lnTo>
                    <a:lnTo>
                      <a:pt x="1429" y="927"/>
                    </a:lnTo>
                    <a:lnTo>
                      <a:pt x="1438" y="927"/>
                    </a:lnTo>
                    <a:lnTo>
                      <a:pt x="1447" y="926"/>
                    </a:lnTo>
                    <a:lnTo>
                      <a:pt x="1456" y="926"/>
                    </a:lnTo>
                    <a:lnTo>
                      <a:pt x="1466" y="932"/>
                    </a:lnTo>
                    <a:lnTo>
                      <a:pt x="1461" y="938"/>
                    </a:lnTo>
                    <a:lnTo>
                      <a:pt x="1455" y="944"/>
                    </a:lnTo>
                    <a:lnTo>
                      <a:pt x="1445" y="950"/>
                    </a:lnTo>
                    <a:lnTo>
                      <a:pt x="1438" y="958"/>
                    </a:lnTo>
                    <a:lnTo>
                      <a:pt x="1430" y="963"/>
                    </a:lnTo>
                    <a:lnTo>
                      <a:pt x="1427" y="970"/>
                    </a:lnTo>
                    <a:lnTo>
                      <a:pt x="1427" y="977"/>
                    </a:lnTo>
                    <a:lnTo>
                      <a:pt x="1434" y="987"/>
                    </a:lnTo>
                    <a:lnTo>
                      <a:pt x="1444" y="985"/>
                    </a:lnTo>
                    <a:lnTo>
                      <a:pt x="1454" y="979"/>
                    </a:lnTo>
                    <a:lnTo>
                      <a:pt x="1463" y="971"/>
                    </a:lnTo>
                    <a:lnTo>
                      <a:pt x="1473" y="964"/>
                    </a:lnTo>
                    <a:lnTo>
                      <a:pt x="1482" y="958"/>
                    </a:lnTo>
                    <a:lnTo>
                      <a:pt x="1492" y="957"/>
                    </a:lnTo>
                    <a:lnTo>
                      <a:pt x="1500" y="959"/>
                    </a:lnTo>
                    <a:lnTo>
                      <a:pt x="1510" y="971"/>
                    </a:lnTo>
                    <a:lnTo>
                      <a:pt x="1499" y="979"/>
                    </a:lnTo>
                    <a:lnTo>
                      <a:pt x="1488" y="986"/>
                    </a:lnTo>
                    <a:lnTo>
                      <a:pt x="1477" y="993"/>
                    </a:lnTo>
                    <a:lnTo>
                      <a:pt x="1467" y="1002"/>
                    </a:lnTo>
                    <a:lnTo>
                      <a:pt x="1455" y="1009"/>
                    </a:lnTo>
                    <a:lnTo>
                      <a:pt x="1444" y="1017"/>
                    </a:lnTo>
                    <a:lnTo>
                      <a:pt x="1433" y="1024"/>
                    </a:lnTo>
                    <a:lnTo>
                      <a:pt x="1422" y="1033"/>
                    </a:lnTo>
                    <a:lnTo>
                      <a:pt x="1422" y="1041"/>
                    </a:lnTo>
                    <a:lnTo>
                      <a:pt x="1424" y="1051"/>
                    </a:lnTo>
                    <a:lnTo>
                      <a:pt x="1433" y="1052"/>
                    </a:lnTo>
                    <a:lnTo>
                      <a:pt x="1441" y="1051"/>
                    </a:lnTo>
                    <a:lnTo>
                      <a:pt x="1449" y="1046"/>
                    </a:lnTo>
                    <a:lnTo>
                      <a:pt x="1456" y="1045"/>
                    </a:lnTo>
                    <a:lnTo>
                      <a:pt x="1449" y="1051"/>
                    </a:lnTo>
                    <a:lnTo>
                      <a:pt x="1440" y="1058"/>
                    </a:lnTo>
                    <a:lnTo>
                      <a:pt x="1429" y="1063"/>
                    </a:lnTo>
                    <a:lnTo>
                      <a:pt x="1418" y="1069"/>
                    </a:lnTo>
                    <a:lnTo>
                      <a:pt x="1405" y="1073"/>
                    </a:lnTo>
                    <a:lnTo>
                      <a:pt x="1392" y="1078"/>
                    </a:lnTo>
                    <a:lnTo>
                      <a:pt x="1380" y="1083"/>
                    </a:lnTo>
                    <a:lnTo>
                      <a:pt x="1369" y="1088"/>
                    </a:lnTo>
                    <a:lnTo>
                      <a:pt x="1368" y="1093"/>
                    </a:lnTo>
                    <a:lnTo>
                      <a:pt x="1370" y="1099"/>
                    </a:lnTo>
                    <a:lnTo>
                      <a:pt x="1374" y="1103"/>
                    </a:lnTo>
                    <a:lnTo>
                      <a:pt x="1379" y="1106"/>
                    </a:lnTo>
                    <a:lnTo>
                      <a:pt x="1383" y="1107"/>
                    </a:lnTo>
                    <a:lnTo>
                      <a:pt x="1390" y="1107"/>
                    </a:lnTo>
                    <a:lnTo>
                      <a:pt x="1395" y="1106"/>
                    </a:lnTo>
                    <a:lnTo>
                      <a:pt x="1401" y="1109"/>
                    </a:lnTo>
                    <a:lnTo>
                      <a:pt x="1392" y="1119"/>
                    </a:lnTo>
                    <a:lnTo>
                      <a:pt x="1383" y="1127"/>
                    </a:lnTo>
                    <a:lnTo>
                      <a:pt x="1371" y="1136"/>
                    </a:lnTo>
                    <a:lnTo>
                      <a:pt x="1360" y="1144"/>
                    </a:lnTo>
                    <a:lnTo>
                      <a:pt x="1348" y="1152"/>
                    </a:lnTo>
                    <a:lnTo>
                      <a:pt x="1338" y="1161"/>
                    </a:lnTo>
                    <a:lnTo>
                      <a:pt x="1331" y="1172"/>
                    </a:lnTo>
                    <a:lnTo>
                      <a:pt x="1327" y="1185"/>
                    </a:lnTo>
                    <a:lnTo>
                      <a:pt x="1315" y="1190"/>
                    </a:lnTo>
                    <a:lnTo>
                      <a:pt x="1307" y="1198"/>
                    </a:lnTo>
                    <a:lnTo>
                      <a:pt x="1303" y="1203"/>
                    </a:lnTo>
                    <a:lnTo>
                      <a:pt x="1302" y="1209"/>
                    </a:lnTo>
                    <a:lnTo>
                      <a:pt x="1300" y="1215"/>
                    </a:lnTo>
                    <a:lnTo>
                      <a:pt x="1303" y="1224"/>
                    </a:lnTo>
                    <a:lnTo>
                      <a:pt x="1308" y="1231"/>
                    </a:lnTo>
                    <a:lnTo>
                      <a:pt x="1315" y="1237"/>
                    </a:lnTo>
                    <a:lnTo>
                      <a:pt x="1324" y="1241"/>
                    </a:lnTo>
                    <a:lnTo>
                      <a:pt x="1335" y="1242"/>
                    </a:lnTo>
                    <a:lnTo>
                      <a:pt x="1335" y="1247"/>
                    </a:lnTo>
                    <a:lnTo>
                      <a:pt x="1340" y="1251"/>
                    </a:lnTo>
                    <a:lnTo>
                      <a:pt x="1343" y="1249"/>
                    </a:lnTo>
                    <a:lnTo>
                      <a:pt x="1348" y="1246"/>
                    </a:lnTo>
                    <a:lnTo>
                      <a:pt x="1351" y="1241"/>
                    </a:lnTo>
                    <a:lnTo>
                      <a:pt x="1353" y="1235"/>
                    </a:lnTo>
                    <a:lnTo>
                      <a:pt x="1362" y="1229"/>
                    </a:lnTo>
                    <a:lnTo>
                      <a:pt x="1369" y="1222"/>
                    </a:lnTo>
                    <a:lnTo>
                      <a:pt x="1375" y="1214"/>
                    </a:lnTo>
                    <a:lnTo>
                      <a:pt x="1385" y="1217"/>
                    </a:lnTo>
                    <a:lnTo>
                      <a:pt x="1391" y="1206"/>
                    </a:lnTo>
                    <a:lnTo>
                      <a:pt x="1398" y="1196"/>
                    </a:lnTo>
                    <a:lnTo>
                      <a:pt x="1406" y="1186"/>
                    </a:lnTo>
                    <a:lnTo>
                      <a:pt x="1416" y="1177"/>
                    </a:lnTo>
                    <a:lnTo>
                      <a:pt x="1423" y="1176"/>
                    </a:lnTo>
                    <a:lnTo>
                      <a:pt x="1429" y="1174"/>
                    </a:lnTo>
                    <a:lnTo>
                      <a:pt x="1433" y="1168"/>
                    </a:lnTo>
                    <a:lnTo>
                      <a:pt x="1438" y="1161"/>
                    </a:lnTo>
                    <a:lnTo>
                      <a:pt x="1441" y="1153"/>
                    </a:lnTo>
                    <a:lnTo>
                      <a:pt x="1446" y="1147"/>
                    </a:lnTo>
                    <a:lnTo>
                      <a:pt x="1452" y="1141"/>
                    </a:lnTo>
                    <a:lnTo>
                      <a:pt x="1461" y="1138"/>
                    </a:lnTo>
                    <a:lnTo>
                      <a:pt x="1465" y="1132"/>
                    </a:lnTo>
                    <a:lnTo>
                      <a:pt x="1472" y="1127"/>
                    </a:lnTo>
                    <a:lnTo>
                      <a:pt x="1479" y="1123"/>
                    </a:lnTo>
                    <a:lnTo>
                      <a:pt x="1489" y="1125"/>
                    </a:lnTo>
                    <a:lnTo>
                      <a:pt x="1489" y="1130"/>
                    </a:lnTo>
                    <a:lnTo>
                      <a:pt x="1493" y="1132"/>
                    </a:lnTo>
                    <a:lnTo>
                      <a:pt x="1497" y="1132"/>
                    </a:lnTo>
                    <a:lnTo>
                      <a:pt x="1503" y="1132"/>
                    </a:lnTo>
                    <a:lnTo>
                      <a:pt x="1514" y="1128"/>
                    </a:lnTo>
                    <a:lnTo>
                      <a:pt x="1526" y="1132"/>
                    </a:lnTo>
                    <a:lnTo>
                      <a:pt x="1531" y="1126"/>
                    </a:lnTo>
                    <a:lnTo>
                      <a:pt x="1534" y="1120"/>
                    </a:lnTo>
                    <a:lnTo>
                      <a:pt x="1527" y="1116"/>
                    </a:lnTo>
                    <a:lnTo>
                      <a:pt x="1520" y="1116"/>
                    </a:lnTo>
                    <a:lnTo>
                      <a:pt x="1512" y="1115"/>
                    </a:lnTo>
                    <a:lnTo>
                      <a:pt x="1511" y="1109"/>
                    </a:lnTo>
                    <a:lnTo>
                      <a:pt x="1519" y="1099"/>
                    </a:lnTo>
                    <a:lnTo>
                      <a:pt x="1530" y="1092"/>
                    </a:lnTo>
                    <a:lnTo>
                      <a:pt x="1539" y="1083"/>
                    </a:lnTo>
                    <a:lnTo>
                      <a:pt x="1548" y="1074"/>
                    </a:lnTo>
                    <a:lnTo>
                      <a:pt x="1554" y="1067"/>
                    </a:lnTo>
                    <a:lnTo>
                      <a:pt x="1560" y="1061"/>
                    </a:lnTo>
                    <a:lnTo>
                      <a:pt x="1566" y="1054"/>
                    </a:lnTo>
                    <a:lnTo>
                      <a:pt x="1574" y="1046"/>
                    </a:lnTo>
                    <a:lnTo>
                      <a:pt x="1577" y="1036"/>
                    </a:lnTo>
                    <a:lnTo>
                      <a:pt x="1581" y="1028"/>
                    </a:lnTo>
                    <a:lnTo>
                      <a:pt x="1582" y="1018"/>
                    </a:lnTo>
                    <a:lnTo>
                      <a:pt x="1584" y="1009"/>
                    </a:lnTo>
                    <a:lnTo>
                      <a:pt x="1585" y="1000"/>
                    </a:lnTo>
                    <a:lnTo>
                      <a:pt x="1590" y="991"/>
                    </a:lnTo>
                    <a:lnTo>
                      <a:pt x="1593" y="982"/>
                    </a:lnTo>
                    <a:lnTo>
                      <a:pt x="1601" y="975"/>
                    </a:lnTo>
                    <a:lnTo>
                      <a:pt x="1608" y="968"/>
                    </a:lnTo>
                    <a:lnTo>
                      <a:pt x="1617" y="963"/>
                    </a:lnTo>
                    <a:lnTo>
                      <a:pt x="1625" y="958"/>
                    </a:lnTo>
                    <a:lnTo>
                      <a:pt x="1636" y="957"/>
                    </a:lnTo>
                    <a:lnTo>
                      <a:pt x="1644" y="953"/>
                    </a:lnTo>
                    <a:lnTo>
                      <a:pt x="1652" y="953"/>
                    </a:lnTo>
                    <a:lnTo>
                      <a:pt x="1660" y="955"/>
                    </a:lnTo>
                    <a:lnTo>
                      <a:pt x="1668" y="958"/>
                    </a:lnTo>
                    <a:lnTo>
                      <a:pt x="1675" y="959"/>
                    </a:lnTo>
                    <a:lnTo>
                      <a:pt x="1683" y="958"/>
                    </a:lnTo>
                    <a:lnTo>
                      <a:pt x="1689" y="953"/>
                    </a:lnTo>
                    <a:lnTo>
                      <a:pt x="1694" y="943"/>
                    </a:lnTo>
                    <a:lnTo>
                      <a:pt x="1695" y="932"/>
                    </a:lnTo>
                    <a:lnTo>
                      <a:pt x="1698" y="922"/>
                    </a:lnTo>
                    <a:lnTo>
                      <a:pt x="1699" y="911"/>
                    </a:lnTo>
                    <a:lnTo>
                      <a:pt x="1701" y="900"/>
                    </a:lnTo>
                    <a:lnTo>
                      <a:pt x="1702" y="889"/>
                    </a:lnTo>
                    <a:lnTo>
                      <a:pt x="1707" y="879"/>
                    </a:lnTo>
                    <a:lnTo>
                      <a:pt x="1712" y="871"/>
                    </a:lnTo>
                    <a:lnTo>
                      <a:pt x="1721" y="865"/>
                    </a:lnTo>
                    <a:lnTo>
                      <a:pt x="1728" y="857"/>
                    </a:lnTo>
                    <a:lnTo>
                      <a:pt x="1738" y="854"/>
                    </a:lnTo>
                    <a:lnTo>
                      <a:pt x="1748" y="851"/>
                    </a:lnTo>
                    <a:lnTo>
                      <a:pt x="1759" y="851"/>
                    </a:lnTo>
                    <a:lnTo>
                      <a:pt x="1767" y="851"/>
                    </a:lnTo>
                    <a:lnTo>
                      <a:pt x="1777" y="854"/>
                    </a:lnTo>
                    <a:lnTo>
                      <a:pt x="1787" y="856"/>
                    </a:lnTo>
                    <a:lnTo>
                      <a:pt x="1797" y="861"/>
                    </a:lnTo>
                    <a:lnTo>
                      <a:pt x="1800" y="862"/>
                    </a:lnTo>
                    <a:lnTo>
                      <a:pt x="1804" y="866"/>
                    </a:lnTo>
                    <a:lnTo>
                      <a:pt x="1807" y="870"/>
                    </a:lnTo>
                    <a:lnTo>
                      <a:pt x="1813" y="872"/>
                    </a:lnTo>
                    <a:lnTo>
                      <a:pt x="1818" y="860"/>
                    </a:lnTo>
                    <a:lnTo>
                      <a:pt x="1819" y="850"/>
                    </a:lnTo>
                    <a:lnTo>
                      <a:pt x="1820" y="839"/>
                    </a:lnTo>
                    <a:lnTo>
                      <a:pt x="1826" y="828"/>
                    </a:lnTo>
                    <a:lnTo>
                      <a:pt x="1830" y="817"/>
                    </a:lnTo>
                    <a:lnTo>
                      <a:pt x="1837" y="806"/>
                    </a:lnTo>
                    <a:lnTo>
                      <a:pt x="1845" y="795"/>
                    </a:lnTo>
                    <a:lnTo>
                      <a:pt x="1854" y="786"/>
                    </a:lnTo>
                    <a:lnTo>
                      <a:pt x="1863" y="778"/>
                    </a:lnTo>
                    <a:lnTo>
                      <a:pt x="1875" y="771"/>
                    </a:lnTo>
                    <a:lnTo>
                      <a:pt x="1886" y="767"/>
                    </a:lnTo>
                    <a:lnTo>
                      <a:pt x="1900" y="764"/>
                    </a:lnTo>
                    <a:lnTo>
                      <a:pt x="1907" y="765"/>
                    </a:lnTo>
                    <a:lnTo>
                      <a:pt x="1916" y="767"/>
                    </a:lnTo>
                    <a:lnTo>
                      <a:pt x="1923" y="767"/>
                    </a:lnTo>
                    <a:lnTo>
                      <a:pt x="1930" y="770"/>
                    </a:lnTo>
                    <a:lnTo>
                      <a:pt x="1934" y="764"/>
                    </a:lnTo>
                    <a:lnTo>
                      <a:pt x="1937" y="758"/>
                    </a:lnTo>
                    <a:lnTo>
                      <a:pt x="1938" y="751"/>
                    </a:lnTo>
                    <a:lnTo>
                      <a:pt x="1940" y="743"/>
                    </a:lnTo>
                    <a:lnTo>
                      <a:pt x="1941" y="736"/>
                    </a:lnTo>
                    <a:lnTo>
                      <a:pt x="1945" y="730"/>
                    </a:lnTo>
                    <a:lnTo>
                      <a:pt x="1949" y="725"/>
                    </a:lnTo>
                    <a:lnTo>
                      <a:pt x="1957" y="722"/>
                    </a:lnTo>
                    <a:lnTo>
                      <a:pt x="1960" y="708"/>
                    </a:lnTo>
                    <a:lnTo>
                      <a:pt x="1965" y="693"/>
                    </a:lnTo>
                    <a:lnTo>
                      <a:pt x="1970" y="679"/>
                    </a:lnTo>
                    <a:lnTo>
                      <a:pt x="1977" y="668"/>
                    </a:lnTo>
                    <a:lnTo>
                      <a:pt x="1984" y="656"/>
                    </a:lnTo>
                    <a:lnTo>
                      <a:pt x="1995" y="646"/>
                    </a:lnTo>
                    <a:lnTo>
                      <a:pt x="2008" y="639"/>
                    </a:lnTo>
                    <a:lnTo>
                      <a:pt x="2022" y="633"/>
                    </a:lnTo>
                    <a:lnTo>
                      <a:pt x="2030" y="629"/>
                    </a:lnTo>
                    <a:lnTo>
                      <a:pt x="2039" y="630"/>
                    </a:lnTo>
                    <a:lnTo>
                      <a:pt x="2049" y="634"/>
                    </a:lnTo>
                    <a:lnTo>
                      <a:pt x="2059" y="638"/>
                    </a:lnTo>
                    <a:lnTo>
                      <a:pt x="2066" y="640"/>
                    </a:lnTo>
                    <a:lnTo>
                      <a:pt x="2075" y="639"/>
                    </a:lnTo>
                    <a:lnTo>
                      <a:pt x="2082" y="633"/>
                    </a:lnTo>
                    <a:lnTo>
                      <a:pt x="2089" y="622"/>
                    </a:lnTo>
                    <a:lnTo>
                      <a:pt x="2095" y="618"/>
                    </a:lnTo>
                    <a:lnTo>
                      <a:pt x="2102" y="619"/>
                    </a:lnTo>
                    <a:lnTo>
                      <a:pt x="2109" y="634"/>
                    </a:lnTo>
                    <a:lnTo>
                      <a:pt x="2112" y="650"/>
                    </a:lnTo>
                    <a:lnTo>
                      <a:pt x="2111" y="667"/>
                    </a:lnTo>
                    <a:lnTo>
                      <a:pt x="2108" y="686"/>
                    </a:lnTo>
                    <a:lnTo>
                      <a:pt x="2104" y="703"/>
                    </a:lnTo>
                    <a:lnTo>
                      <a:pt x="2103" y="720"/>
                    </a:lnTo>
                    <a:lnTo>
                      <a:pt x="2107" y="735"/>
                    </a:lnTo>
                    <a:lnTo>
                      <a:pt x="2118" y="751"/>
                    </a:lnTo>
                    <a:lnTo>
                      <a:pt x="2124" y="758"/>
                    </a:lnTo>
                    <a:lnTo>
                      <a:pt x="2131" y="768"/>
                    </a:lnTo>
                    <a:lnTo>
                      <a:pt x="2135" y="770"/>
                    </a:lnTo>
                    <a:lnTo>
                      <a:pt x="2140" y="774"/>
                    </a:lnTo>
                    <a:lnTo>
                      <a:pt x="2145" y="775"/>
                    </a:lnTo>
                    <a:lnTo>
                      <a:pt x="2153" y="775"/>
                    </a:lnTo>
                    <a:lnTo>
                      <a:pt x="2167" y="764"/>
                    </a:lnTo>
                    <a:lnTo>
                      <a:pt x="2180" y="753"/>
                    </a:lnTo>
                    <a:lnTo>
                      <a:pt x="2191" y="741"/>
                    </a:lnTo>
                    <a:lnTo>
                      <a:pt x="2204" y="728"/>
                    </a:lnTo>
                    <a:lnTo>
                      <a:pt x="2212" y="714"/>
                    </a:lnTo>
                    <a:lnTo>
                      <a:pt x="2223" y="700"/>
                    </a:lnTo>
                    <a:lnTo>
                      <a:pt x="2233" y="687"/>
                    </a:lnTo>
                    <a:lnTo>
                      <a:pt x="2245" y="675"/>
                    </a:lnTo>
                    <a:lnTo>
                      <a:pt x="2248" y="665"/>
                    </a:lnTo>
                    <a:lnTo>
                      <a:pt x="2252" y="656"/>
                    </a:lnTo>
                    <a:lnTo>
                      <a:pt x="2256" y="649"/>
                    </a:lnTo>
                    <a:lnTo>
                      <a:pt x="2265" y="646"/>
                    </a:lnTo>
                    <a:lnTo>
                      <a:pt x="2269" y="657"/>
                    </a:lnTo>
                    <a:lnTo>
                      <a:pt x="2265" y="670"/>
                    </a:lnTo>
                    <a:lnTo>
                      <a:pt x="2260" y="673"/>
                    </a:lnTo>
                    <a:lnTo>
                      <a:pt x="2258" y="679"/>
                    </a:lnTo>
                    <a:lnTo>
                      <a:pt x="2254" y="686"/>
                    </a:lnTo>
                    <a:lnTo>
                      <a:pt x="2254" y="693"/>
                    </a:lnTo>
                    <a:lnTo>
                      <a:pt x="2249" y="700"/>
                    </a:lnTo>
                    <a:lnTo>
                      <a:pt x="2244" y="708"/>
                    </a:lnTo>
                    <a:lnTo>
                      <a:pt x="2238" y="716"/>
                    </a:lnTo>
                    <a:lnTo>
                      <a:pt x="2234" y="726"/>
                    </a:lnTo>
                    <a:lnTo>
                      <a:pt x="2229" y="735"/>
                    </a:lnTo>
                    <a:lnTo>
                      <a:pt x="2228" y="744"/>
                    </a:lnTo>
                    <a:lnTo>
                      <a:pt x="2229" y="753"/>
                    </a:lnTo>
                    <a:lnTo>
                      <a:pt x="2236" y="764"/>
                    </a:lnTo>
                    <a:lnTo>
                      <a:pt x="2233" y="773"/>
                    </a:lnTo>
                    <a:lnTo>
                      <a:pt x="2229" y="781"/>
                    </a:lnTo>
                    <a:lnTo>
                      <a:pt x="2226" y="790"/>
                    </a:lnTo>
                    <a:lnTo>
                      <a:pt x="2227" y="798"/>
                    </a:lnTo>
                    <a:lnTo>
                      <a:pt x="2238" y="792"/>
                    </a:lnTo>
                    <a:lnTo>
                      <a:pt x="2250" y="787"/>
                    </a:lnTo>
                    <a:lnTo>
                      <a:pt x="2263" y="781"/>
                    </a:lnTo>
                    <a:lnTo>
                      <a:pt x="2275" y="775"/>
                    </a:lnTo>
                    <a:lnTo>
                      <a:pt x="2285" y="767"/>
                    </a:lnTo>
                    <a:lnTo>
                      <a:pt x="2296" y="758"/>
                    </a:lnTo>
                    <a:lnTo>
                      <a:pt x="2305" y="749"/>
                    </a:lnTo>
                    <a:lnTo>
                      <a:pt x="2316" y="741"/>
                    </a:lnTo>
                    <a:lnTo>
                      <a:pt x="2326" y="733"/>
                    </a:lnTo>
                    <a:lnTo>
                      <a:pt x="2336" y="726"/>
                    </a:lnTo>
                    <a:lnTo>
                      <a:pt x="2347" y="717"/>
                    </a:lnTo>
                    <a:lnTo>
                      <a:pt x="2358" y="711"/>
                    </a:lnTo>
                    <a:lnTo>
                      <a:pt x="2368" y="705"/>
                    </a:lnTo>
                    <a:lnTo>
                      <a:pt x="2379" y="703"/>
                    </a:lnTo>
                    <a:lnTo>
                      <a:pt x="2391" y="704"/>
                    </a:lnTo>
                    <a:lnTo>
                      <a:pt x="2404" y="711"/>
                    </a:lnTo>
                    <a:lnTo>
                      <a:pt x="2384" y="731"/>
                    </a:lnTo>
                    <a:lnTo>
                      <a:pt x="2366" y="752"/>
                    </a:lnTo>
                    <a:lnTo>
                      <a:pt x="2346" y="771"/>
                    </a:lnTo>
                    <a:lnTo>
                      <a:pt x="2328" y="792"/>
                    </a:lnTo>
                    <a:lnTo>
                      <a:pt x="2308" y="812"/>
                    </a:lnTo>
                    <a:lnTo>
                      <a:pt x="2290" y="832"/>
                    </a:lnTo>
                    <a:lnTo>
                      <a:pt x="2270" y="851"/>
                    </a:lnTo>
                    <a:lnTo>
                      <a:pt x="2252" y="872"/>
                    </a:lnTo>
                    <a:lnTo>
                      <a:pt x="2245" y="882"/>
                    </a:lnTo>
                    <a:lnTo>
                      <a:pt x="2239" y="892"/>
                    </a:lnTo>
                    <a:lnTo>
                      <a:pt x="2232" y="900"/>
                    </a:lnTo>
                    <a:lnTo>
                      <a:pt x="2225" y="910"/>
                    </a:lnTo>
                    <a:lnTo>
                      <a:pt x="2216" y="919"/>
                    </a:lnTo>
                    <a:lnTo>
                      <a:pt x="2209" y="928"/>
                    </a:lnTo>
                    <a:lnTo>
                      <a:pt x="2201" y="938"/>
                    </a:lnTo>
                    <a:lnTo>
                      <a:pt x="2196" y="950"/>
                    </a:lnTo>
                    <a:lnTo>
                      <a:pt x="2199" y="954"/>
                    </a:lnTo>
                    <a:lnTo>
                      <a:pt x="2214" y="942"/>
                    </a:lnTo>
                    <a:lnTo>
                      <a:pt x="2228" y="931"/>
                    </a:lnTo>
                    <a:lnTo>
                      <a:pt x="2242" y="917"/>
                    </a:lnTo>
                    <a:lnTo>
                      <a:pt x="2256" y="905"/>
                    </a:lnTo>
                    <a:lnTo>
                      <a:pt x="2271" y="892"/>
                    </a:lnTo>
                    <a:lnTo>
                      <a:pt x="2287" y="879"/>
                    </a:lnTo>
                    <a:lnTo>
                      <a:pt x="2303" y="868"/>
                    </a:lnTo>
                    <a:lnTo>
                      <a:pt x="2323" y="859"/>
                    </a:lnTo>
                    <a:lnTo>
                      <a:pt x="2307" y="871"/>
                    </a:lnTo>
                    <a:lnTo>
                      <a:pt x="2292" y="884"/>
                    </a:lnTo>
                    <a:lnTo>
                      <a:pt x="2277" y="897"/>
                    </a:lnTo>
                    <a:lnTo>
                      <a:pt x="2265" y="911"/>
                    </a:lnTo>
                    <a:lnTo>
                      <a:pt x="2250" y="925"/>
                    </a:lnTo>
                    <a:lnTo>
                      <a:pt x="2239" y="941"/>
                    </a:lnTo>
                    <a:lnTo>
                      <a:pt x="2229" y="957"/>
                    </a:lnTo>
                    <a:lnTo>
                      <a:pt x="2222" y="975"/>
                    </a:lnTo>
                    <a:lnTo>
                      <a:pt x="2233" y="990"/>
                    </a:lnTo>
                    <a:lnTo>
                      <a:pt x="2228" y="991"/>
                    </a:lnTo>
                    <a:lnTo>
                      <a:pt x="2227" y="996"/>
                    </a:lnTo>
                    <a:lnTo>
                      <a:pt x="2237" y="997"/>
                    </a:lnTo>
                    <a:lnTo>
                      <a:pt x="2245" y="991"/>
                    </a:lnTo>
                    <a:lnTo>
                      <a:pt x="2254" y="984"/>
                    </a:lnTo>
                    <a:lnTo>
                      <a:pt x="2265" y="980"/>
                    </a:lnTo>
                    <a:lnTo>
                      <a:pt x="2274" y="975"/>
                    </a:lnTo>
                    <a:lnTo>
                      <a:pt x="2282" y="975"/>
                    </a:lnTo>
                    <a:lnTo>
                      <a:pt x="2275" y="981"/>
                    </a:lnTo>
                    <a:lnTo>
                      <a:pt x="2269" y="987"/>
                    </a:lnTo>
                    <a:lnTo>
                      <a:pt x="2261" y="995"/>
                    </a:lnTo>
                    <a:lnTo>
                      <a:pt x="2256" y="1002"/>
                    </a:lnTo>
                    <a:lnTo>
                      <a:pt x="2250" y="1008"/>
                    </a:lnTo>
                    <a:lnTo>
                      <a:pt x="2248" y="1015"/>
                    </a:lnTo>
                    <a:lnTo>
                      <a:pt x="2247" y="1023"/>
                    </a:lnTo>
                    <a:lnTo>
                      <a:pt x="2249" y="1033"/>
                    </a:lnTo>
                    <a:lnTo>
                      <a:pt x="2254" y="1040"/>
                    </a:lnTo>
                    <a:lnTo>
                      <a:pt x="2265" y="1042"/>
                    </a:lnTo>
                    <a:lnTo>
                      <a:pt x="2271" y="1036"/>
                    </a:lnTo>
                    <a:lnTo>
                      <a:pt x="2278" y="1031"/>
                    </a:lnTo>
                    <a:lnTo>
                      <a:pt x="2286" y="1028"/>
                    </a:lnTo>
                    <a:lnTo>
                      <a:pt x="2296" y="1027"/>
                    </a:lnTo>
                    <a:lnTo>
                      <a:pt x="2249" y="1077"/>
                    </a:lnTo>
                    <a:lnTo>
                      <a:pt x="2247" y="1084"/>
                    </a:lnTo>
                    <a:lnTo>
                      <a:pt x="2252" y="1090"/>
                    </a:lnTo>
                    <a:lnTo>
                      <a:pt x="2258" y="1095"/>
                    </a:lnTo>
                    <a:lnTo>
                      <a:pt x="2265" y="1101"/>
                    </a:lnTo>
                    <a:lnTo>
                      <a:pt x="2277" y="1101"/>
                    </a:lnTo>
                    <a:lnTo>
                      <a:pt x="2271" y="1107"/>
                    </a:lnTo>
                    <a:lnTo>
                      <a:pt x="2265" y="1115"/>
                    </a:lnTo>
                    <a:lnTo>
                      <a:pt x="2259" y="1122"/>
                    </a:lnTo>
                    <a:lnTo>
                      <a:pt x="2253" y="1130"/>
                    </a:lnTo>
                    <a:lnTo>
                      <a:pt x="2245" y="1137"/>
                    </a:lnTo>
                    <a:lnTo>
                      <a:pt x="2242" y="1144"/>
                    </a:lnTo>
                    <a:lnTo>
                      <a:pt x="2237" y="1153"/>
                    </a:lnTo>
                    <a:lnTo>
                      <a:pt x="2236" y="1164"/>
                    </a:lnTo>
                    <a:lnTo>
                      <a:pt x="2242" y="1164"/>
                    </a:lnTo>
                    <a:lnTo>
                      <a:pt x="2245" y="1169"/>
                    </a:lnTo>
                    <a:lnTo>
                      <a:pt x="2247" y="1174"/>
                    </a:lnTo>
                    <a:lnTo>
                      <a:pt x="2248" y="1180"/>
                    </a:lnTo>
                    <a:lnTo>
                      <a:pt x="2247" y="1185"/>
                    </a:lnTo>
                    <a:lnTo>
                      <a:pt x="2248" y="1190"/>
                    </a:lnTo>
                    <a:lnTo>
                      <a:pt x="2252" y="1191"/>
                    </a:lnTo>
                    <a:lnTo>
                      <a:pt x="2259" y="1190"/>
                    </a:lnTo>
                    <a:lnTo>
                      <a:pt x="2245" y="1198"/>
                    </a:lnTo>
                    <a:lnTo>
                      <a:pt x="2234" y="1209"/>
                    </a:lnTo>
                    <a:lnTo>
                      <a:pt x="2222" y="1219"/>
                    </a:lnTo>
                    <a:lnTo>
                      <a:pt x="2212" y="1230"/>
                    </a:lnTo>
                    <a:lnTo>
                      <a:pt x="2201" y="1241"/>
                    </a:lnTo>
                    <a:lnTo>
                      <a:pt x="2191" y="1252"/>
                    </a:lnTo>
                    <a:lnTo>
                      <a:pt x="2184" y="1264"/>
                    </a:lnTo>
                    <a:lnTo>
                      <a:pt x="2178" y="1279"/>
                    </a:lnTo>
                    <a:lnTo>
                      <a:pt x="2185" y="1287"/>
                    </a:lnTo>
                    <a:lnTo>
                      <a:pt x="2196" y="1288"/>
                    </a:lnTo>
                    <a:lnTo>
                      <a:pt x="2205" y="1280"/>
                    </a:lnTo>
                    <a:lnTo>
                      <a:pt x="2214" y="1272"/>
                    </a:lnTo>
                    <a:lnTo>
                      <a:pt x="2221" y="1263"/>
                    </a:lnTo>
                    <a:lnTo>
                      <a:pt x="2233" y="1258"/>
                    </a:lnTo>
                    <a:lnTo>
                      <a:pt x="2225" y="1268"/>
                    </a:lnTo>
                    <a:lnTo>
                      <a:pt x="2216" y="1278"/>
                    </a:lnTo>
                    <a:lnTo>
                      <a:pt x="2207" y="1289"/>
                    </a:lnTo>
                    <a:lnTo>
                      <a:pt x="2204" y="1302"/>
                    </a:lnTo>
                    <a:lnTo>
                      <a:pt x="2211" y="1298"/>
                    </a:lnTo>
                    <a:lnTo>
                      <a:pt x="2220" y="1294"/>
                    </a:lnTo>
                    <a:lnTo>
                      <a:pt x="2227" y="1291"/>
                    </a:lnTo>
                    <a:lnTo>
                      <a:pt x="2236" y="1298"/>
                    </a:lnTo>
                    <a:lnTo>
                      <a:pt x="2218" y="1307"/>
                    </a:lnTo>
                    <a:lnTo>
                      <a:pt x="2201" y="1318"/>
                    </a:lnTo>
                    <a:lnTo>
                      <a:pt x="2183" y="1327"/>
                    </a:lnTo>
                    <a:lnTo>
                      <a:pt x="2166" y="1337"/>
                    </a:lnTo>
                    <a:lnTo>
                      <a:pt x="2147" y="1345"/>
                    </a:lnTo>
                    <a:lnTo>
                      <a:pt x="2129" y="1355"/>
                    </a:lnTo>
                    <a:lnTo>
                      <a:pt x="2111" y="1365"/>
                    </a:lnTo>
                    <a:lnTo>
                      <a:pt x="2093" y="1377"/>
                    </a:lnTo>
                    <a:lnTo>
                      <a:pt x="2092" y="1387"/>
                    </a:lnTo>
                    <a:lnTo>
                      <a:pt x="2098" y="1396"/>
                    </a:lnTo>
                    <a:lnTo>
                      <a:pt x="2109" y="1393"/>
                    </a:lnTo>
                    <a:lnTo>
                      <a:pt x="2120" y="1391"/>
                    </a:lnTo>
                    <a:lnTo>
                      <a:pt x="2130" y="1387"/>
                    </a:lnTo>
                    <a:lnTo>
                      <a:pt x="2141" y="1387"/>
                    </a:lnTo>
                    <a:lnTo>
                      <a:pt x="2120" y="1402"/>
                    </a:lnTo>
                    <a:lnTo>
                      <a:pt x="2101" y="1419"/>
                    </a:lnTo>
                    <a:lnTo>
                      <a:pt x="2080" y="1436"/>
                    </a:lnTo>
                    <a:lnTo>
                      <a:pt x="2060" y="1453"/>
                    </a:lnTo>
                    <a:lnTo>
                      <a:pt x="2038" y="1469"/>
                    </a:lnTo>
                    <a:lnTo>
                      <a:pt x="2017" y="1485"/>
                    </a:lnTo>
                    <a:lnTo>
                      <a:pt x="1995" y="1499"/>
                    </a:lnTo>
                    <a:lnTo>
                      <a:pt x="1973" y="1513"/>
                    </a:lnTo>
                    <a:lnTo>
                      <a:pt x="1972" y="1523"/>
                    </a:lnTo>
                    <a:lnTo>
                      <a:pt x="1981" y="1532"/>
                    </a:lnTo>
                    <a:lnTo>
                      <a:pt x="1987" y="1529"/>
                    </a:lnTo>
                    <a:lnTo>
                      <a:pt x="1994" y="1528"/>
                    </a:lnTo>
                    <a:lnTo>
                      <a:pt x="2000" y="1526"/>
                    </a:lnTo>
                    <a:lnTo>
                      <a:pt x="2008" y="1523"/>
                    </a:lnTo>
                    <a:lnTo>
                      <a:pt x="2014" y="1520"/>
                    </a:lnTo>
                    <a:lnTo>
                      <a:pt x="2021" y="1518"/>
                    </a:lnTo>
                    <a:lnTo>
                      <a:pt x="2028" y="1516"/>
                    </a:lnTo>
                    <a:lnTo>
                      <a:pt x="2036" y="1516"/>
                    </a:lnTo>
                    <a:lnTo>
                      <a:pt x="2037" y="1522"/>
                    </a:lnTo>
                    <a:lnTo>
                      <a:pt x="2037" y="1529"/>
                    </a:lnTo>
                    <a:lnTo>
                      <a:pt x="2033" y="1536"/>
                    </a:lnTo>
                    <a:lnTo>
                      <a:pt x="2031" y="1543"/>
                    </a:lnTo>
                    <a:lnTo>
                      <a:pt x="2025" y="1547"/>
                    </a:lnTo>
                    <a:lnTo>
                      <a:pt x="2020" y="1551"/>
                    </a:lnTo>
                    <a:lnTo>
                      <a:pt x="2015" y="1556"/>
                    </a:lnTo>
                    <a:lnTo>
                      <a:pt x="2013" y="1561"/>
                    </a:lnTo>
                    <a:lnTo>
                      <a:pt x="2015" y="1565"/>
                    </a:lnTo>
                    <a:lnTo>
                      <a:pt x="2019" y="1570"/>
                    </a:lnTo>
                    <a:lnTo>
                      <a:pt x="2021" y="1575"/>
                    </a:lnTo>
                    <a:lnTo>
                      <a:pt x="2020" y="1580"/>
                    </a:lnTo>
                    <a:lnTo>
                      <a:pt x="2003" y="1586"/>
                    </a:lnTo>
                    <a:lnTo>
                      <a:pt x="1987" y="1592"/>
                    </a:lnTo>
                    <a:lnTo>
                      <a:pt x="1971" y="1597"/>
                    </a:lnTo>
                    <a:lnTo>
                      <a:pt x="1955" y="1603"/>
                    </a:lnTo>
                    <a:lnTo>
                      <a:pt x="1938" y="1608"/>
                    </a:lnTo>
                    <a:lnTo>
                      <a:pt x="1922" y="1615"/>
                    </a:lnTo>
                    <a:lnTo>
                      <a:pt x="1905" y="1623"/>
                    </a:lnTo>
                    <a:lnTo>
                      <a:pt x="1889" y="1634"/>
                    </a:lnTo>
                    <a:lnTo>
                      <a:pt x="1889" y="1641"/>
                    </a:lnTo>
                    <a:lnTo>
                      <a:pt x="1896" y="1650"/>
                    </a:lnTo>
                    <a:lnTo>
                      <a:pt x="1908" y="1650"/>
                    </a:lnTo>
                    <a:lnTo>
                      <a:pt x="1922" y="1646"/>
                    </a:lnTo>
                    <a:lnTo>
                      <a:pt x="1928" y="1643"/>
                    </a:lnTo>
                    <a:lnTo>
                      <a:pt x="1934" y="1642"/>
                    </a:lnTo>
                    <a:lnTo>
                      <a:pt x="1941" y="1640"/>
                    </a:lnTo>
                    <a:lnTo>
                      <a:pt x="1949" y="1640"/>
                    </a:lnTo>
                    <a:lnTo>
                      <a:pt x="2004" y="1631"/>
                    </a:lnTo>
                    <a:lnTo>
                      <a:pt x="2004" y="1637"/>
                    </a:lnTo>
                    <a:lnTo>
                      <a:pt x="1987" y="1645"/>
                    </a:lnTo>
                    <a:lnTo>
                      <a:pt x="1971" y="1652"/>
                    </a:lnTo>
                    <a:lnTo>
                      <a:pt x="1954" y="1658"/>
                    </a:lnTo>
                    <a:lnTo>
                      <a:pt x="1938" y="1666"/>
                    </a:lnTo>
                    <a:lnTo>
                      <a:pt x="1921" y="1670"/>
                    </a:lnTo>
                    <a:lnTo>
                      <a:pt x="1905" y="1678"/>
                    </a:lnTo>
                    <a:lnTo>
                      <a:pt x="1888" y="1683"/>
                    </a:lnTo>
                    <a:lnTo>
                      <a:pt x="1873" y="1690"/>
                    </a:lnTo>
                    <a:lnTo>
                      <a:pt x="1872" y="1697"/>
                    </a:lnTo>
                    <a:lnTo>
                      <a:pt x="1878" y="1707"/>
                    </a:lnTo>
                    <a:lnTo>
                      <a:pt x="1916" y="1707"/>
                    </a:lnTo>
                    <a:lnTo>
                      <a:pt x="1918" y="1711"/>
                    </a:lnTo>
                    <a:lnTo>
                      <a:pt x="1917" y="1717"/>
                    </a:lnTo>
                    <a:lnTo>
                      <a:pt x="1912" y="1721"/>
                    </a:lnTo>
                    <a:lnTo>
                      <a:pt x="1907" y="1723"/>
                    </a:lnTo>
                    <a:lnTo>
                      <a:pt x="1885" y="1726"/>
                    </a:lnTo>
                    <a:lnTo>
                      <a:pt x="1863" y="1729"/>
                    </a:lnTo>
                    <a:lnTo>
                      <a:pt x="1841" y="1733"/>
                    </a:lnTo>
                    <a:lnTo>
                      <a:pt x="1820" y="1737"/>
                    </a:lnTo>
                    <a:lnTo>
                      <a:pt x="1798" y="1740"/>
                    </a:lnTo>
                    <a:lnTo>
                      <a:pt x="1776" y="1746"/>
                    </a:lnTo>
                    <a:lnTo>
                      <a:pt x="1755" y="1753"/>
                    </a:lnTo>
                    <a:lnTo>
                      <a:pt x="1737" y="1764"/>
                    </a:lnTo>
                    <a:lnTo>
                      <a:pt x="1724" y="1769"/>
                    </a:lnTo>
                    <a:lnTo>
                      <a:pt x="1712" y="1775"/>
                    </a:lnTo>
                    <a:lnTo>
                      <a:pt x="1700" y="1781"/>
                    </a:lnTo>
                    <a:lnTo>
                      <a:pt x="1689" y="1789"/>
                    </a:lnTo>
                    <a:lnTo>
                      <a:pt x="1679" y="1778"/>
                    </a:lnTo>
                    <a:lnTo>
                      <a:pt x="1646" y="1792"/>
                    </a:lnTo>
                    <a:lnTo>
                      <a:pt x="1614" y="1804"/>
                    </a:lnTo>
                    <a:lnTo>
                      <a:pt x="1581" y="1813"/>
                    </a:lnTo>
                    <a:lnTo>
                      <a:pt x="1548" y="1820"/>
                    </a:lnTo>
                    <a:lnTo>
                      <a:pt x="1514" y="1821"/>
                    </a:lnTo>
                    <a:lnTo>
                      <a:pt x="1481" y="1820"/>
                    </a:lnTo>
                    <a:lnTo>
                      <a:pt x="1446" y="1811"/>
                    </a:lnTo>
                    <a:lnTo>
                      <a:pt x="1413" y="1799"/>
                    </a:lnTo>
                    <a:lnTo>
                      <a:pt x="1400" y="1802"/>
                    </a:lnTo>
                    <a:lnTo>
                      <a:pt x="1387" y="1807"/>
                    </a:lnTo>
                    <a:lnTo>
                      <a:pt x="1374" y="1813"/>
                    </a:lnTo>
                    <a:lnTo>
                      <a:pt x="1363" y="1820"/>
                    </a:lnTo>
                    <a:lnTo>
                      <a:pt x="1349" y="1825"/>
                    </a:lnTo>
                    <a:lnTo>
                      <a:pt x="1337" y="1830"/>
                    </a:lnTo>
                    <a:lnTo>
                      <a:pt x="1324" y="1834"/>
                    </a:lnTo>
                    <a:lnTo>
                      <a:pt x="1311" y="1834"/>
                    </a:lnTo>
                    <a:lnTo>
                      <a:pt x="1276" y="1823"/>
                    </a:lnTo>
                    <a:lnTo>
                      <a:pt x="1244" y="1819"/>
                    </a:lnTo>
                    <a:lnTo>
                      <a:pt x="1211" y="1821"/>
                    </a:lnTo>
                    <a:lnTo>
                      <a:pt x="1181" y="1829"/>
                    </a:lnTo>
                    <a:lnTo>
                      <a:pt x="1151" y="1838"/>
                    </a:lnTo>
                    <a:lnTo>
                      <a:pt x="1121" y="1852"/>
                    </a:lnTo>
                    <a:lnTo>
                      <a:pt x="1093" y="1868"/>
                    </a:lnTo>
                    <a:lnTo>
                      <a:pt x="1066" y="1886"/>
                    </a:lnTo>
                    <a:lnTo>
                      <a:pt x="1026" y="1907"/>
                    </a:lnTo>
                    <a:lnTo>
                      <a:pt x="989" y="1933"/>
                    </a:lnTo>
                    <a:lnTo>
                      <a:pt x="954" y="1960"/>
                    </a:lnTo>
                    <a:lnTo>
                      <a:pt x="922" y="1992"/>
                    </a:lnTo>
                    <a:lnTo>
                      <a:pt x="889" y="2022"/>
                    </a:lnTo>
                    <a:lnTo>
                      <a:pt x="857" y="2054"/>
                    </a:lnTo>
                    <a:lnTo>
                      <a:pt x="825" y="2085"/>
                    </a:lnTo>
                    <a:lnTo>
                      <a:pt x="793" y="2116"/>
                    </a:lnTo>
                    <a:lnTo>
                      <a:pt x="781" y="2125"/>
                    </a:lnTo>
                    <a:lnTo>
                      <a:pt x="773" y="2138"/>
                    </a:lnTo>
                    <a:lnTo>
                      <a:pt x="765" y="2150"/>
                    </a:lnTo>
                    <a:lnTo>
                      <a:pt x="757" y="2164"/>
                    </a:lnTo>
                    <a:lnTo>
                      <a:pt x="748" y="2175"/>
                    </a:lnTo>
                    <a:lnTo>
                      <a:pt x="738" y="2186"/>
                    </a:lnTo>
                    <a:lnTo>
                      <a:pt x="727" y="2194"/>
                    </a:lnTo>
                    <a:lnTo>
                      <a:pt x="712" y="2202"/>
                    </a:lnTo>
                    <a:lnTo>
                      <a:pt x="697" y="2216"/>
                    </a:lnTo>
                    <a:lnTo>
                      <a:pt x="683" y="2231"/>
                    </a:lnTo>
                    <a:lnTo>
                      <a:pt x="668" y="2246"/>
                    </a:lnTo>
                    <a:lnTo>
                      <a:pt x="654" y="2260"/>
                    </a:lnTo>
                    <a:lnTo>
                      <a:pt x="639" y="2274"/>
                    </a:lnTo>
                    <a:lnTo>
                      <a:pt x="624" y="2287"/>
                    </a:lnTo>
                    <a:lnTo>
                      <a:pt x="608" y="2301"/>
                    </a:lnTo>
                    <a:lnTo>
                      <a:pt x="592" y="2316"/>
                    </a:lnTo>
                    <a:lnTo>
                      <a:pt x="583" y="2329"/>
                    </a:lnTo>
                    <a:lnTo>
                      <a:pt x="575" y="2343"/>
                    </a:lnTo>
                    <a:lnTo>
                      <a:pt x="564" y="2355"/>
                    </a:lnTo>
                    <a:lnTo>
                      <a:pt x="554" y="2367"/>
                    </a:lnTo>
                    <a:lnTo>
                      <a:pt x="543" y="2378"/>
                    </a:lnTo>
                    <a:lnTo>
                      <a:pt x="533" y="2392"/>
                    </a:lnTo>
                    <a:lnTo>
                      <a:pt x="525" y="2405"/>
                    </a:lnTo>
                    <a:lnTo>
                      <a:pt x="517" y="2420"/>
                    </a:lnTo>
                    <a:lnTo>
                      <a:pt x="507" y="2426"/>
                    </a:lnTo>
                    <a:lnTo>
                      <a:pt x="501" y="2437"/>
                    </a:lnTo>
                    <a:lnTo>
                      <a:pt x="496" y="2448"/>
                    </a:lnTo>
                    <a:lnTo>
                      <a:pt x="491" y="2462"/>
                    </a:lnTo>
                    <a:lnTo>
                      <a:pt x="478" y="2475"/>
                    </a:lnTo>
                    <a:lnTo>
                      <a:pt x="467" y="2489"/>
                    </a:lnTo>
                    <a:lnTo>
                      <a:pt x="453" y="2503"/>
                    </a:lnTo>
                    <a:lnTo>
                      <a:pt x="442" y="2518"/>
                    </a:lnTo>
                    <a:lnTo>
                      <a:pt x="431" y="2533"/>
                    </a:lnTo>
                    <a:lnTo>
                      <a:pt x="420" y="2549"/>
                    </a:lnTo>
                    <a:lnTo>
                      <a:pt x="409" y="2565"/>
                    </a:lnTo>
                    <a:lnTo>
                      <a:pt x="402" y="2583"/>
                    </a:lnTo>
                    <a:lnTo>
                      <a:pt x="387" y="2603"/>
                    </a:lnTo>
                    <a:lnTo>
                      <a:pt x="374" y="2623"/>
                    </a:lnTo>
                    <a:lnTo>
                      <a:pt x="360" y="2644"/>
                    </a:lnTo>
                    <a:lnTo>
                      <a:pt x="349" y="2666"/>
                    </a:lnTo>
                    <a:lnTo>
                      <a:pt x="337" y="2688"/>
                    </a:lnTo>
                    <a:lnTo>
                      <a:pt x="327" y="2712"/>
                    </a:lnTo>
                    <a:lnTo>
                      <a:pt x="317" y="2736"/>
                    </a:lnTo>
                    <a:lnTo>
                      <a:pt x="310" y="2762"/>
                    </a:lnTo>
                    <a:lnTo>
                      <a:pt x="303" y="2766"/>
                    </a:lnTo>
                    <a:lnTo>
                      <a:pt x="300" y="2773"/>
                    </a:lnTo>
                    <a:lnTo>
                      <a:pt x="298" y="2780"/>
                    </a:lnTo>
                    <a:lnTo>
                      <a:pt x="297" y="2788"/>
                    </a:lnTo>
                    <a:lnTo>
                      <a:pt x="288" y="2794"/>
                    </a:lnTo>
                    <a:lnTo>
                      <a:pt x="282" y="2804"/>
                    </a:lnTo>
                    <a:lnTo>
                      <a:pt x="277" y="2812"/>
                    </a:lnTo>
                    <a:lnTo>
                      <a:pt x="273" y="2823"/>
                    </a:lnTo>
                    <a:lnTo>
                      <a:pt x="268" y="2832"/>
                    </a:lnTo>
                    <a:lnTo>
                      <a:pt x="263" y="2842"/>
                    </a:lnTo>
                    <a:lnTo>
                      <a:pt x="259" y="2850"/>
                    </a:lnTo>
                    <a:lnTo>
                      <a:pt x="252" y="2859"/>
                    </a:lnTo>
                    <a:lnTo>
                      <a:pt x="249" y="2872"/>
                    </a:lnTo>
                    <a:lnTo>
                      <a:pt x="245" y="2886"/>
                    </a:lnTo>
                    <a:lnTo>
                      <a:pt x="239" y="2898"/>
                    </a:lnTo>
                    <a:lnTo>
                      <a:pt x="233" y="2910"/>
                    </a:lnTo>
                    <a:lnTo>
                      <a:pt x="225" y="2921"/>
                    </a:lnTo>
                    <a:lnTo>
                      <a:pt x="219" y="2933"/>
                    </a:lnTo>
                    <a:lnTo>
                      <a:pt x="213" y="2945"/>
                    </a:lnTo>
                    <a:lnTo>
                      <a:pt x="211" y="2960"/>
                    </a:lnTo>
                    <a:lnTo>
                      <a:pt x="214" y="2935"/>
                    </a:lnTo>
                    <a:lnTo>
                      <a:pt x="218" y="2913"/>
                    </a:lnTo>
                    <a:lnTo>
                      <a:pt x="222" y="2890"/>
                    </a:lnTo>
                    <a:lnTo>
                      <a:pt x="229" y="2868"/>
                    </a:lnTo>
                    <a:lnTo>
                      <a:pt x="235" y="2845"/>
                    </a:lnTo>
                    <a:lnTo>
                      <a:pt x="244" y="2825"/>
                    </a:lnTo>
                    <a:lnTo>
                      <a:pt x="252" y="2804"/>
                    </a:lnTo>
                    <a:lnTo>
                      <a:pt x="263" y="2785"/>
                    </a:lnTo>
                    <a:lnTo>
                      <a:pt x="272" y="2756"/>
                    </a:lnTo>
                    <a:lnTo>
                      <a:pt x="284" y="2729"/>
                    </a:lnTo>
                    <a:lnTo>
                      <a:pt x="295" y="2702"/>
                    </a:lnTo>
                    <a:lnTo>
                      <a:pt x="309" y="2676"/>
                    </a:lnTo>
                    <a:lnTo>
                      <a:pt x="321" y="2650"/>
                    </a:lnTo>
                    <a:lnTo>
                      <a:pt x="335" y="2625"/>
                    </a:lnTo>
                    <a:lnTo>
                      <a:pt x="348" y="2600"/>
                    </a:lnTo>
                    <a:lnTo>
                      <a:pt x="363" y="2576"/>
                    </a:lnTo>
                    <a:lnTo>
                      <a:pt x="374" y="2554"/>
                    </a:lnTo>
                    <a:lnTo>
                      <a:pt x="386" y="2534"/>
                    </a:lnTo>
                    <a:lnTo>
                      <a:pt x="398" y="2514"/>
                    </a:lnTo>
                    <a:lnTo>
                      <a:pt x="412" y="2496"/>
                    </a:lnTo>
                    <a:lnTo>
                      <a:pt x="425" y="2476"/>
                    </a:lnTo>
                    <a:lnTo>
                      <a:pt x="439" y="2458"/>
                    </a:lnTo>
                    <a:lnTo>
                      <a:pt x="452" y="2438"/>
                    </a:lnTo>
                    <a:lnTo>
                      <a:pt x="466" y="2420"/>
                    </a:lnTo>
                    <a:lnTo>
                      <a:pt x="478" y="2411"/>
                    </a:lnTo>
                    <a:lnTo>
                      <a:pt x="488" y="2401"/>
                    </a:lnTo>
                    <a:lnTo>
                      <a:pt x="494" y="2389"/>
                    </a:lnTo>
                    <a:lnTo>
                      <a:pt x="500" y="2378"/>
                    </a:lnTo>
                    <a:lnTo>
                      <a:pt x="505" y="2365"/>
                    </a:lnTo>
                    <a:lnTo>
                      <a:pt x="513" y="2354"/>
                    </a:lnTo>
                    <a:lnTo>
                      <a:pt x="523" y="2344"/>
                    </a:lnTo>
                    <a:lnTo>
                      <a:pt x="539" y="2339"/>
                    </a:lnTo>
                    <a:lnTo>
                      <a:pt x="548" y="2316"/>
                    </a:lnTo>
                    <a:lnTo>
                      <a:pt x="560" y="2294"/>
                    </a:lnTo>
                    <a:lnTo>
                      <a:pt x="571" y="2271"/>
                    </a:lnTo>
                    <a:lnTo>
                      <a:pt x="586" y="2251"/>
                    </a:lnTo>
                    <a:lnTo>
                      <a:pt x="599" y="2230"/>
                    </a:lnTo>
                    <a:lnTo>
                      <a:pt x="614" y="2210"/>
                    </a:lnTo>
                    <a:lnTo>
                      <a:pt x="630" y="2192"/>
                    </a:lnTo>
                    <a:lnTo>
                      <a:pt x="647" y="2173"/>
                    </a:lnTo>
                    <a:lnTo>
                      <a:pt x="663" y="2156"/>
                    </a:lnTo>
                    <a:lnTo>
                      <a:pt x="680" y="2139"/>
                    </a:lnTo>
                    <a:lnTo>
                      <a:pt x="696" y="2122"/>
                    </a:lnTo>
                    <a:lnTo>
                      <a:pt x="713" y="2105"/>
                    </a:lnTo>
                    <a:lnTo>
                      <a:pt x="729" y="2087"/>
                    </a:lnTo>
                    <a:lnTo>
                      <a:pt x="748" y="2072"/>
                    </a:lnTo>
                    <a:lnTo>
                      <a:pt x="765" y="2056"/>
                    </a:lnTo>
                    <a:lnTo>
                      <a:pt x="786" y="2042"/>
                    </a:lnTo>
                    <a:lnTo>
                      <a:pt x="786" y="2036"/>
                    </a:lnTo>
                    <a:lnTo>
                      <a:pt x="817" y="2010"/>
                    </a:lnTo>
                    <a:lnTo>
                      <a:pt x="849" y="1984"/>
                    </a:lnTo>
                    <a:lnTo>
                      <a:pt x="880" y="1959"/>
                    </a:lnTo>
                    <a:lnTo>
                      <a:pt x="912" y="1933"/>
                    </a:lnTo>
                    <a:lnTo>
                      <a:pt x="941" y="1906"/>
                    </a:lnTo>
                    <a:lnTo>
                      <a:pt x="973" y="1880"/>
                    </a:lnTo>
                    <a:lnTo>
                      <a:pt x="1004" y="1854"/>
                    </a:lnTo>
                    <a:lnTo>
                      <a:pt x="1038" y="1831"/>
                    </a:lnTo>
                    <a:lnTo>
                      <a:pt x="1063" y="1825"/>
                    </a:lnTo>
                    <a:lnTo>
                      <a:pt x="1086" y="1815"/>
                    </a:lnTo>
                    <a:lnTo>
                      <a:pt x="1107" y="1802"/>
                    </a:lnTo>
                    <a:lnTo>
                      <a:pt x="1128" y="1787"/>
                    </a:lnTo>
                    <a:lnTo>
                      <a:pt x="1146" y="1769"/>
                    </a:lnTo>
                    <a:lnTo>
                      <a:pt x="1164" y="1751"/>
                    </a:lnTo>
                    <a:lnTo>
                      <a:pt x="1181" y="1733"/>
                    </a:lnTo>
                    <a:lnTo>
                      <a:pt x="1199" y="1716"/>
                    </a:lnTo>
                    <a:lnTo>
                      <a:pt x="1208" y="1723"/>
                    </a:lnTo>
                    <a:lnTo>
                      <a:pt x="1212" y="1716"/>
                    </a:lnTo>
                    <a:lnTo>
                      <a:pt x="1215" y="1710"/>
                    </a:lnTo>
                    <a:lnTo>
                      <a:pt x="1215" y="1702"/>
                    </a:lnTo>
                    <a:lnTo>
                      <a:pt x="1216" y="1697"/>
                    </a:lnTo>
                    <a:lnTo>
                      <a:pt x="1217" y="1683"/>
                    </a:lnTo>
                    <a:lnTo>
                      <a:pt x="1218" y="1668"/>
                    </a:lnTo>
                    <a:lnTo>
                      <a:pt x="1219" y="1653"/>
                    </a:lnTo>
                    <a:lnTo>
                      <a:pt x="1222" y="1639"/>
                    </a:lnTo>
                    <a:lnTo>
                      <a:pt x="1223" y="1624"/>
                    </a:lnTo>
                    <a:lnTo>
                      <a:pt x="1228" y="1609"/>
                    </a:lnTo>
                    <a:lnTo>
                      <a:pt x="1233" y="1596"/>
                    </a:lnTo>
                    <a:lnTo>
                      <a:pt x="1243" y="1585"/>
                    </a:lnTo>
                    <a:lnTo>
                      <a:pt x="1246" y="1574"/>
                    </a:lnTo>
                    <a:lnTo>
                      <a:pt x="1250" y="1564"/>
                    </a:lnTo>
                    <a:lnTo>
                      <a:pt x="1254" y="1553"/>
                    </a:lnTo>
                    <a:lnTo>
                      <a:pt x="1259" y="1542"/>
                    </a:lnTo>
                    <a:lnTo>
                      <a:pt x="1261" y="1529"/>
                    </a:lnTo>
                    <a:lnTo>
                      <a:pt x="1265" y="1517"/>
                    </a:lnTo>
                    <a:lnTo>
                      <a:pt x="1269" y="1506"/>
                    </a:lnTo>
                    <a:lnTo>
                      <a:pt x="1272" y="1495"/>
                    </a:lnTo>
                    <a:lnTo>
                      <a:pt x="1282" y="1495"/>
                    </a:lnTo>
                    <a:lnTo>
                      <a:pt x="1288" y="1502"/>
                    </a:lnTo>
                    <a:lnTo>
                      <a:pt x="1293" y="1507"/>
                    </a:lnTo>
                    <a:lnTo>
                      <a:pt x="1303" y="1505"/>
                    </a:lnTo>
                    <a:lnTo>
                      <a:pt x="1319" y="1348"/>
                    </a:lnTo>
                    <a:lnTo>
                      <a:pt x="1314" y="1341"/>
                    </a:lnTo>
                    <a:lnTo>
                      <a:pt x="1305" y="1347"/>
                    </a:lnTo>
                    <a:lnTo>
                      <a:pt x="1299" y="1355"/>
                    </a:lnTo>
                    <a:lnTo>
                      <a:pt x="1293" y="1365"/>
                    </a:lnTo>
                    <a:lnTo>
                      <a:pt x="1289" y="1375"/>
                    </a:lnTo>
                    <a:lnTo>
                      <a:pt x="1284" y="1385"/>
                    </a:lnTo>
                    <a:lnTo>
                      <a:pt x="1281" y="1394"/>
                    </a:lnTo>
                    <a:lnTo>
                      <a:pt x="1276" y="1404"/>
                    </a:lnTo>
                    <a:lnTo>
                      <a:pt x="1271" y="1414"/>
                    </a:lnTo>
                    <a:lnTo>
                      <a:pt x="1255" y="1423"/>
                    </a:lnTo>
                    <a:lnTo>
                      <a:pt x="1239" y="1431"/>
                    </a:lnTo>
                    <a:lnTo>
                      <a:pt x="1222" y="1439"/>
                    </a:lnTo>
                    <a:lnTo>
                      <a:pt x="1206" y="1447"/>
                    </a:lnTo>
                    <a:lnTo>
                      <a:pt x="1189" y="1453"/>
                    </a:lnTo>
                    <a:lnTo>
                      <a:pt x="1172" y="1461"/>
                    </a:lnTo>
                    <a:lnTo>
                      <a:pt x="1155" y="1467"/>
                    </a:lnTo>
                    <a:lnTo>
                      <a:pt x="1140" y="1474"/>
                    </a:lnTo>
                    <a:lnTo>
                      <a:pt x="1126" y="1477"/>
                    </a:lnTo>
                    <a:lnTo>
                      <a:pt x="1114" y="1480"/>
                    </a:lnTo>
                    <a:lnTo>
                      <a:pt x="1103" y="1485"/>
                    </a:lnTo>
                    <a:lnTo>
                      <a:pt x="1092" y="1490"/>
                    </a:lnTo>
                    <a:lnTo>
                      <a:pt x="1080" y="1495"/>
                    </a:lnTo>
                    <a:lnTo>
                      <a:pt x="1069" y="1500"/>
                    </a:lnTo>
                    <a:lnTo>
                      <a:pt x="1056" y="1505"/>
                    </a:lnTo>
                    <a:lnTo>
                      <a:pt x="1045" y="1511"/>
                    </a:lnTo>
                    <a:lnTo>
                      <a:pt x="1045" y="1523"/>
                    </a:lnTo>
                    <a:lnTo>
                      <a:pt x="1044" y="1536"/>
                    </a:lnTo>
                    <a:lnTo>
                      <a:pt x="1041" y="1547"/>
                    </a:lnTo>
                    <a:lnTo>
                      <a:pt x="1037" y="1559"/>
                    </a:lnTo>
                    <a:lnTo>
                      <a:pt x="1030" y="1570"/>
                    </a:lnTo>
                    <a:lnTo>
                      <a:pt x="1023" y="1581"/>
                    </a:lnTo>
                    <a:lnTo>
                      <a:pt x="1017" y="1592"/>
                    </a:lnTo>
                    <a:lnTo>
                      <a:pt x="1011" y="1603"/>
                    </a:lnTo>
                    <a:lnTo>
                      <a:pt x="999" y="1608"/>
                    </a:lnTo>
                    <a:lnTo>
                      <a:pt x="988" y="1615"/>
                    </a:lnTo>
                    <a:lnTo>
                      <a:pt x="977" y="1621"/>
                    </a:lnTo>
                    <a:lnTo>
                      <a:pt x="966" y="1628"/>
                    </a:lnTo>
                    <a:lnTo>
                      <a:pt x="954" y="1631"/>
                    </a:lnTo>
                    <a:lnTo>
                      <a:pt x="942" y="1636"/>
                    </a:lnTo>
                    <a:lnTo>
                      <a:pt x="930" y="1640"/>
                    </a:lnTo>
                    <a:lnTo>
                      <a:pt x="919" y="1642"/>
                    </a:lnTo>
                    <a:lnTo>
                      <a:pt x="903" y="1647"/>
                    </a:lnTo>
                    <a:lnTo>
                      <a:pt x="889" y="1653"/>
                    </a:lnTo>
                    <a:lnTo>
                      <a:pt x="873" y="1658"/>
                    </a:lnTo>
                    <a:lnTo>
                      <a:pt x="857" y="1664"/>
                    </a:lnTo>
                    <a:lnTo>
                      <a:pt x="841" y="1669"/>
                    </a:lnTo>
                    <a:lnTo>
                      <a:pt x="825" y="1674"/>
                    </a:lnTo>
                    <a:lnTo>
                      <a:pt x="809" y="1679"/>
                    </a:lnTo>
                    <a:lnTo>
                      <a:pt x="794" y="1684"/>
                    </a:lnTo>
                    <a:lnTo>
                      <a:pt x="777" y="1691"/>
                    </a:lnTo>
                    <a:lnTo>
                      <a:pt x="760" y="1700"/>
                    </a:lnTo>
                    <a:lnTo>
                      <a:pt x="743" y="1705"/>
                    </a:lnTo>
                    <a:lnTo>
                      <a:pt x="726" y="1712"/>
                    </a:lnTo>
                    <a:lnTo>
                      <a:pt x="707" y="1718"/>
                    </a:lnTo>
                    <a:lnTo>
                      <a:pt x="692" y="1728"/>
                    </a:lnTo>
                    <a:lnTo>
                      <a:pt x="679" y="1739"/>
                    </a:lnTo>
                    <a:lnTo>
                      <a:pt x="670" y="1755"/>
                    </a:lnTo>
                    <a:lnTo>
                      <a:pt x="652" y="1762"/>
                    </a:lnTo>
                    <a:lnTo>
                      <a:pt x="636" y="1770"/>
                    </a:lnTo>
                    <a:lnTo>
                      <a:pt x="621" y="1777"/>
                    </a:lnTo>
                    <a:lnTo>
                      <a:pt x="607" y="1786"/>
                    </a:lnTo>
                    <a:lnTo>
                      <a:pt x="592" y="1794"/>
                    </a:lnTo>
                    <a:lnTo>
                      <a:pt x="577" y="1805"/>
                    </a:lnTo>
                    <a:lnTo>
                      <a:pt x="564" y="1815"/>
                    </a:lnTo>
                    <a:lnTo>
                      <a:pt x="551" y="1829"/>
                    </a:lnTo>
                    <a:lnTo>
                      <a:pt x="532" y="1843"/>
                    </a:lnTo>
                    <a:lnTo>
                      <a:pt x="516" y="1859"/>
                    </a:lnTo>
                    <a:lnTo>
                      <a:pt x="500" y="1875"/>
                    </a:lnTo>
                    <a:lnTo>
                      <a:pt x="485" y="1894"/>
                    </a:lnTo>
                    <a:lnTo>
                      <a:pt x="471" y="1911"/>
                    </a:lnTo>
                    <a:lnTo>
                      <a:pt x="456" y="1928"/>
                    </a:lnTo>
                    <a:lnTo>
                      <a:pt x="440" y="1945"/>
                    </a:lnTo>
                    <a:lnTo>
                      <a:pt x="425" y="1962"/>
                    </a:lnTo>
                    <a:lnTo>
                      <a:pt x="422" y="1968"/>
                    </a:lnTo>
                    <a:lnTo>
                      <a:pt x="419" y="1975"/>
                    </a:lnTo>
                    <a:lnTo>
                      <a:pt x="414" y="1980"/>
                    </a:lnTo>
                    <a:lnTo>
                      <a:pt x="409" y="1986"/>
                    </a:lnTo>
                    <a:lnTo>
                      <a:pt x="398" y="1995"/>
                    </a:lnTo>
                    <a:lnTo>
                      <a:pt x="388" y="2005"/>
                    </a:lnTo>
                    <a:lnTo>
                      <a:pt x="382" y="2020"/>
                    </a:lnTo>
                    <a:lnTo>
                      <a:pt x="374" y="2033"/>
                    </a:lnTo>
                    <a:lnTo>
                      <a:pt x="363" y="2045"/>
                    </a:lnTo>
                    <a:lnTo>
                      <a:pt x="352" y="2057"/>
                    </a:lnTo>
                    <a:lnTo>
                      <a:pt x="339" y="2068"/>
                    </a:lnTo>
                    <a:lnTo>
                      <a:pt x="330" y="2081"/>
                    </a:lnTo>
                    <a:lnTo>
                      <a:pt x="321" y="2095"/>
                    </a:lnTo>
                    <a:lnTo>
                      <a:pt x="316" y="2112"/>
                    </a:lnTo>
                    <a:lnTo>
                      <a:pt x="310" y="2119"/>
                    </a:lnTo>
                    <a:lnTo>
                      <a:pt x="305" y="2128"/>
                    </a:lnTo>
                    <a:lnTo>
                      <a:pt x="298" y="2137"/>
                    </a:lnTo>
                    <a:lnTo>
                      <a:pt x="294" y="2146"/>
                    </a:lnTo>
                    <a:lnTo>
                      <a:pt x="289" y="2152"/>
                    </a:lnTo>
                    <a:lnTo>
                      <a:pt x="286" y="2160"/>
                    </a:lnTo>
                    <a:lnTo>
                      <a:pt x="282" y="2167"/>
                    </a:lnTo>
                    <a:lnTo>
                      <a:pt x="278" y="2175"/>
                    </a:lnTo>
                    <a:lnTo>
                      <a:pt x="274" y="2182"/>
                    </a:lnTo>
                    <a:lnTo>
                      <a:pt x="271" y="2189"/>
                    </a:lnTo>
                    <a:lnTo>
                      <a:pt x="267" y="2197"/>
                    </a:lnTo>
                    <a:lnTo>
                      <a:pt x="263" y="2205"/>
                    </a:lnTo>
                    <a:lnTo>
                      <a:pt x="256" y="2214"/>
                    </a:lnTo>
                    <a:lnTo>
                      <a:pt x="251" y="2224"/>
                    </a:lnTo>
                    <a:lnTo>
                      <a:pt x="245" y="2235"/>
                    </a:lnTo>
                    <a:lnTo>
                      <a:pt x="241" y="2247"/>
                    </a:lnTo>
                    <a:lnTo>
                      <a:pt x="232" y="2268"/>
                    </a:lnTo>
                    <a:lnTo>
                      <a:pt x="225" y="2289"/>
                    </a:lnTo>
                    <a:lnTo>
                      <a:pt x="218" y="2311"/>
                    </a:lnTo>
                    <a:lnTo>
                      <a:pt x="213" y="2333"/>
                    </a:lnTo>
                    <a:lnTo>
                      <a:pt x="206" y="2355"/>
                    </a:lnTo>
                    <a:lnTo>
                      <a:pt x="201" y="2377"/>
                    </a:lnTo>
                    <a:lnTo>
                      <a:pt x="196" y="2399"/>
                    </a:lnTo>
                    <a:lnTo>
                      <a:pt x="192" y="2425"/>
                    </a:lnTo>
                    <a:lnTo>
                      <a:pt x="163" y="2554"/>
                    </a:lnTo>
                    <a:lnTo>
                      <a:pt x="153" y="2560"/>
                    </a:lnTo>
                    <a:lnTo>
                      <a:pt x="148" y="2569"/>
                    </a:lnTo>
                    <a:lnTo>
                      <a:pt x="145" y="2581"/>
                    </a:lnTo>
                    <a:lnTo>
                      <a:pt x="143" y="2593"/>
                    </a:lnTo>
                    <a:lnTo>
                      <a:pt x="140" y="2604"/>
                    </a:lnTo>
                    <a:lnTo>
                      <a:pt x="138" y="2616"/>
                    </a:lnTo>
                    <a:lnTo>
                      <a:pt x="135" y="2627"/>
                    </a:lnTo>
                    <a:lnTo>
                      <a:pt x="131" y="2638"/>
                    </a:lnTo>
                    <a:lnTo>
                      <a:pt x="127" y="2665"/>
                    </a:lnTo>
                    <a:lnTo>
                      <a:pt x="122" y="2693"/>
                    </a:lnTo>
                    <a:lnTo>
                      <a:pt x="115" y="2720"/>
                    </a:lnTo>
                    <a:lnTo>
                      <a:pt x="108" y="2747"/>
                    </a:lnTo>
                    <a:lnTo>
                      <a:pt x="99" y="2773"/>
                    </a:lnTo>
                    <a:lnTo>
                      <a:pt x="93" y="2801"/>
                    </a:lnTo>
                    <a:lnTo>
                      <a:pt x="87" y="2829"/>
                    </a:lnTo>
                    <a:lnTo>
                      <a:pt x="84" y="2859"/>
                    </a:lnTo>
                    <a:lnTo>
                      <a:pt x="80" y="2869"/>
                    </a:lnTo>
                    <a:lnTo>
                      <a:pt x="80" y="2880"/>
                    </a:lnTo>
                    <a:lnTo>
                      <a:pt x="80" y="2891"/>
                    </a:lnTo>
                    <a:lnTo>
                      <a:pt x="80" y="2903"/>
                    </a:lnTo>
                    <a:lnTo>
                      <a:pt x="73" y="2920"/>
                    </a:lnTo>
                    <a:lnTo>
                      <a:pt x="70" y="2939"/>
                    </a:lnTo>
                    <a:lnTo>
                      <a:pt x="66" y="2956"/>
                    </a:lnTo>
                    <a:lnTo>
                      <a:pt x="64" y="2974"/>
                    </a:lnTo>
                    <a:lnTo>
                      <a:pt x="59" y="2990"/>
                    </a:lnTo>
                    <a:lnTo>
                      <a:pt x="54" y="3007"/>
                    </a:lnTo>
                    <a:lnTo>
                      <a:pt x="48" y="3023"/>
                    </a:lnTo>
                    <a:lnTo>
                      <a:pt x="40" y="3040"/>
                    </a:lnTo>
                    <a:lnTo>
                      <a:pt x="31" y="3045"/>
                    </a:lnTo>
                    <a:lnTo>
                      <a:pt x="21" y="3049"/>
                    </a:lnTo>
                    <a:lnTo>
                      <a:pt x="10" y="3049"/>
                    </a:lnTo>
                    <a:lnTo>
                      <a:pt x="0" y="3045"/>
                    </a:lnTo>
                    <a:lnTo>
                      <a:pt x="0" y="3037"/>
                    </a:lnTo>
                    <a:lnTo>
                      <a:pt x="5" y="3029"/>
                    </a:lnTo>
                    <a:lnTo>
                      <a:pt x="9" y="3022"/>
                    </a:lnTo>
                    <a:lnTo>
                      <a:pt x="13" y="3015"/>
                    </a:lnTo>
                    <a:lnTo>
                      <a:pt x="13" y="2996"/>
                    </a:lnTo>
                    <a:lnTo>
                      <a:pt x="12" y="2978"/>
                    </a:lnTo>
                    <a:lnTo>
                      <a:pt x="9" y="2961"/>
                    </a:lnTo>
                    <a:lnTo>
                      <a:pt x="7" y="2944"/>
                    </a:lnTo>
                    <a:lnTo>
                      <a:pt x="4" y="2925"/>
                    </a:lnTo>
                    <a:lnTo>
                      <a:pt x="5" y="2907"/>
                    </a:lnTo>
                    <a:lnTo>
                      <a:pt x="6" y="2888"/>
                    </a:lnTo>
                    <a:lnTo>
                      <a:pt x="13" y="2870"/>
                    </a:lnTo>
                    <a:lnTo>
                      <a:pt x="12" y="2852"/>
                    </a:lnTo>
                    <a:lnTo>
                      <a:pt x="13" y="2833"/>
                    </a:lnTo>
                    <a:lnTo>
                      <a:pt x="15" y="2814"/>
                    </a:lnTo>
                    <a:lnTo>
                      <a:pt x="17" y="2795"/>
                    </a:lnTo>
                    <a:lnTo>
                      <a:pt x="18" y="2774"/>
                    </a:lnTo>
                    <a:lnTo>
                      <a:pt x="21" y="2756"/>
                    </a:lnTo>
                    <a:lnTo>
                      <a:pt x="21" y="2736"/>
                    </a:lnTo>
                    <a:lnTo>
                      <a:pt x="22" y="2719"/>
                    </a:lnTo>
                    <a:lnTo>
                      <a:pt x="18" y="2708"/>
                    </a:lnTo>
                    <a:lnTo>
                      <a:pt x="18" y="2698"/>
                    </a:lnTo>
                    <a:lnTo>
                      <a:pt x="21" y="2688"/>
                    </a:lnTo>
                    <a:lnTo>
                      <a:pt x="24" y="2680"/>
                    </a:lnTo>
                    <a:lnTo>
                      <a:pt x="27" y="2670"/>
                    </a:lnTo>
                    <a:lnTo>
                      <a:pt x="31" y="2660"/>
                    </a:lnTo>
                    <a:lnTo>
                      <a:pt x="32" y="2650"/>
                    </a:lnTo>
                    <a:lnTo>
                      <a:pt x="32" y="2641"/>
                    </a:lnTo>
                    <a:lnTo>
                      <a:pt x="32" y="2617"/>
                    </a:lnTo>
                    <a:lnTo>
                      <a:pt x="35" y="2594"/>
                    </a:lnTo>
                    <a:lnTo>
                      <a:pt x="38" y="2571"/>
                    </a:lnTo>
                    <a:lnTo>
                      <a:pt x="43" y="2549"/>
                    </a:lnTo>
                    <a:lnTo>
                      <a:pt x="46" y="2525"/>
                    </a:lnTo>
                    <a:lnTo>
                      <a:pt x="54" y="2503"/>
                    </a:lnTo>
                    <a:lnTo>
                      <a:pt x="60" y="2481"/>
                    </a:lnTo>
                    <a:lnTo>
                      <a:pt x="69" y="2462"/>
                    </a:lnTo>
                    <a:lnTo>
                      <a:pt x="62" y="2447"/>
                    </a:lnTo>
                    <a:lnTo>
                      <a:pt x="64" y="2435"/>
                    </a:lnTo>
                    <a:lnTo>
                      <a:pt x="67" y="2424"/>
                    </a:lnTo>
                    <a:lnTo>
                      <a:pt x="73" y="2412"/>
                    </a:lnTo>
                    <a:lnTo>
                      <a:pt x="78" y="2400"/>
                    </a:lnTo>
                    <a:lnTo>
                      <a:pt x="83" y="2389"/>
                    </a:lnTo>
                    <a:lnTo>
                      <a:pt x="83" y="2377"/>
                    </a:lnTo>
                    <a:lnTo>
                      <a:pt x="80" y="2365"/>
                    </a:lnTo>
                    <a:lnTo>
                      <a:pt x="83" y="2354"/>
                    </a:lnTo>
                    <a:lnTo>
                      <a:pt x="88" y="2345"/>
                    </a:lnTo>
                    <a:lnTo>
                      <a:pt x="91" y="2334"/>
                    </a:lnTo>
                    <a:lnTo>
                      <a:pt x="93" y="2325"/>
                    </a:lnTo>
                    <a:lnTo>
                      <a:pt x="93" y="2316"/>
                    </a:lnTo>
                    <a:lnTo>
                      <a:pt x="96" y="2306"/>
                    </a:lnTo>
                    <a:lnTo>
                      <a:pt x="98" y="2296"/>
                    </a:lnTo>
                    <a:lnTo>
                      <a:pt x="103" y="2286"/>
                    </a:lnTo>
                    <a:lnTo>
                      <a:pt x="107" y="2274"/>
                    </a:lnTo>
                    <a:lnTo>
                      <a:pt x="110" y="2262"/>
                    </a:lnTo>
                    <a:lnTo>
                      <a:pt x="110" y="2254"/>
                    </a:lnTo>
                    <a:lnTo>
                      <a:pt x="111" y="2248"/>
                    </a:lnTo>
                    <a:lnTo>
                      <a:pt x="110" y="2241"/>
                    </a:lnTo>
                    <a:lnTo>
                      <a:pt x="110" y="2236"/>
                    </a:lnTo>
                    <a:lnTo>
                      <a:pt x="142" y="2070"/>
                    </a:lnTo>
                    <a:lnTo>
                      <a:pt x="179" y="1771"/>
                    </a:lnTo>
                    <a:lnTo>
                      <a:pt x="184" y="1759"/>
                    </a:lnTo>
                    <a:lnTo>
                      <a:pt x="185" y="1746"/>
                    </a:lnTo>
                    <a:lnTo>
                      <a:pt x="186" y="1733"/>
                    </a:lnTo>
                    <a:lnTo>
                      <a:pt x="192" y="1723"/>
                    </a:lnTo>
                    <a:lnTo>
                      <a:pt x="190" y="1715"/>
                    </a:lnTo>
                    <a:lnTo>
                      <a:pt x="191" y="1707"/>
                    </a:lnTo>
                    <a:lnTo>
                      <a:pt x="192" y="1700"/>
                    </a:lnTo>
                    <a:lnTo>
                      <a:pt x="196" y="1694"/>
                    </a:lnTo>
                    <a:lnTo>
                      <a:pt x="198" y="1686"/>
                    </a:lnTo>
                    <a:lnTo>
                      <a:pt x="201" y="1679"/>
                    </a:lnTo>
                    <a:lnTo>
                      <a:pt x="201" y="1672"/>
                    </a:lnTo>
                    <a:lnTo>
                      <a:pt x="202" y="1666"/>
                    </a:lnTo>
                    <a:lnTo>
                      <a:pt x="206" y="1656"/>
                    </a:lnTo>
                    <a:lnTo>
                      <a:pt x="206" y="1646"/>
                    </a:lnTo>
                    <a:lnTo>
                      <a:pt x="206" y="1636"/>
                    </a:lnTo>
                    <a:lnTo>
                      <a:pt x="213" y="1631"/>
                    </a:lnTo>
                    <a:lnTo>
                      <a:pt x="228" y="1585"/>
                    </a:lnTo>
                    <a:lnTo>
                      <a:pt x="243" y="1538"/>
                    </a:lnTo>
                    <a:lnTo>
                      <a:pt x="257" y="1491"/>
                    </a:lnTo>
                    <a:lnTo>
                      <a:pt x="273" y="1446"/>
                    </a:lnTo>
                    <a:lnTo>
                      <a:pt x="288" y="1399"/>
                    </a:lnTo>
                    <a:lnTo>
                      <a:pt x="303" y="1354"/>
                    </a:lnTo>
                    <a:lnTo>
                      <a:pt x="319" y="1309"/>
                    </a:lnTo>
                    <a:lnTo>
                      <a:pt x="337" y="1266"/>
                    </a:lnTo>
                    <a:lnTo>
                      <a:pt x="344" y="1245"/>
                    </a:lnTo>
                    <a:lnTo>
                      <a:pt x="352" y="1224"/>
                    </a:lnTo>
                    <a:lnTo>
                      <a:pt x="358" y="1202"/>
                    </a:lnTo>
                    <a:lnTo>
                      <a:pt x="364" y="1181"/>
                    </a:lnTo>
                    <a:lnTo>
                      <a:pt x="368" y="1159"/>
                    </a:lnTo>
                    <a:lnTo>
                      <a:pt x="371" y="1138"/>
                    </a:lnTo>
                    <a:lnTo>
                      <a:pt x="374" y="1116"/>
                    </a:lnTo>
                    <a:lnTo>
                      <a:pt x="376" y="1095"/>
                    </a:lnTo>
                    <a:lnTo>
                      <a:pt x="379" y="1088"/>
                    </a:lnTo>
                    <a:lnTo>
                      <a:pt x="382" y="1082"/>
                    </a:lnTo>
                    <a:lnTo>
                      <a:pt x="385" y="1074"/>
                    </a:lnTo>
                    <a:lnTo>
                      <a:pt x="388" y="1068"/>
                    </a:lnTo>
                    <a:lnTo>
                      <a:pt x="390" y="1060"/>
                    </a:lnTo>
                    <a:lnTo>
                      <a:pt x="391" y="1052"/>
                    </a:lnTo>
                    <a:lnTo>
                      <a:pt x="390" y="1045"/>
                    </a:lnTo>
                    <a:lnTo>
                      <a:pt x="390" y="1038"/>
                    </a:lnTo>
                    <a:lnTo>
                      <a:pt x="395" y="1028"/>
                    </a:lnTo>
                    <a:lnTo>
                      <a:pt x="395" y="1018"/>
                    </a:lnTo>
                    <a:lnTo>
                      <a:pt x="390" y="1008"/>
                    </a:lnTo>
                    <a:lnTo>
                      <a:pt x="388" y="998"/>
                    </a:lnTo>
                    <a:lnTo>
                      <a:pt x="387" y="987"/>
                    </a:lnTo>
                    <a:lnTo>
                      <a:pt x="386" y="976"/>
                    </a:lnTo>
                    <a:lnTo>
                      <a:pt x="382" y="965"/>
                    </a:lnTo>
                    <a:lnTo>
                      <a:pt x="380" y="955"/>
                    </a:lnTo>
                    <a:lnTo>
                      <a:pt x="376" y="944"/>
                    </a:lnTo>
                    <a:lnTo>
                      <a:pt x="375" y="935"/>
                    </a:lnTo>
                    <a:lnTo>
                      <a:pt x="375" y="924"/>
                    </a:lnTo>
                    <a:lnTo>
                      <a:pt x="379" y="914"/>
                    </a:lnTo>
                    <a:lnTo>
                      <a:pt x="376" y="894"/>
                    </a:lnTo>
                    <a:lnTo>
                      <a:pt x="375" y="876"/>
                    </a:lnTo>
                    <a:lnTo>
                      <a:pt x="374" y="857"/>
                    </a:lnTo>
                    <a:lnTo>
                      <a:pt x="374" y="840"/>
                    </a:lnTo>
                    <a:lnTo>
                      <a:pt x="373" y="822"/>
                    </a:lnTo>
                    <a:lnTo>
                      <a:pt x="373" y="805"/>
                    </a:lnTo>
                    <a:lnTo>
                      <a:pt x="374" y="786"/>
                    </a:lnTo>
                    <a:lnTo>
                      <a:pt x="376" y="769"/>
                    </a:lnTo>
                    <a:lnTo>
                      <a:pt x="376" y="762"/>
                    </a:lnTo>
                    <a:lnTo>
                      <a:pt x="376" y="754"/>
                    </a:lnTo>
                    <a:lnTo>
                      <a:pt x="374" y="747"/>
                    </a:lnTo>
                    <a:lnTo>
                      <a:pt x="373" y="740"/>
                    </a:lnTo>
                    <a:lnTo>
                      <a:pt x="371" y="732"/>
                    </a:lnTo>
                    <a:lnTo>
                      <a:pt x="374" y="728"/>
                    </a:lnTo>
                    <a:lnTo>
                      <a:pt x="379" y="727"/>
                    </a:lnTo>
                    <a:lnTo>
                      <a:pt x="390" y="730"/>
                    </a:lnTo>
                    <a:lnTo>
                      <a:pt x="393" y="738"/>
                    </a:lnTo>
                    <a:lnTo>
                      <a:pt x="396" y="748"/>
                    </a:lnTo>
                    <a:lnTo>
                      <a:pt x="397" y="758"/>
                    </a:lnTo>
                    <a:lnTo>
                      <a:pt x="400" y="769"/>
                    </a:lnTo>
                    <a:lnTo>
                      <a:pt x="401" y="778"/>
                    </a:lnTo>
                    <a:lnTo>
                      <a:pt x="403" y="787"/>
                    </a:lnTo>
                    <a:lnTo>
                      <a:pt x="406" y="796"/>
                    </a:lnTo>
                    <a:lnTo>
                      <a:pt x="411" y="806"/>
                    </a:lnTo>
                    <a:lnTo>
                      <a:pt x="413" y="795"/>
                    </a:lnTo>
                    <a:lnTo>
                      <a:pt x="412" y="784"/>
                    </a:lnTo>
                    <a:lnTo>
                      <a:pt x="409" y="773"/>
                    </a:lnTo>
                    <a:lnTo>
                      <a:pt x="411" y="762"/>
                    </a:lnTo>
                    <a:lnTo>
                      <a:pt x="406" y="754"/>
                    </a:lnTo>
                    <a:lnTo>
                      <a:pt x="404" y="747"/>
                    </a:lnTo>
                    <a:lnTo>
                      <a:pt x="403" y="740"/>
                    </a:lnTo>
                    <a:lnTo>
                      <a:pt x="403" y="732"/>
                    </a:lnTo>
                    <a:lnTo>
                      <a:pt x="403" y="724"/>
                    </a:lnTo>
                    <a:lnTo>
                      <a:pt x="403" y="716"/>
                    </a:lnTo>
                    <a:lnTo>
                      <a:pt x="402" y="709"/>
                    </a:lnTo>
                    <a:lnTo>
                      <a:pt x="402" y="702"/>
                    </a:lnTo>
                    <a:lnTo>
                      <a:pt x="397" y="690"/>
                    </a:lnTo>
                    <a:lnTo>
                      <a:pt x="396" y="681"/>
                    </a:lnTo>
                    <a:lnTo>
                      <a:pt x="395" y="671"/>
                    </a:lnTo>
                    <a:lnTo>
                      <a:pt x="396" y="661"/>
                    </a:lnTo>
                    <a:lnTo>
                      <a:pt x="396" y="650"/>
                    </a:lnTo>
                    <a:lnTo>
                      <a:pt x="396" y="639"/>
                    </a:lnTo>
                    <a:lnTo>
                      <a:pt x="396" y="629"/>
                    </a:lnTo>
                    <a:lnTo>
                      <a:pt x="397" y="619"/>
                    </a:lnTo>
                    <a:lnTo>
                      <a:pt x="406" y="614"/>
                    </a:lnTo>
                    <a:lnTo>
                      <a:pt x="415" y="617"/>
                    </a:lnTo>
                    <a:lnTo>
                      <a:pt x="419" y="627"/>
                    </a:lnTo>
                    <a:lnTo>
                      <a:pt x="420" y="639"/>
                    </a:lnTo>
                    <a:lnTo>
                      <a:pt x="422" y="649"/>
                    </a:lnTo>
                    <a:lnTo>
                      <a:pt x="425" y="660"/>
                    </a:lnTo>
                    <a:lnTo>
                      <a:pt x="428" y="655"/>
                    </a:lnTo>
                    <a:lnTo>
                      <a:pt x="429" y="650"/>
                    </a:lnTo>
                    <a:lnTo>
                      <a:pt x="430" y="644"/>
                    </a:lnTo>
                    <a:lnTo>
                      <a:pt x="431" y="640"/>
                    </a:lnTo>
                    <a:lnTo>
                      <a:pt x="425" y="632"/>
                    </a:lnTo>
                    <a:lnTo>
                      <a:pt x="424" y="623"/>
                    </a:lnTo>
                    <a:lnTo>
                      <a:pt x="424" y="613"/>
                    </a:lnTo>
                    <a:lnTo>
                      <a:pt x="425" y="605"/>
                    </a:lnTo>
                    <a:lnTo>
                      <a:pt x="423" y="595"/>
                    </a:lnTo>
                    <a:lnTo>
                      <a:pt x="422" y="587"/>
                    </a:lnTo>
                    <a:lnTo>
                      <a:pt x="422" y="578"/>
                    </a:lnTo>
                    <a:lnTo>
                      <a:pt x="422" y="570"/>
                    </a:lnTo>
                    <a:lnTo>
                      <a:pt x="420" y="560"/>
                    </a:lnTo>
                    <a:lnTo>
                      <a:pt x="420" y="552"/>
                    </a:lnTo>
                    <a:lnTo>
                      <a:pt x="420" y="542"/>
                    </a:lnTo>
                    <a:lnTo>
                      <a:pt x="420" y="533"/>
                    </a:lnTo>
                    <a:lnTo>
                      <a:pt x="425" y="530"/>
                    </a:lnTo>
                    <a:lnTo>
                      <a:pt x="426" y="525"/>
                    </a:lnTo>
                    <a:lnTo>
                      <a:pt x="433" y="525"/>
                    </a:lnTo>
                    <a:lnTo>
                      <a:pt x="437" y="527"/>
                    </a:lnTo>
                    <a:lnTo>
                      <a:pt x="441" y="531"/>
                    </a:lnTo>
                    <a:lnTo>
                      <a:pt x="445" y="536"/>
                    </a:lnTo>
                    <a:lnTo>
                      <a:pt x="442" y="543"/>
                    </a:lnTo>
                    <a:lnTo>
                      <a:pt x="444" y="552"/>
                    </a:lnTo>
                    <a:lnTo>
                      <a:pt x="446" y="559"/>
                    </a:lnTo>
                    <a:lnTo>
                      <a:pt x="450" y="568"/>
                    </a:lnTo>
                    <a:lnTo>
                      <a:pt x="452" y="558"/>
                    </a:lnTo>
                    <a:lnTo>
                      <a:pt x="455" y="548"/>
                    </a:lnTo>
                    <a:lnTo>
                      <a:pt x="456" y="538"/>
                    </a:lnTo>
                    <a:lnTo>
                      <a:pt x="457" y="530"/>
                    </a:lnTo>
                    <a:lnTo>
                      <a:pt x="456" y="520"/>
                    </a:lnTo>
                    <a:lnTo>
                      <a:pt x="455" y="511"/>
                    </a:lnTo>
                    <a:lnTo>
                      <a:pt x="455" y="502"/>
                    </a:lnTo>
                    <a:lnTo>
                      <a:pt x="455" y="494"/>
                    </a:lnTo>
                    <a:lnTo>
                      <a:pt x="453" y="487"/>
                    </a:lnTo>
                    <a:lnTo>
                      <a:pt x="452" y="480"/>
                    </a:lnTo>
                    <a:lnTo>
                      <a:pt x="451" y="472"/>
                    </a:lnTo>
                    <a:lnTo>
                      <a:pt x="451" y="465"/>
                    </a:lnTo>
                    <a:lnTo>
                      <a:pt x="451" y="457"/>
                    </a:lnTo>
                    <a:lnTo>
                      <a:pt x="452" y="450"/>
                    </a:lnTo>
                    <a:lnTo>
                      <a:pt x="456" y="443"/>
                    </a:lnTo>
                    <a:lnTo>
                      <a:pt x="462" y="438"/>
                    </a:lnTo>
                    <a:lnTo>
                      <a:pt x="467" y="439"/>
                    </a:lnTo>
                    <a:lnTo>
                      <a:pt x="472" y="443"/>
                    </a:lnTo>
                    <a:lnTo>
                      <a:pt x="475" y="449"/>
                    </a:lnTo>
                    <a:lnTo>
                      <a:pt x="479" y="456"/>
                    </a:lnTo>
                    <a:lnTo>
                      <a:pt x="482" y="461"/>
                    </a:lnTo>
                    <a:lnTo>
                      <a:pt x="487" y="467"/>
                    </a:lnTo>
                    <a:lnTo>
                      <a:pt x="490" y="471"/>
                    </a:lnTo>
                    <a:lnTo>
                      <a:pt x="499" y="472"/>
                    </a:lnTo>
                    <a:lnTo>
                      <a:pt x="498" y="459"/>
                    </a:lnTo>
                    <a:lnTo>
                      <a:pt x="498" y="445"/>
                    </a:lnTo>
                    <a:lnTo>
                      <a:pt x="496" y="432"/>
                    </a:lnTo>
                    <a:lnTo>
                      <a:pt x="498" y="418"/>
                    </a:lnTo>
                    <a:lnTo>
                      <a:pt x="498" y="403"/>
                    </a:lnTo>
                    <a:lnTo>
                      <a:pt x="500" y="391"/>
                    </a:lnTo>
                    <a:lnTo>
                      <a:pt x="504" y="379"/>
                    </a:lnTo>
                    <a:lnTo>
                      <a:pt x="512" y="368"/>
                    </a:lnTo>
                    <a:lnTo>
                      <a:pt x="520" y="367"/>
                    </a:lnTo>
                    <a:lnTo>
                      <a:pt x="528" y="364"/>
                    </a:lnTo>
                    <a:lnTo>
                      <a:pt x="525" y="352"/>
                    </a:lnTo>
                    <a:lnTo>
                      <a:pt x="526" y="340"/>
                    </a:lnTo>
                    <a:lnTo>
                      <a:pt x="529" y="329"/>
                    </a:lnTo>
                    <a:lnTo>
                      <a:pt x="536" y="320"/>
                    </a:lnTo>
                    <a:lnTo>
                      <a:pt x="542" y="320"/>
                    </a:lnTo>
                    <a:lnTo>
                      <a:pt x="547" y="319"/>
                    </a:lnTo>
                    <a:lnTo>
                      <a:pt x="550" y="315"/>
                    </a:lnTo>
                    <a:lnTo>
                      <a:pt x="554" y="311"/>
                    </a:lnTo>
                    <a:lnTo>
                      <a:pt x="555" y="305"/>
                    </a:lnTo>
                    <a:lnTo>
                      <a:pt x="559" y="300"/>
                    </a:lnTo>
                    <a:lnTo>
                      <a:pt x="563" y="294"/>
                    </a:lnTo>
                    <a:lnTo>
                      <a:pt x="567" y="291"/>
                    </a:lnTo>
                    <a:lnTo>
                      <a:pt x="569" y="277"/>
                    </a:lnTo>
                    <a:lnTo>
                      <a:pt x="572" y="266"/>
                    </a:lnTo>
                    <a:lnTo>
                      <a:pt x="576" y="255"/>
                    </a:lnTo>
                    <a:lnTo>
                      <a:pt x="581" y="245"/>
                    </a:lnTo>
                    <a:lnTo>
                      <a:pt x="585" y="233"/>
                    </a:lnTo>
                    <a:lnTo>
                      <a:pt x="589" y="222"/>
                    </a:lnTo>
                    <a:lnTo>
                      <a:pt x="593" y="211"/>
                    </a:lnTo>
                    <a:lnTo>
                      <a:pt x="597" y="200"/>
                    </a:lnTo>
                    <a:lnTo>
                      <a:pt x="607" y="197"/>
                    </a:lnTo>
                    <a:lnTo>
                      <a:pt x="618" y="200"/>
                    </a:lnTo>
                    <a:lnTo>
                      <a:pt x="618" y="208"/>
                    </a:lnTo>
                    <a:lnTo>
                      <a:pt x="618" y="218"/>
                    </a:lnTo>
                    <a:lnTo>
                      <a:pt x="618" y="228"/>
                    </a:lnTo>
                    <a:lnTo>
                      <a:pt x="618" y="238"/>
                    </a:lnTo>
                    <a:lnTo>
                      <a:pt x="618" y="246"/>
                    </a:lnTo>
                    <a:lnTo>
                      <a:pt x="619" y="255"/>
                    </a:lnTo>
                    <a:lnTo>
                      <a:pt x="623" y="264"/>
                    </a:lnTo>
                    <a:lnTo>
                      <a:pt x="629" y="273"/>
                    </a:lnTo>
                    <a:lnTo>
                      <a:pt x="635" y="273"/>
                    </a:lnTo>
                    <a:lnTo>
                      <a:pt x="640" y="272"/>
                    </a:lnTo>
                    <a:lnTo>
                      <a:pt x="642" y="267"/>
                    </a:lnTo>
                    <a:lnTo>
                      <a:pt x="645" y="262"/>
                    </a:lnTo>
                    <a:lnTo>
                      <a:pt x="645" y="255"/>
                    </a:lnTo>
                    <a:lnTo>
                      <a:pt x="646" y="248"/>
                    </a:lnTo>
                    <a:lnTo>
                      <a:pt x="647" y="242"/>
                    </a:lnTo>
                    <a:lnTo>
                      <a:pt x="650" y="237"/>
                    </a:lnTo>
                    <a:lnTo>
                      <a:pt x="647" y="235"/>
                    </a:lnTo>
                    <a:lnTo>
                      <a:pt x="650" y="224"/>
                    </a:lnTo>
                    <a:lnTo>
                      <a:pt x="653" y="213"/>
                    </a:lnTo>
                    <a:lnTo>
                      <a:pt x="656" y="202"/>
                    </a:lnTo>
                    <a:lnTo>
                      <a:pt x="658" y="193"/>
                    </a:lnTo>
                    <a:lnTo>
                      <a:pt x="659" y="181"/>
                    </a:lnTo>
                    <a:lnTo>
                      <a:pt x="663" y="172"/>
                    </a:lnTo>
                    <a:lnTo>
                      <a:pt x="667" y="162"/>
                    </a:lnTo>
                    <a:lnTo>
                      <a:pt x="673" y="154"/>
                    </a:lnTo>
                    <a:lnTo>
                      <a:pt x="673" y="161"/>
                    </a:lnTo>
                    <a:lnTo>
                      <a:pt x="674" y="168"/>
                    </a:lnTo>
                    <a:lnTo>
                      <a:pt x="677" y="174"/>
                    </a:lnTo>
                    <a:lnTo>
                      <a:pt x="683" y="181"/>
                    </a:lnTo>
                    <a:lnTo>
                      <a:pt x="685" y="181"/>
                    </a:lnTo>
                    <a:lnTo>
                      <a:pt x="690" y="181"/>
                    </a:lnTo>
                    <a:lnTo>
                      <a:pt x="695" y="179"/>
                    </a:lnTo>
                    <a:lnTo>
                      <a:pt x="699" y="175"/>
                    </a:lnTo>
                    <a:lnTo>
                      <a:pt x="701" y="164"/>
                    </a:lnTo>
                    <a:lnTo>
                      <a:pt x="702" y="154"/>
                    </a:lnTo>
                    <a:lnTo>
                      <a:pt x="702" y="143"/>
                    </a:lnTo>
                    <a:lnTo>
                      <a:pt x="707" y="134"/>
                    </a:lnTo>
                    <a:lnTo>
                      <a:pt x="703" y="140"/>
                    </a:lnTo>
                    <a:lnTo>
                      <a:pt x="703" y="147"/>
                    </a:lnTo>
                    <a:lnTo>
                      <a:pt x="702" y="153"/>
                    </a:lnTo>
                    <a:lnTo>
                      <a:pt x="703" y="161"/>
                    </a:lnTo>
                    <a:lnTo>
                      <a:pt x="703" y="167"/>
                    </a:lnTo>
                    <a:lnTo>
                      <a:pt x="707" y="173"/>
                    </a:lnTo>
                    <a:lnTo>
                      <a:pt x="711" y="178"/>
                    </a:lnTo>
                    <a:lnTo>
                      <a:pt x="717" y="184"/>
                    </a:lnTo>
                    <a:lnTo>
                      <a:pt x="726" y="181"/>
                    </a:lnTo>
                    <a:lnTo>
                      <a:pt x="728" y="170"/>
                    </a:lnTo>
                    <a:lnTo>
                      <a:pt x="732" y="159"/>
                    </a:lnTo>
                    <a:lnTo>
                      <a:pt x="734" y="147"/>
                    </a:lnTo>
                    <a:lnTo>
                      <a:pt x="738" y="135"/>
                    </a:lnTo>
                    <a:lnTo>
                      <a:pt x="739" y="123"/>
                    </a:lnTo>
                    <a:lnTo>
                      <a:pt x="743" y="110"/>
                    </a:lnTo>
                    <a:lnTo>
                      <a:pt x="745" y="99"/>
                    </a:lnTo>
                    <a:lnTo>
                      <a:pt x="751" y="89"/>
                    </a:lnTo>
                    <a:lnTo>
                      <a:pt x="751" y="96"/>
                    </a:lnTo>
                    <a:lnTo>
                      <a:pt x="751" y="103"/>
                    </a:lnTo>
                    <a:lnTo>
                      <a:pt x="750" y="110"/>
                    </a:lnTo>
                    <a:lnTo>
                      <a:pt x="750" y="119"/>
                    </a:lnTo>
                    <a:lnTo>
                      <a:pt x="749" y="125"/>
                    </a:lnTo>
                    <a:lnTo>
                      <a:pt x="750" y="132"/>
                    </a:lnTo>
                    <a:lnTo>
                      <a:pt x="751" y="140"/>
                    </a:lnTo>
                    <a:lnTo>
                      <a:pt x="757" y="147"/>
                    </a:lnTo>
                    <a:lnTo>
                      <a:pt x="772" y="147"/>
                    </a:lnTo>
                    <a:lnTo>
                      <a:pt x="775" y="134"/>
                    </a:lnTo>
                    <a:lnTo>
                      <a:pt x="778" y="120"/>
                    </a:lnTo>
                    <a:lnTo>
                      <a:pt x="782" y="107"/>
                    </a:lnTo>
                    <a:lnTo>
                      <a:pt x="787" y="93"/>
                    </a:lnTo>
                    <a:lnTo>
                      <a:pt x="790" y="80"/>
                    </a:lnTo>
                    <a:lnTo>
                      <a:pt x="795" y="67"/>
                    </a:lnTo>
                    <a:lnTo>
                      <a:pt x="800" y="55"/>
                    </a:lnTo>
                    <a:lnTo>
                      <a:pt x="809" y="44"/>
                    </a:lnTo>
                    <a:lnTo>
                      <a:pt x="820" y="51"/>
                    </a:lnTo>
                    <a:lnTo>
                      <a:pt x="828" y="63"/>
                    </a:lnTo>
                    <a:lnTo>
                      <a:pt x="832" y="69"/>
                    </a:lnTo>
                    <a:lnTo>
                      <a:pt x="837" y="75"/>
                    </a:lnTo>
                    <a:lnTo>
                      <a:pt x="841" y="82"/>
                    </a:lnTo>
                    <a:lnTo>
                      <a:pt x="846" y="89"/>
                    </a:lnTo>
                    <a:lnTo>
                      <a:pt x="851" y="82"/>
                    </a:lnTo>
                    <a:lnTo>
                      <a:pt x="855" y="76"/>
                    </a:lnTo>
                    <a:lnTo>
                      <a:pt x="862" y="72"/>
                    </a:lnTo>
                    <a:lnTo>
                      <a:pt x="873" y="71"/>
                    </a:lnTo>
                    <a:lnTo>
                      <a:pt x="876" y="59"/>
                    </a:lnTo>
                    <a:lnTo>
                      <a:pt x="878" y="47"/>
                    </a:lnTo>
                    <a:lnTo>
                      <a:pt x="879" y="34"/>
                    </a:lnTo>
                    <a:lnTo>
                      <a:pt x="882" y="26"/>
                    </a:lnTo>
                    <a:lnTo>
                      <a:pt x="880" y="18"/>
                    </a:lnTo>
                    <a:lnTo>
                      <a:pt x="882" y="15"/>
                    </a:lnTo>
                    <a:lnTo>
                      <a:pt x="885" y="12"/>
                    </a:lnTo>
                    <a:lnTo>
                      <a:pt x="884" y="20"/>
                    </a:lnTo>
                    <a:lnTo>
                      <a:pt x="889" y="28"/>
                    </a:lnTo>
                    <a:lnTo>
                      <a:pt x="898" y="31"/>
                    </a:lnTo>
                    <a:lnTo>
                      <a:pt x="907" y="26"/>
                    </a:lnTo>
                    <a:lnTo>
                      <a:pt x="906" y="17"/>
                    </a:lnTo>
                    <a:lnTo>
                      <a:pt x="909" y="12"/>
                    </a:lnTo>
                    <a:lnTo>
                      <a:pt x="914" y="7"/>
                    </a:lnTo>
                    <a:lnTo>
                      <a:pt x="917" y="0"/>
                    </a:lnTo>
                    <a:lnTo>
                      <a:pt x="917" y="10"/>
                    </a:lnTo>
                    <a:lnTo>
                      <a:pt x="914" y="20"/>
                    </a:lnTo>
                    <a:lnTo>
                      <a:pt x="909" y="28"/>
                    </a:lnTo>
                    <a:lnTo>
                      <a:pt x="909" y="39"/>
                    </a:lnTo>
                    <a:lnTo>
                      <a:pt x="908" y="47"/>
                    </a:lnTo>
                    <a:lnTo>
                      <a:pt x="907" y="56"/>
                    </a:lnTo>
                    <a:lnTo>
                      <a:pt x="904" y="66"/>
                    </a:lnTo>
                    <a:lnTo>
                      <a:pt x="903" y="76"/>
                    </a:lnTo>
                    <a:lnTo>
                      <a:pt x="902" y="85"/>
                    </a:lnTo>
                    <a:lnTo>
                      <a:pt x="904" y="93"/>
                    </a:lnTo>
                    <a:lnTo>
                      <a:pt x="908" y="99"/>
                    </a:lnTo>
                    <a:lnTo>
                      <a:pt x="917" y="107"/>
                    </a:lnTo>
                    <a:lnTo>
                      <a:pt x="924" y="99"/>
                    </a:lnTo>
                    <a:lnTo>
                      <a:pt x="929" y="93"/>
                    </a:lnTo>
                    <a:lnTo>
                      <a:pt x="933" y="85"/>
                    </a:lnTo>
                    <a:lnTo>
                      <a:pt x="935" y="76"/>
                    </a:lnTo>
                    <a:lnTo>
                      <a:pt x="938" y="82"/>
                    </a:lnTo>
                    <a:lnTo>
                      <a:pt x="939" y="89"/>
                    </a:lnTo>
                    <a:lnTo>
                      <a:pt x="938" y="98"/>
                    </a:lnTo>
                    <a:lnTo>
                      <a:pt x="936" y="108"/>
                    </a:lnTo>
                    <a:lnTo>
                      <a:pt x="934" y="116"/>
                    </a:lnTo>
                    <a:lnTo>
                      <a:pt x="934" y="125"/>
                    </a:lnTo>
                    <a:lnTo>
                      <a:pt x="935" y="131"/>
                    </a:lnTo>
                    <a:lnTo>
                      <a:pt x="941" y="139"/>
                    </a:lnTo>
                    <a:lnTo>
                      <a:pt x="946" y="131"/>
                    </a:lnTo>
                    <a:lnTo>
                      <a:pt x="951" y="125"/>
                    </a:lnTo>
                    <a:lnTo>
                      <a:pt x="954" y="119"/>
                    </a:lnTo>
                    <a:lnTo>
                      <a:pt x="957" y="113"/>
                    </a:lnTo>
                    <a:lnTo>
                      <a:pt x="961" y="105"/>
                    </a:lnTo>
                    <a:lnTo>
                      <a:pt x="965" y="99"/>
                    </a:lnTo>
                    <a:lnTo>
                      <a:pt x="969" y="94"/>
                    </a:lnTo>
                    <a:lnTo>
                      <a:pt x="978" y="92"/>
                    </a:lnTo>
                    <a:lnTo>
                      <a:pt x="982" y="83"/>
                    </a:lnTo>
                    <a:lnTo>
                      <a:pt x="987" y="76"/>
                    </a:lnTo>
                    <a:lnTo>
                      <a:pt x="992" y="69"/>
                    </a:lnTo>
                    <a:lnTo>
                      <a:pt x="999" y="63"/>
                    </a:lnTo>
                    <a:lnTo>
                      <a:pt x="1005" y="55"/>
                    </a:lnTo>
                    <a:lnTo>
                      <a:pt x="1011" y="48"/>
                    </a:lnTo>
                    <a:lnTo>
                      <a:pt x="1016" y="40"/>
                    </a:lnTo>
                    <a:lnTo>
                      <a:pt x="1022" y="33"/>
                    </a:lnTo>
                    <a:lnTo>
                      <a:pt x="1033" y="32"/>
                    </a:lnTo>
                    <a:lnTo>
                      <a:pt x="1043" y="37"/>
                    </a:lnTo>
                    <a:lnTo>
                      <a:pt x="1048" y="44"/>
                    </a:lnTo>
                    <a:lnTo>
                      <a:pt x="1052" y="53"/>
                    </a:lnTo>
                    <a:lnTo>
                      <a:pt x="1053" y="61"/>
                    </a:lnTo>
                    <a:lnTo>
                      <a:pt x="1056" y="70"/>
                    </a:lnTo>
                    <a:lnTo>
                      <a:pt x="1069" y="60"/>
                    </a:lnTo>
                    <a:lnTo>
                      <a:pt x="1064" y="67"/>
                    </a:lnTo>
                    <a:lnTo>
                      <a:pt x="1058" y="77"/>
                    </a:lnTo>
                    <a:lnTo>
                      <a:pt x="1052" y="86"/>
                    </a:lnTo>
                    <a:lnTo>
                      <a:pt x="1048" y="96"/>
                    </a:lnTo>
                    <a:lnTo>
                      <a:pt x="1042" y="104"/>
                    </a:lnTo>
                    <a:lnTo>
                      <a:pt x="1039" y="114"/>
                    </a:lnTo>
                    <a:lnTo>
                      <a:pt x="1037" y="125"/>
                    </a:lnTo>
                    <a:lnTo>
                      <a:pt x="1038" y="136"/>
                    </a:lnTo>
                    <a:lnTo>
                      <a:pt x="1044" y="139"/>
                    </a:lnTo>
                    <a:lnTo>
                      <a:pt x="1052" y="141"/>
                    </a:lnTo>
                    <a:lnTo>
                      <a:pt x="1058" y="132"/>
                    </a:lnTo>
                    <a:lnTo>
                      <a:pt x="1065" y="125"/>
                    </a:lnTo>
                    <a:lnTo>
                      <a:pt x="1071" y="116"/>
                    </a:lnTo>
                    <a:lnTo>
                      <a:pt x="1079" y="109"/>
                    </a:lnTo>
                    <a:lnTo>
                      <a:pt x="1083" y="99"/>
                    </a:lnTo>
                    <a:lnTo>
                      <a:pt x="1090" y="92"/>
                    </a:lnTo>
                    <a:lnTo>
                      <a:pt x="1097" y="83"/>
                    </a:lnTo>
                    <a:lnTo>
                      <a:pt x="1106" y="76"/>
                    </a:lnTo>
                    <a:lnTo>
                      <a:pt x="1117" y="63"/>
                    </a:lnTo>
                    <a:lnTo>
                      <a:pt x="1129" y="50"/>
                    </a:lnTo>
                    <a:lnTo>
                      <a:pt x="1135" y="43"/>
                    </a:lnTo>
                    <a:lnTo>
                      <a:pt x="1141" y="37"/>
                    </a:lnTo>
                    <a:lnTo>
                      <a:pt x="1148" y="32"/>
                    </a:lnTo>
                    <a:lnTo>
                      <a:pt x="1156" y="28"/>
                    </a:lnTo>
                    <a:lnTo>
                      <a:pt x="1156"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0" name="Freeform 227"/>
              <p:cNvSpPr/>
              <p:nvPr/>
            </p:nvSpPr>
            <p:spPr>
              <a:xfrm flipH="1">
                <a:off x="7277400" y="2903760"/>
                <a:ext cx="169560" cy="204840"/>
              </a:xfrm>
              <a:custGeom>
                <a:avLst/>
                <a:gdLst>
                  <a:gd name="textAreaLeft" fmla="*/ -360 w 169560"/>
                  <a:gd name="textAreaRight" fmla="*/ 169560 w 169560"/>
                  <a:gd name="textAreaTop" fmla="*/ 0 h 204840"/>
                  <a:gd name="textAreaBottom" fmla="*/ 205200 h 204840"/>
                </a:gdLst>
                <a:ahLst/>
                <a:rect l="textAreaLeft" t="textAreaTop" r="textAreaRight" b="textAreaBottom"/>
                <a:pathLst>
                  <a:path w="606" h="725">
                    <a:moveTo>
                      <a:pt x="438" y="7"/>
                    </a:moveTo>
                    <a:lnTo>
                      <a:pt x="432" y="22"/>
                    </a:lnTo>
                    <a:lnTo>
                      <a:pt x="426" y="37"/>
                    </a:lnTo>
                    <a:lnTo>
                      <a:pt x="418" y="52"/>
                    </a:lnTo>
                    <a:lnTo>
                      <a:pt x="412" y="66"/>
                    </a:lnTo>
                    <a:lnTo>
                      <a:pt x="405" y="80"/>
                    </a:lnTo>
                    <a:lnTo>
                      <a:pt x="399" y="95"/>
                    </a:lnTo>
                    <a:lnTo>
                      <a:pt x="394" y="109"/>
                    </a:lnTo>
                    <a:lnTo>
                      <a:pt x="393" y="125"/>
                    </a:lnTo>
                    <a:lnTo>
                      <a:pt x="403" y="115"/>
                    </a:lnTo>
                    <a:lnTo>
                      <a:pt x="412" y="107"/>
                    </a:lnTo>
                    <a:lnTo>
                      <a:pt x="423" y="97"/>
                    </a:lnTo>
                    <a:lnTo>
                      <a:pt x="434" y="88"/>
                    </a:lnTo>
                    <a:lnTo>
                      <a:pt x="444" y="77"/>
                    </a:lnTo>
                    <a:lnTo>
                      <a:pt x="455" y="69"/>
                    </a:lnTo>
                    <a:lnTo>
                      <a:pt x="467" y="60"/>
                    </a:lnTo>
                    <a:lnTo>
                      <a:pt x="480" y="54"/>
                    </a:lnTo>
                    <a:lnTo>
                      <a:pt x="485" y="56"/>
                    </a:lnTo>
                    <a:lnTo>
                      <a:pt x="486" y="63"/>
                    </a:lnTo>
                    <a:lnTo>
                      <a:pt x="483" y="69"/>
                    </a:lnTo>
                    <a:lnTo>
                      <a:pt x="485" y="76"/>
                    </a:lnTo>
                    <a:lnTo>
                      <a:pt x="475" y="82"/>
                    </a:lnTo>
                    <a:lnTo>
                      <a:pt x="467" y="91"/>
                    </a:lnTo>
                    <a:lnTo>
                      <a:pt x="460" y="99"/>
                    </a:lnTo>
                    <a:lnTo>
                      <a:pt x="454" y="109"/>
                    </a:lnTo>
                    <a:lnTo>
                      <a:pt x="447" y="118"/>
                    </a:lnTo>
                    <a:lnTo>
                      <a:pt x="442" y="128"/>
                    </a:lnTo>
                    <a:lnTo>
                      <a:pt x="434" y="136"/>
                    </a:lnTo>
                    <a:lnTo>
                      <a:pt x="429" y="146"/>
                    </a:lnTo>
                    <a:lnTo>
                      <a:pt x="431" y="147"/>
                    </a:lnTo>
                    <a:lnTo>
                      <a:pt x="442" y="140"/>
                    </a:lnTo>
                    <a:lnTo>
                      <a:pt x="453" y="133"/>
                    </a:lnTo>
                    <a:lnTo>
                      <a:pt x="464" y="125"/>
                    </a:lnTo>
                    <a:lnTo>
                      <a:pt x="475" y="118"/>
                    </a:lnTo>
                    <a:lnTo>
                      <a:pt x="485" y="110"/>
                    </a:lnTo>
                    <a:lnTo>
                      <a:pt x="494" y="103"/>
                    </a:lnTo>
                    <a:lnTo>
                      <a:pt x="505" y="96"/>
                    </a:lnTo>
                    <a:lnTo>
                      <a:pt x="519" y="88"/>
                    </a:lnTo>
                    <a:lnTo>
                      <a:pt x="524" y="91"/>
                    </a:lnTo>
                    <a:lnTo>
                      <a:pt x="530" y="95"/>
                    </a:lnTo>
                    <a:lnTo>
                      <a:pt x="526" y="102"/>
                    </a:lnTo>
                    <a:lnTo>
                      <a:pt x="521" y="110"/>
                    </a:lnTo>
                    <a:lnTo>
                      <a:pt x="515" y="117"/>
                    </a:lnTo>
                    <a:lnTo>
                      <a:pt x="509" y="124"/>
                    </a:lnTo>
                    <a:lnTo>
                      <a:pt x="502" y="129"/>
                    </a:lnTo>
                    <a:lnTo>
                      <a:pt x="494" y="135"/>
                    </a:lnTo>
                    <a:lnTo>
                      <a:pt x="488" y="141"/>
                    </a:lnTo>
                    <a:lnTo>
                      <a:pt x="485" y="150"/>
                    </a:lnTo>
                    <a:lnTo>
                      <a:pt x="488" y="152"/>
                    </a:lnTo>
                    <a:lnTo>
                      <a:pt x="496" y="152"/>
                    </a:lnTo>
                    <a:lnTo>
                      <a:pt x="505" y="142"/>
                    </a:lnTo>
                    <a:lnTo>
                      <a:pt x="515" y="135"/>
                    </a:lnTo>
                    <a:lnTo>
                      <a:pt x="526" y="128"/>
                    </a:lnTo>
                    <a:lnTo>
                      <a:pt x="537" y="120"/>
                    </a:lnTo>
                    <a:lnTo>
                      <a:pt x="548" y="113"/>
                    </a:lnTo>
                    <a:lnTo>
                      <a:pt x="559" y="106"/>
                    </a:lnTo>
                    <a:lnTo>
                      <a:pt x="570" y="98"/>
                    </a:lnTo>
                    <a:lnTo>
                      <a:pt x="583" y="92"/>
                    </a:lnTo>
                    <a:lnTo>
                      <a:pt x="588" y="92"/>
                    </a:lnTo>
                    <a:lnTo>
                      <a:pt x="591" y="93"/>
                    </a:lnTo>
                    <a:lnTo>
                      <a:pt x="594" y="96"/>
                    </a:lnTo>
                    <a:lnTo>
                      <a:pt x="599" y="99"/>
                    </a:lnTo>
                    <a:lnTo>
                      <a:pt x="590" y="110"/>
                    </a:lnTo>
                    <a:lnTo>
                      <a:pt x="580" y="122"/>
                    </a:lnTo>
                    <a:lnTo>
                      <a:pt x="569" y="131"/>
                    </a:lnTo>
                    <a:lnTo>
                      <a:pt x="559" y="142"/>
                    </a:lnTo>
                    <a:lnTo>
                      <a:pt x="547" y="151"/>
                    </a:lnTo>
                    <a:lnTo>
                      <a:pt x="536" y="161"/>
                    </a:lnTo>
                    <a:lnTo>
                      <a:pt x="525" y="172"/>
                    </a:lnTo>
                    <a:lnTo>
                      <a:pt x="517" y="184"/>
                    </a:lnTo>
                    <a:lnTo>
                      <a:pt x="519" y="187"/>
                    </a:lnTo>
                    <a:lnTo>
                      <a:pt x="593" y="136"/>
                    </a:lnTo>
                    <a:lnTo>
                      <a:pt x="600" y="137"/>
                    </a:lnTo>
                    <a:lnTo>
                      <a:pt x="606" y="146"/>
                    </a:lnTo>
                    <a:lnTo>
                      <a:pt x="594" y="158"/>
                    </a:lnTo>
                    <a:lnTo>
                      <a:pt x="583" y="172"/>
                    </a:lnTo>
                    <a:lnTo>
                      <a:pt x="570" y="184"/>
                    </a:lnTo>
                    <a:lnTo>
                      <a:pt x="558" y="198"/>
                    </a:lnTo>
                    <a:lnTo>
                      <a:pt x="545" y="209"/>
                    </a:lnTo>
                    <a:lnTo>
                      <a:pt x="531" y="222"/>
                    </a:lnTo>
                    <a:lnTo>
                      <a:pt x="519" y="234"/>
                    </a:lnTo>
                    <a:lnTo>
                      <a:pt x="509" y="249"/>
                    </a:lnTo>
                    <a:lnTo>
                      <a:pt x="513" y="254"/>
                    </a:lnTo>
                    <a:lnTo>
                      <a:pt x="514" y="261"/>
                    </a:lnTo>
                    <a:lnTo>
                      <a:pt x="513" y="266"/>
                    </a:lnTo>
                    <a:lnTo>
                      <a:pt x="509" y="272"/>
                    </a:lnTo>
                    <a:lnTo>
                      <a:pt x="499" y="277"/>
                    </a:lnTo>
                    <a:lnTo>
                      <a:pt x="492" y="285"/>
                    </a:lnTo>
                    <a:lnTo>
                      <a:pt x="485" y="293"/>
                    </a:lnTo>
                    <a:lnTo>
                      <a:pt x="477" y="302"/>
                    </a:lnTo>
                    <a:lnTo>
                      <a:pt x="469" y="309"/>
                    </a:lnTo>
                    <a:lnTo>
                      <a:pt x="461" y="318"/>
                    </a:lnTo>
                    <a:lnTo>
                      <a:pt x="453" y="325"/>
                    </a:lnTo>
                    <a:lnTo>
                      <a:pt x="445" y="334"/>
                    </a:lnTo>
                    <a:lnTo>
                      <a:pt x="448" y="336"/>
                    </a:lnTo>
                    <a:lnTo>
                      <a:pt x="453" y="331"/>
                    </a:lnTo>
                    <a:lnTo>
                      <a:pt x="460" y="328"/>
                    </a:lnTo>
                    <a:lnTo>
                      <a:pt x="467" y="323"/>
                    </a:lnTo>
                    <a:lnTo>
                      <a:pt x="477" y="323"/>
                    </a:lnTo>
                    <a:lnTo>
                      <a:pt x="480" y="326"/>
                    </a:lnTo>
                    <a:lnTo>
                      <a:pt x="480" y="332"/>
                    </a:lnTo>
                    <a:lnTo>
                      <a:pt x="477" y="337"/>
                    </a:lnTo>
                    <a:lnTo>
                      <a:pt x="475" y="343"/>
                    </a:lnTo>
                    <a:lnTo>
                      <a:pt x="464" y="352"/>
                    </a:lnTo>
                    <a:lnTo>
                      <a:pt x="454" y="362"/>
                    </a:lnTo>
                    <a:lnTo>
                      <a:pt x="444" y="372"/>
                    </a:lnTo>
                    <a:lnTo>
                      <a:pt x="436" y="382"/>
                    </a:lnTo>
                    <a:lnTo>
                      <a:pt x="426" y="390"/>
                    </a:lnTo>
                    <a:lnTo>
                      <a:pt x="417" y="401"/>
                    </a:lnTo>
                    <a:lnTo>
                      <a:pt x="409" y="411"/>
                    </a:lnTo>
                    <a:lnTo>
                      <a:pt x="401" y="422"/>
                    </a:lnTo>
                    <a:lnTo>
                      <a:pt x="405" y="423"/>
                    </a:lnTo>
                    <a:lnTo>
                      <a:pt x="410" y="426"/>
                    </a:lnTo>
                    <a:lnTo>
                      <a:pt x="414" y="427"/>
                    </a:lnTo>
                    <a:lnTo>
                      <a:pt x="417" y="433"/>
                    </a:lnTo>
                    <a:lnTo>
                      <a:pt x="412" y="439"/>
                    </a:lnTo>
                    <a:lnTo>
                      <a:pt x="407" y="445"/>
                    </a:lnTo>
                    <a:lnTo>
                      <a:pt x="400" y="451"/>
                    </a:lnTo>
                    <a:lnTo>
                      <a:pt x="394" y="458"/>
                    </a:lnTo>
                    <a:lnTo>
                      <a:pt x="385" y="462"/>
                    </a:lnTo>
                    <a:lnTo>
                      <a:pt x="378" y="467"/>
                    </a:lnTo>
                    <a:lnTo>
                      <a:pt x="372" y="474"/>
                    </a:lnTo>
                    <a:lnTo>
                      <a:pt x="367" y="481"/>
                    </a:lnTo>
                    <a:lnTo>
                      <a:pt x="371" y="482"/>
                    </a:lnTo>
                    <a:lnTo>
                      <a:pt x="378" y="483"/>
                    </a:lnTo>
                    <a:lnTo>
                      <a:pt x="385" y="483"/>
                    </a:lnTo>
                    <a:lnTo>
                      <a:pt x="393" y="488"/>
                    </a:lnTo>
                    <a:lnTo>
                      <a:pt x="389" y="494"/>
                    </a:lnTo>
                    <a:lnTo>
                      <a:pt x="383" y="500"/>
                    </a:lnTo>
                    <a:lnTo>
                      <a:pt x="374" y="505"/>
                    </a:lnTo>
                    <a:lnTo>
                      <a:pt x="366" y="512"/>
                    </a:lnTo>
                    <a:lnTo>
                      <a:pt x="358" y="515"/>
                    </a:lnTo>
                    <a:lnTo>
                      <a:pt x="355" y="520"/>
                    </a:lnTo>
                    <a:lnTo>
                      <a:pt x="356" y="525"/>
                    </a:lnTo>
                    <a:lnTo>
                      <a:pt x="365" y="532"/>
                    </a:lnTo>
                    <a:lnTo>
                      <a:pt x="361" y="541"/>
                    </a:lnTo>
                    <a:lnTo>
                      <a:pt x="356" y="550"/>
                    </a:lnTo>
                    <a:lnTo>
                      <a:pt x="349" y="556"/>
                    </a:lnTo>
                    <a:lnTo>
                      <a:pt x="341" y="563"/>
                    </a:lnTo>
                    <a:lnTo>
                      <a:pt x="331" y="568"/>
                    </a:lnTo>
                    <a:lnTo>
                      <a:pt x="324" y="574"/>
                    </a:lnTo>
                    <a:lnTo>
                      <a:pt x="316" y="580"/>
                    </a:lnTo>
                    <a:lnTo>
                      <a:pt x="309" y="588"/>
                    </a:lnTo>
                    <a:lnTo>
                      <a:pt x="317" y="589"/>
                    </a:lnTo>
                    <a:lnTo>
                      <a:pt x="325" y="588"/>
                    </a:lnTo>
                    <a:lnTo>
                      <a:pt x="331" y="590"/>
                    </a:lnTo>
                    <a:lnTo>
                      <a:pt x="334" y="597"/>
                    </a:lnTo>
                    <a:lnTo>
                      <a:pt x="335" y="600"/>
                    </a:lnTo>
                    <a:lnTo>
                      <a:pt x="338" y="604"/>
                    </a:lnTo>
                    <a:lnTo>
                      <a:pt x="341" y="605"/>
                    </a:lnTo>
                    <a:lnTo>
                      <a:pt x="349" y="606"/>
                    </a:lnTo>
                    <a:lnTo>
                      <a:pt x="349" y="612"/>
                    </a:lnTo>
                    <a:lnTo>
                      <a:pt x="346" y="622"/>
                    </a:lnTo>
                    <a:lnTo>
                      <a:pt x="199" y="725"/>
                    </a:lnTo>
                    <a:lnTo>
                      <a:pt x="194" y="724"/>
                    </a:lnTo>
                    <a:lnTo>
                      <a:pt x="193" y="721"/>
                    </a:lnTo>
                    <a:lnTo>
                      <a:pt x="192" y="716"/>
                    </a:lnTo>
                    <a:lnTo>
                      <a:pt x="194" y="714"/>
                    </a:lnTo>
                    <a:lnTo>
                      <a:pt x="203" y="689"/>
                    </a:lnTo>
                    <a:lnTo>
                      <a:pt x="210" y="665"/>
                    </a:lnTo>
                    <a:lnTo>
                      <a:pt x="216" y="639"/>
                    </a:lnTo>
                    <a:lnTo>
                      <a:pt x="224" y="616"/>
                    </a:lnTo>
                    <a:lnTo>
                      <a:pt x="230" y="590"/>
                    </a:lnTo>
                    <a:lnTo>
                      <a:pt x="241" y="569"/>
                    </a:lnTo>
                    <a:lnTo>
                      <a:pt x="253" y="548"/>
                    </a:lnTo>
                    <a:lnTo>
                      <a:pt x="273" y="532"/>
                    </a:lnTo>
                    <a:lnTo>
                      <a:pt x="281" y="515"/>
                    </a:lnTo>
                    <a:lnTo>
                      <a:pt x="290" y="498"/>
                    </a:lnTo>
                    <a:lnTo>
                      <a:pt x="298" y="481"/>
                    </a:lnTo>
                    <a:lnTo>
                      <a:pt x="308" y="464"/>
                    </a:lnTo>
                    <a:lnTo>
                      <a:pt x="316" y="447"/>
                    </a:lnTo>
                    <a:lnTo>
                      <a:pt x="324" y="429"/>
                    </a:lnTo>
                    <a:lnTo>
                      <a:pt x="333" y="412"/>
                    </a:lnTo>
                    <a:lnTo>
                      <a:pt x="341" y="396"/>
                    </a:lnTo>
                    <a:lnTo>
                      <a:pt x="336" y="389"/>
                    </a:lnTo>
                    <a:lnTo>
                      <a:pt x="338" y="383"/>
                    </a:lnTo>
                    <a:lnTo>
                      <a:pt x="339" y="375"/>
                    </a:lnTo>
                    <a:lnTo>
                      <a:pt x="341" y="368"/>
                    </a:lnTo>
                    <a:lnTo>
                      <a:pt x="356" y="355"/>
                    </a:lnTo>
                    <a:lnTo>
                      <a:pt x="350" y="350"/>
                    </a:lnTo>
                    <a:lnTo>
                      <a:pt x="344" y="345"/>
                    </a:lnTo>
                    <a:lnTo>
                      <a:pt x="339" y="340"/>
                    </a:lnTo>
                    <a:lnTo>
                      <a:pt x="338" y="334"/>
                    </a:lnTo>
                    <a:lnTo>
                      <a:pt x="338" y="325"/>
                    </a:lnTo>
                    <a:lnTo>
                      <a:pt x="341" y="319"/>
                    </a:lnTo>
                    <a:lnTo>
                      <a:pt x="345" y="313"/>
                    </a:lnTo>
                    <a:lnTo>
                      <a:pt x="351" y="309"/>
                    </a:lnTo>
                    <a:lnTo>
                      <a:pt x="340" y="305"/>
                    </a:lnTo>
                    <a:lnTo>
                      <a:pt x="333" y="299"/>
                    </a:lnTo>
                    <a:lnTo>
                      <a:pt x="327" y="292"/>
                    </a:lnTo>
                    <a:lnTo>
                      <a:pt x="322" y="285"/>
                    </a:lnTo>
                    <a:lnTo>
                      <a:pt x="314" y="277"/>
                    </a:lnTo>
                    <a:lnTo>
                      <a:pt x="308" y="274"/>
                    </a:lnTo>
                    <a:lnTo>
                      <a:pt x="300" y="271"/>
                    </a:lnTo>
                    <a:lnTo>
                      <a:pt x="289" y="275"/>
                    </a:lnTo>
                    <a:lnTo>
                      <a:pt x="279" y="275"/>
                    </a:lnTo>
                    <a:lnTo>
                      <a:pt x="270" y="277"/>
                    </a:lnTo>
                    <a:lnTo>
                      <a:pt x="263" y="280"/>
                    </a:lnTo>
                    <a:lnTo>
                      <a:pt x="255" y="286"/>
                    </a:lnTo>
                    <a:lnTo>
                      <a:pt x="248" y="290"/>
                    </a:lnTo>
                    <a:lnTo>
                      <a:pt x="241" y="296"/>
                    </a:lnTo>
                    <a:lnTo>
                      <a:pt x="235" y="302"/>
                    </a:lnTo>
                    <a:lnTo>
                      <a:pt x="228" y="309"/>
                    </a:lnTo>
                    <a:lnTo>
                      <a:pt x="222" y="323"/>
                    </a:lnTo>
                    <a:lnTo>
                      <a:pt x="216" y="335"/>
                    </a:lnTo>
                    <a:lnTo>
                      <a:pt x="209" y="346"/>
                    </a:lnTo>
                    <a:lnTo>
                      <a:pt x="202" y="358"/>
                    </a:lnTo>
                    <a:lnTo>
                      <a:pt x="193" y="369"/>
                    </a:lnTo>
                    <a:lnTo>
                      <a:pt x="187" y="380"/>
                    </a:lnTo>
                    <a:lnTo>
                      <a:pt x="179" y="393"/>
                    </a:lnTo>
                    <a:lnTo>
                      <a:pt x="176" y="407"/>
                    </a:lnTo>
                    <a:lnTo>
                      <a:pt x="170" y="415"/>
                    </a:lnTo>
                    <a:lnTo>
                      <a:pt x="164" y="423"/>
                    </a:lnTo>
                    <a:lnTo>
                      <a:pt x="159" y="432"/>
                    </a:lnTo>
                    <a:lnTo>
                      <a:pt x="157" y="442"/>
                    </a:lnTo>
                    <a:lnTo>
                      <a:pt x="164" y="438"/>
                    </a:lnTo>
                    <a:lnTo>
                      <a:pt x="171" y="437"/>
                    </a:lnTo>
                    <a:lnTo>
                      <a:pt x="178" y="437"/>
                    </a:lnTo>
                    <a:lnTo>
                      <a:pt x="188" y="440"/>
                    </a:lnTo>
                    <a:lnTo>
                      <a:pt x="192" y="447"/>
                    </a:lnTo>
                    <a:lnTo>
                      <a:pt x="194" y="458"/>
                    </a:lnTo>
                    <a:lnTo>
                      <a:pt x="194" y="467"/>
                    </a:lnTo>
                    <a:lnTo>
                      <a:pt x="192" y="478"/>
                    </a:lnTo>
                    <a:lnTo>
                      <a:pt x="187" y="481"/>
                    </a:lnTo>
                    <a:lnTo>
                      <a:pt x="184" y="486"/>
                    </a:lnTo>
                    <a:lnTo>
                      <a:pt x="182" y="492"/>
                    </a:lnTo>
                    <a:lnTo>
                      <a:pt x="182" y="498"/>
                    </a:lnTo>
                    <a:lnTo>
                      <a:pt x="178" y="502"/>
                    </a:lnTo>
                    <a:lnTo>
                      <a:pt x="176" y="504"/>
                    </a:lnTo>
                    <a:lnTo>
                      <a:pt x="171" y="503"/>
                    </a:lnTo>
                    <a:lnTo>
                      <a:pt x="165" y="499"/>
                    </a:lnTo>
                    <a:lnTo>
                      <a:pt x="159" y="486"/>
                    </a:lnTo>
                    <a:lnTo>
                      <a:pt x="154" y="474"/>
                    </a:lnTo>
                    <a:lnTo>
                      <a:pt x="152" y="466"/>
                    </a:lnTo>
                    <a:lnTo>
                      <a:pt x="152" y="460"/>
                    </a:lnTo>
                    <a:lnTo>
                      <a:pt x="152" y="453"/>
                    </a:lnTo>
                    <a:lnTo>
                      <a:pt x="155" y="447"/>
                    </a:lnTo>
                    <a:lnTo>
                      <a:pt x="145" y="456"/>
                    </a:lnTo>
                    <a:lnTo>
                      <a:pt x="138" y="469"/>
                    </a:lnTo>
                    <a:lnTo>
                      <a:pt x="134" y="475"/>
                    </a:lnTo>
                    <a:lnTo>
                      <a:pt x="132" y="482"/>
                    </a:lnTo>
                    <a:lnTo>
                      <a:pt x="128" y="488"/>
                    </a:lnTo>
                    <a:lnTo>
                      <a:pt x="126" y="496"/>
                    </a:lnTo>
                    <a:lnTo>
                      <a:pt x="110" y="509"/>
                    </a:lnTo>
                    <a:lnTo>
                      <a:pt x="99" y="527"/>
                    </a:lnTo>
                    <a:lnTo>
                      <a:pt x="90" y="545"/>
                    </a:lnTo>
                    <a:lnTo>
                      <a:pt x="81" y="564"/>
                    </a:lnTo>
                    <a:lnTo>
                      <a:pt x="72" y="581"/>
                    </a:lnTo>
                    <a:lnTo>
                      <a:pt x="61" y="600"/>
                    </a:lnTo>
                    <a:lnTo>
                      <a:pt x="45" y="613"/>
                    </a:lnTo>
                    <a:lnTo>
                      <a:pt x="25" y="626"/>
                    </a:lnTo>
                    <a:lnTo>
                      <a:pt x="21" y="629"/>
                    </a:lnTo>
                    <a:lnTo>
                      <a:pt x="19" y="634"/>
                    </a:lnTo>
                    <a:lnTo>
                      <a:pt x="15" y="638"/>
                    </a:lnTo>
                    <a:lnTo>
                      <a:pt x="10" y="643"/>
                    </a:lnTo>
                    <a:lnTo>
                      <a:pt x="2" y="638"/>
                    </a:lnTo>
                    <a:lnTo>
                      <a:pt x="0" y="632"/>
                    </a:lnTo>
                    <a:lnTo>
                      <a:pt x="2" y="623"/>
                    </a:lnTo>
                    <a:lnTo>
                      <a:pt x="4" y="617"/>
                    </a:lnTo>
                    <a:lnTo>
                      <a:pt x="7" y="608"/>
                    </a:lnTo>
                    <a:lnTo>
                      <a:pt x="13" y="604"/>
                    </a:lnTo>
                    <a:lnTo>
                      <a:pt x="15" y="585"/>
                    </a:lnTo>
                    <a:lnTo>
                      <a:pt x="19" y="567"/>
                    </a:lnTo>
                    <a:lnTo>
                      <a:pt x="24" y="548"/>
                    </a:lnTo>
                    <a:lnTo>
                      <a:pt x="30" y="531"/>
                    </a:lnTo>
                    <a:lnTo>
                      <a:pt x="36" y="513"/>
                    </a:lnTo>
                    <a:lnTo>
                      <a:pt x="42" y="494"/>
                    </a:lnTo>
                    <a:lnTo>
                      <a:pt x="47" y="476"/>
                    </a:lnTo>
                    <a:lnTo>
                      <a:pt x="52" y="459"/>
                    </a:lnTo>
                    <a:lnTo>
                      <a:pt x="59" y="454"/>
                    </a:lnTo>
                    <a:lnTo>
                      <a:pt x="65" y="448"/>
                    </a:lnTo>
                    <a:lnTo>
                      <a:pt x="69" y="439"/>
                    </a:lnTo>
                    <a:lnTo>
                      <a:pt x="73" y="432"/>
                    </a:lnTo>
                    <a:lnTo>
                      <a:pt x="74" y="422"/>
                    </a:lnTo>
                    <a:lnTo>
                      <a:pt x="76" y="413"/>
                    </a:lnTo>
                    <a:lnTo>
                      <a:pt x="80" y="405"/>
                    </a:lnTo>
                    <a:lnTo>
                      <a:pt x="86" y="399"/>
                    </a:lnTo>
                    <a:lnTo>
                      <a:pt x="94" y="388"/>
                    </a:lnTo>
                    <a:lnTo>
                      <a:pt x="97" y="375"/>
                    </a:lnTo>
                    <a:lnTo>
                      <a:pt x="100" y="362"/>
                    </a:lnTo>
                    <a:lnTo>
                      <a:pt x="102" y="352"/>
                    </a:lnTo>
                    <a:lnTo>
                      <a:pt x="106" y="341"/>
                    </a:lnTo>
                    <a:lnTo>
                      <a:pt x="108" y="330"/>
                    </a:lnTo>
                    <a:lnTo>
                      <a:pt x="110" y="319"/>
                    </a:lnTo>
                    <a:lnTo>
                      <a:pt x="112" y="308"/>
                    </a:lnTo>
                    <a:lnTo>
                      <a:pt x="113" y="296"/>
                    </a:lnTo>
                    <a:lnTo>
                      <a:pt x="118" y="286"/>
                    </a:lnTo>
                    <a:lnTo>
                      <a:pt x="124" y="277"/>
                    </a:lnTo>
                    <a:lnTo>
                      <a:pt x="135" y="272"/>
                    </a:lnTo>
                    <a:lnTo>
                      <a:pt x="137" y="261"/>
                    </a:lnTo>
                    <a:lnTo>
                      <a:pt x="139" y="253"/>
                    </a:lnTo>
                    <a:lnTo>
                      <a:pt x="140" y="242"/>
                    </a:lnTo>
                    <a:lnTo>
                      <a:pt x="143" y="233"/>
                    </a:lnTo>
                    <a:lnTo>
                      <a:pt x="144" y="223"/>
                    </a:lnTo>
                    <a:lnTo>
                      <a:pt x="146" y="215"/>
                    </a:lnTo>
                    <a:lnTo>
                      <a:pt x="150" y="205"/>
                    </a:lnTo>
                    <a:lnTo>
                      <a:pt x="154" y="196"/>
                    </a:lnTo>
                    <a:lnTo>
                      <a:pt x="155" y="187"/>
                    </a:lnTo>
                    <a:lnTo>
                      <a:pt x="156" y="178"/>
                    </a:lnTo>
                    <a:lnTo>
                      <a:pt x="160" y="169"/>
                    </a:lnTo>
                    <a:lnTo>
                      <a:pt x="170" y="166"/>
                    </a:lnTo>
                    <a:lnTo>
                      <a:pt x="177" y="168"/>
                    </a:lnTo>
                    <a:lnTo>
                      <a:pt x="181" y="175"/>
                    </a:lnTo>
                    <a:lnTo>
                      <a:pt x="178" y="187"/>
                    </a:lnTo>
                    <a:lnTo>
                      <a:pt x="177" y="199"/>
                    </a:lnTo>
                    <a:lnTo>
                      <a:pt x="175" y="211"/>
                    </a:lnTo>
                    <a:lnTo>
                      <a:pt x="173" y="223"/>
                    </a:lnTo>
                    <a:lnTo>
                      <a:pt x="171" y="236"/>
                    </a:lnTo>
                    <a:lnTo>
                      <a:pt x="171" y="248"/>
                    </a:lnTo>
                    <a:lnTo>
                      <a:pt x="171" y="260"/>
                    </a:lnTo>
                    <a:lnTo>
                      <a:pt x="173" y="272"/>
                    </a:lnTo>
                    <a:lnTo>
                      <a:pt x="182" y="261"/>
                    </a:lnTo>
                    <a:lnTo>
                      <a:pt x="187" y="249"/>
                    </a:lnTo>
                    <a:lnTo>
                      <a:pt x="189" y="236"/>
                    </a:lnTo>
                    <a:lnTo>
                      <a:pt x="194" y="226"/>
                    </a:lnTo>
                    <a:lnTo>
                      <a:pt x="195" y="216"/>
                    </a:lnTo>
                    <a:lnTo>
                      <a:pt x="198" y="207"/>
                    </a:lnTo>
                    <a:lnTo>
                      <a:pt x="200" y="198"/>
                    </a:lnTo>
                    <a:lnTo>
                      <a:pt x="203" y="189"/>
                    </a:lnTo>
                    <a:lnTo>
                      <a:pt x="204" y="179"/>
                    </a:lnTo>
                    <a:lnTo>
                      <a:pt x="206" y="169"/>
                    </a:lnTo>
                    <a:lnTo>
                      <a:pt x="209" y="160"/>
                    </a:lnTo>
                    <a:lnTo>
                      <a:pt x="213" y="152"/>
                    </a:lnTo>
                    <a:lnTo>
                      <a:pt x="227" y="146"/>
                    </a:lnTo>
                    <a:lnTo>
                      <a:pt x="236" y="160"/>
                    </a:lnTo>
                    <a:lnTo>
                      <a:pt x="241" y="152"/>
                    </a:lnTo>
                    <a:lnTo>
                      <a:pt x="246" y="145"/>
                    </a:lnTo>
                    <a:lnTo>
                      <a:pt x="249" y="137"/>
                    </a:lnTo>
                    <a:lnTo>
                      <a:pt x="254" y="131"/>
                    </a:lnTo>
                    <a:lnTo>
                      <a:pt x="258" y="123"/>
                    </a:lnTo>
                    <a:lnTo>
                      <a:pt x="262" y="114"/>
                    </a:lnTo>
                    <a:lnTo>
                      <a:pt x="265" y="107"/>
                    </a:lnTo>
                    <a:lnTo>
                      <a:pt x="270" y="99"/>
                    </a:lnTo>
                    <a:lnTo>
                      <a:pt x="275" y="91"/>
                    </a:lnTo>
                    <a:lnTo>
                      <a:pt x="281" y="83"/>
                    </a:lnTo>
                    <a:lnTo>
                      <a:pt x="287" y="76"/>
                    </a:lnTo>
                    <a:lnTo>
                      <a:pt x="298" y="76"/>
                    </a:lnTo>
                    <a:lnTo>
                      <a:pt x="300" y="83"/>
                    </a:lnTo>
                    <a:lnTo>
                      <a:pt x="301" y="91"/>
                    </a:lnTo>
                    <a:lnTo>
                      <a:pt x="298" y="98"/>
                    </a:lnTo>
                    <a:lnTo>
                      <a:pt x="296" y="107"/>
                    </a:lnTo>
                    <a:lnTo>
                      <a:pt x="291" y="113"/>
                    </a:lnTo>
                    <a:lnTo>
                      <a:pt x="287" y="119"/>
                    </a:lnTo>
                    <a:lnTo>
                      <a:pt x="284" y="126"/>
                    </a:lnTo>
                    <a:lnTo>
                      <a:pt x="282" y="134"/>
                    </a:lnTo>
                    <a:lnTo>
                      <a:pt x="262" y="212"/>
                    </a:lnTo>
                    <a:lnTo>
                      <a:pt x="263" y="216"/>
                    </a:lnTo>
                    <a:lnTo>
                      <a:pt x="263" y="221"/>
                    </a:lnTo>
                    <a:lnTo>
                      <a:pt x="262" y="223"/>
                    </a:lnTo>
                    <a:lnTo>
                      <a:pt x="268" y="226"/>
                    </a:lnTo>
                    <a:lnTo>
                      <a:pt x="274" y="220"/>
                    </a:lnTo>
                    <a:lnTo>
                      <a:pt x="275" y="213"/>
                    </a:lnTo>
                    <a:lnTo>
                      <a:pt x="273" y="205"/>
                    </a:lnTo>
                    <a:lnTo>
                      <a:pt x="275" y="199"/>
                    </a:lnTo>
                    <a:lnTo>
                      <a:pt x="278" y="188"/>
                    </a:lnTo>
                    <a:lnTo>
                      <a:pt x="282" y="179"/>
                    </a:lnTo>
                    <a:lnTo>
                      <a:pt x="287" y="171"/>
                    </a:lnTo>
                    <a:lnTo>
                      <a:pt x="295" y="163"/>
                    </a:lnTo>
                    <a:lnTo>
                      <a:pt x="300" y="155"/>
                    </a:lnTo>
                    <a:lnTo>
                      <a:pt x="306" y="147"/>
                    </a:lnTo>
                    <a:lnTo>
                      <a:pt x="309" y="137"/>
                    </a:lnTo>
                    <a:lnTo>
                      <a:pt x="314" y="129"/>
                    </a:lnTo>
                    <a:lnTo>
                      <a:pt x="318" y="119"/>
                    </a:lnTo>
                    <a:lnTo>
                      <a:pt x="323" y="110"/>
                    </a:lnTo>
                    <a:lnTo>
                      <a:pt x="327" y="102"/>
                    </a:lnTo>
                    <a:lnTo>
                      <a:pt x="333" y="93"/>
                    </a:lnTo>
                    <a:lnTo>
                      <a:pt x="336" y="83"/>
                    </a:lnTo>
                    <a:lnTo>
                      <a:pt x="341" y="74"/>
                    </a:lnTo>
                    <a:lnTo>
                      <a:pt x="346" y="64"/>
                    </a:lnTo>
                    <a:lnTo>
                      <a:pt x="351" y="55"/>
                    </a:lnTo>
                    <a:lnTo>
                      <a:pt x="355" y="49"/>
                    </a:lnTo>
                    <a:lnTo>
                      <a:pt x="361" y="43"/>
                    </a:lnTo>
                    <a:lnTo>
                      <a:pt x="368" y="37"/>
                    </a:lnTo>
                    <a:lnTo>
                      <a:pt x="378" y="36"/>
                    </a:lnTo>
                    <a:lnTo>
                      <a:pt x="379" y="42"/>
                    </a:lnTo>
                    <a:lnTo>
                      <a:pt x="383" y="49"/>
                    </a:lnTo>
                    <a:lnTo>
                      <a:pt x="388" y="49"/>
                    </a:lnTo>
                    <a:lnTo>
                      <a:pt x="393" y="41"/>
                    </a:lnTo>
                    <a:lnTo>
                      <a:pt x="398" y="33"/>
                    </a:lnTo>
                    <a:lnTo>
                      <a:pt x="401" y="26"/>
                    </a:lnTo>
                    <a:lnTo>
                      <a:pt x="407" y="18"/>
                    </a:lnTo>
                    <a:lnTo>
                      <a:pt x="411" y="10"/>
                    </a:lnTo>
                    <a:lnTo>
                      <a:pt x="418" y="5"/>
                    </a:lnTo>
                    <a:lnTo>
                      <a:pt x="426" y="0"/>
                    </a:lnTo>
                    <a:lnTo>
                      <a:pt x="436" y="0"/>
                    </a:lnTo>
                    <a:lnTo>
                      <a:pt x="438" y="7"/>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1" name="Freeform 228"/>
              <p:cNvSpPr/>
              <p:nvPr/>
            </p:nvSpPr>
            <p:spPr>
              <a:xfrm flipH="1">
                <a:off x="7328160" y="2977200"/>
                <a:ext cx="5400" cy="3240"/>
              </a:xfrm>
              <a:custGeom>
                <a:avLst/>
                <a:gdLst>
                  <a:gd name="textAreaLeft" fmla="*/ -360 w 5400"/>
                  <a:gd name="textAreaRight" fmla="*/ 5400 w 5400"/>
                  <a:gd name="textAreaTop" fmla="*/ 0 h 3240"/>
                  <a:gd name="textAreaBottom" fmla="*/ 3600 h 3240"/>
                </a:gdLst>
                <a:ahLst/>
                <a:rect l="textAreaLeft" t="textAreaTop" r="textAreaRight" b="textAreaBottom"/>
                <a:pathLst>
                  <a:path w="21" h="12">
                    <a:moveTo>
                      <a:pt x="0" y="12"/>
                    </a:moveTo>
                    <a:lnTo>
                      <a:pt x="21" y="0"/>
                    </a:lnTo>
                    <a:lnTo>
                      <a:pt x="16" y="3"/>
                    </a:lnTo>
                    <a:lnTo>
                      <a:pt x="10" y="7"/>
                    </a:lnTo>
                    <a:lnTo>
                      <a:pt x="4" y="9"/>
                    </a:lnTo>
                    <a:lnTo>
                      <a:pt x="0" y="12"/>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Humanst521 BT"/>
                </a:endParaRPr>
              </a:p>
            </p:txBody>
          </p:sp>
          <p:sp>
            <p:nvSpPr>
              <p:cNvPr id="142" name="Freeform 229"/>
              <p:cNvSpPr/>
              <p:nvPr/>
            </p:nvSpPr>
            <p:spPr>
              <a:xfrm flipH="1">
                <a:off x="6955560" y="3056760"/>
                <a:ext cx="234720" cy="296280"/>
              </a:xfrm>
              <a:custGeom>
                <a:avLst/>
                <a:gdLst>
                  <a:gd name="textAreaLeft" fmla="*/ 360 w 234720"/>
                  <a:gd name="textAreaRight" fmla="*/ 235440 w 234720"/>
                  <a:gd name="textAreaTop" fmla="*/ 0 h 296280"/>
                  <a:gd name="textAreaBottom" fmla="*/ 296280 h 296280"/>
                </a:gdLst>
                <a:ahLst/>
                <a:rect l="textAreaLeft" t="textAreaTop" r="textAreaRight" b="textAreaBottom"/>
                <a:pathLst>
                  <a:path w="834" h="1047">
                    <a:moveTo>
                      <a:pt x="660" y="42"/>
                    </a:moveTo>
                    <a:lnTo>
                      <a:pt x="656" y="44"/>
                    </a:lnTo>
                    <a:lnTo>
                      <a:pt x="632" y="168"/>
                    </a:lnTo>
                    <a:lnTo>
                      <a:pt x="624" y="178"/>
                    </a:lnTo>
                    <a:lnTo>
                      <a:pt x="620" y="191"/>
                    </a:lnTo>
                    <a:lnTo>
                      <a:pt x="618" y="197"/>
                    </a:lnTo>
                    <a:lnTo>
                      <a:pt x="616" y="205"/>
                    </a:lnTo>
                    <a:lnTo>
                      <a:pt x="614" y="211"/>
                    </a:lnTo>
                    <a:lnTo>
                      <a:pt x="613" y="218"/>
                    </a:lnTo>
                    <a:lnTo>
                      <a:pt x="616" y="226"/>
                    </a:lnTo>
                    <a:lnTo>
                      <a:pt x="622" y="218"/>
                    </a:lnTo>
                    <a:lnTo>
                      <a:pt x="629" y="211"/>
                    </a:lnTo>
                    <a:lnTo>
                      <a:pt x="633" y="201"/>
                    </a:lnTo>
                    <a:lnTo>
                      <a:pt x="640" y="193"/>
                    </a:lnTo>
                    <a:lnTo>
                      <a:pt x="643" y="183"/>
                    </a:lnTo>
                    <a:lnTo>
                      <a:pt x="648" y="174"/>
                    </a:lnTo>
                    <a:lnTo>
                      <a:pt x="653" y="164"/>
                    </a:lnTo>
                    <a:lnTo>
                      <a:pt x="660" y="157"/>
                    </a:lnTo>
                    <a:lnTo>
                      <a:pt x="667" y="141"/>
                    </a:lnTo>
                    <a:lnTo>
                      <a:pt x="673" y="125"/>
                    </a:lnTo>
                    <a:lnTo>
                      <a:pt x="678" y="108"/>
                    </a:lnTo>
                    <a:lnTo>
                      <a:pt x="684" y="93"/>
                    </a:lnTo>
                    <a:lnTo>
                      <a:pt x="690" y="76"/>
                    </a:lnTo>
                    <a:lnTo>
                      <a:pt x="697" y="61"/>
                    </a:lnTo>
                    <a:lnTo>
                      <a:pt x="705" y="48"/>
                    </a:lnTo>
                    <a:lnTo>
                      <a:pt x="716" y="37"/>
                    </a:lnTo>
                    <a:lnTo>
                      <a:pt x="723" y="43"/>
                    </a:lnTo>
                    <a:lnTo>
                      <a:pt x="724" y="50"/>
                    </a:lnTo>
                    <a:lnTo>
                      <a:pt x="722" y="59"/>
                    </a:lnTo>
                    <a:lnTo>
                      <a:pt x="720" y="69"/>
                    </a:lnTo>
                    <a:lnTo>
                      <a:pt x="718" y="77"/>
                    </a:lnTo>
                    <a:lnTo>
                      <a:pt x="716" y="88"/>
                    </a:lnTo>
                    <a:lnTo>
                      <a:pt x="713" y="99"/>
                    </a:lnTo>
                    <a:lnTo>
                      <a:pt x="711" y="112"/>
                    </a:lnTo>
                    <a:lnTo>
                      <a:pt x="707" y="123"/>
                    </a:lnTo>
                    <a:lnTo>
                      <a:pt x="706" y="135"/>
                    </a:lnTo>
                    <a:lnTo>
                      <a:pt x="705" y="146"/>
                    </a:lnTo>
                    <a:lnTo>
                      <a:pt x="705" y="158"/>
                    </a:lnTo>
                    <a:lnTo>
                      <a:pt x="711" y="153"/>
                    </a:lnTo>
                    <a:lnTo>
                      <a:pt x="717" y="147"/>
                    </a:lnTo>
                    <a:lnTo>
                      <a:pt x="722" y="139"/>
                    </a:lnTo>
                    <a:lnTo>
                      <a:pt x="727" y="131"/>
                    </a:lnTo>
                    <a:lnTo>
                      <a:pt x="732" y="123"/>
                    </a:lnTo>
                    <a:lnTo>
                      <a:pt x="738" y="119"/>
                    </a:lnTo>
                    <a:lnTo>
                      <a:pt x="745" y="118"/>
                    </a:lnTo>
                    <a:lnTo>
                      <a:pt x="757" y="124"/>
                    </a:lnTo>
                    <a:lnTo>
                      <a:pt x="754" y="131"/>
                    </a:lnTo>
                    <a:lnTo>
                      <a:pt x="751" y="139"/>
                    </a:lnTo>
                    <a:lnTo>
                      <a:pt x="747" y="146"/>
                    </a:lnTo>
                    <a:lnTo>
                      <a:pt x="744" y="155"/>
                    </a:lnTo>
                    <a:lnTo>
                      <a:pt x="739" y="161"/>
                    </a:lnTo>
                    <a:lnTo>
                      <a:pt x="734" y="167"/>
                    </a:lnTo>
                    <a:lnTo>
                      <a:pt x="729" y="174"/>
                    </a:lnTo>
                    <a:lnTo>
                      <a:pt x="724" y="181"/>
                    </a:lnTo>
                    <a:lnTo>
                      <a:pt x="727" y="184"/>
                    </a:lnTo>
                    <a:lnTo>
                      <a:pt x="739" y="175"/>
                    </a:lnTo>
                    <a:lnTo>
                      <a:pt x="751" y="167"/>
                    </a:lnTo>
                    <a:lnTo>
                      <a:pt x="762" y="158"/>
                    </a:lnTo>
                    <a:lnTo>
                      <a:pt x="776" y="151"/>
                    </a:lnTo>
                    <a:lnTo>
                      <a:pt x="787" y="143"/>
                    </a:lnTo>
                    <a:lnTo>
                      <a:pt x="800" y="139"/>
                    </a:lnTo>
                    <a:lnTo>
                      <a:pt x="814" y="134"/>
                    </a:lnTo>
                    <a:lnTo>
                      <a:pt x="828" y="134"/>
                    </a:lnTo>
                    <a:lnTo>
                      <a:pt x="832" y="140"/>
                    </a:lnTo>
                    <a:lnTo>
                      <a:pt x="833" y="147"/>
                    </a:lnTo>
                    <a:lnTo>
                      <a:pt x="808" y="163"/>
                    </a:lnTo>
                    <a:lnTo>
                      <a:pt x="811" y="168"/>
                    </a:lnTo>
                    <a:lnTo>
                      <a:pt x="814" y="174"/>
                    </a:lnTo>
                    <a:lnTo>
                      <a:pt x="814" y="180"/>
                    </a:lnTo>
                    <a:lnTo>
                      <a:pt x="815" y="189"/>
                    </a:lnTo>
                    <a:lnTo>
                      <a:pt x="804" y="201"/>
                    </a:lnTo>
                    <a:lnTo>
                      <a:pt x="789" y="212"/>
                    </a:lnTo>
                    <a:lnTo>
                      <a:pt x="772" y="222"/>
                    </a:lnTo>
                    <a:lnTo>
                      <a:pt x="756" y="233"/>
                    </a:lnTo>
                    <a:lnTo>
                      <a:pt x="743" y="244"/>
                    </a:lnTo>
                    <a:lnTo>
                      <a:pt x="735" y="258"/>
                    </a:lnTo>
                    <a:lnTo>
                      <a:pt x="736" y="273"/>
                    </a:lnTo>
                    <a:lnTo>
                      <a:pt x="750" y="294"/>
                    </a:lnTo>
                    <a:lnTo>
                      <a:pt x="761" y="296"/>
                    </a:lnTo>
                    <a:lnTo>
                      <a:pt x="771" y="289"/>
                    </a:lnTo>
                    <a:lnTo>
                      <a:pt x="772" y="297"/>
                    </a:lnTo>
                    <a:lnTo>
                      <a:pt x="774" y="305"/>
                    </a:lnTo>
                    <a:lnTo>
                      <a:pt x="774" y="313"/>
                    </a:lnTo>
                    <a:lnTo>
                      <a:pt x="773" y="323"/>
                    </a:lnTo>
                    <a:lnTo>
                      <a:pt x="762" y="319"/>
                    </a:lnTo>
                    <a:lnTo>
                      <a:pt x="755" y="323"/>
                    </a:lnTo>
                    <a:lnTo>
                      <a:pt x="754" y="331"/>
                    </a:lnTo>
                    <a:lnTo>
                      <a:pt x="754" y="341"/>
                    </a:lnTo>
                    <a:lnTo>
                      <a:pt x="755" y="350"/>
                    </a:lnTo>
                    <a:lnTo>
                      <a:pt x="763" y="354"/>
                    </a:lnTo>
                    <a:lnTo>
                      <a:pt x="773" y="354"/>
                    </a:lnTo>
                    <a:lnTo>
                      <a:pt x="782" y="361"/>
                    </a:lnTo>
                    <a:lnTo>
                      <a:pt x="788" y="364"/>
                    </a:lnTo>
                    <a:lnTo>
                      <a:pt x="798" y="361"/>
                    </a:lnTo>
                    <a:lnTo>
                      <a:pt x="806" y="364"/>
                    </a:lnTo>
                    <a:lnTo>
                      <a:pt x="816" y="368"/>
                    </a:lnTo>
                    <a:lnTo>
                      <a:pt x="825" y="372"/>
                    </a:lnTo>
                    <a:lnTo>
                      <a:pt x="834" y="375"/>
                    </a:lnTo>
                    <a:lnTo>
                      <a:pt x="833" y="391"/>
                    </a:lnTo>
                    <a:lnTo>
                      <a:pt x="830" y="390"/>
                    </a:lnTo>
                    <a:lnTo>
                      <a:pt x="826" y="391"/>
                    </a:lnTo>
                    <a:lnTo>
                      <a:pt x="826" y="396"/>
                    </a:lnTo>
                    <a:lnTo>
                      <a:pt x="828" y="400"/>
                    </a:lnTo>
                    <a:lnTo>
                      <a:pt x="823" y="402"/>
                    </a:lnTo>
                    <a:lnTo>
                      <a:pt x="823" y="407"/>
                    </a:lnTo>
                    <a:lnTo>
                      <a:pt x="812" y="406"/>
                    </a:lnTo>
                    <a:lnTo>
                      <a:pt x="803" y="402"/>
                    </a:lnTo>
                    <a:lnTo>
                      <a:pt x="793" y="397"/>
                    </a:lnTo>
                    <a:lnTo>
                      <a:pt x="785" y="392"/>
                    </a:lnTo>
                    <a:lnTo>
                      <a:pt x="777" y="388"/>
                    </a:lnTo>
                    <a:lnTo>
                      <a:pt x="770" y="385"/>
                    </a:lnTo>
                    <a:lnTo>
                      <a:pt x="761" y="386"/>
                    </a:lnTo>
                    <a:lnTo>
                      <a:pt x="752" y="391"/>
                    </a:lnTo>
                    <a:lnTo>
                      <a:pt x="758" y="397"/>
                    </a:lnTo>
                    <a:lnTo>
                      <a:pt x="767" y="403"/>
                    </a:lnTo>
                    <a:lnTo>
                      <a:pt x="776" y="408"/>
                    </a:lnTo>
                    <a:lnTo>
                      <a:pt x="787" y="415"/>
                    </a:lnTo>
                    <a:lnTo>
                      <a:pt x="796" y="419"/>
                    </a:lnTo>
                    <a:lnTo>
                      <a:pt x="806" y="426"/>
                    </a:lnTo>
                    <a:lnTo>
                      <a:pt x="816" y="433"/>
                    </a:lnTo>
                    <a:lnTo>
                      <a:pt x="826" y="442"/>
                    </a:lnTo>
                    <a:lnTo>
                      <a:pt x="820" y="448"/>
                    </a:lnTo>
                    <a:lnTo>
                      <a:pt x="812" y="455"/>
                    </a:lnTo>
                    <a:lnTo>
                      <a:pt x="805" y="451"/>
                    </a:lnTo>
                    <a:lnTo>
                      <a:pt x="798" y="448"/>
                    </a:lnTo>
                    <a:lnTo>
                      <a:pt x="790" y="444"/>
                    </a:lnTo>
                    <a:lnTo>
                      <a:pt x="783" y="440"/>
                    </a:lnTo>
                    <a:lnTo>
                      <a:pt x="774" y="437"/>
                    </a:lnTo>
                    <a:lnTo>
                      <a:pt x="767" y="435"/>
                    </a:lnTo>
                    <a:lnTo>
                      <a:pt x="760" y="434"/>
                    </a:lnTo>
                    <a:lnTo>
                      <a:pt x="752" y="434"/>
                    </a:lnTo>
                    <a:lnTo>
                      <a:pt x="757" y="439"/>
                    </a:lnTo>
                    <a:lnTo>
                      <a:pt x="765" y="445"/>
                    </a:lnTo>
                    <a:lnTo>
                      <a:pt x="772" y="450"/>
                    </a:lnTo>
                    <a:lnTo>
                      <a:pt x="781" y="455"/>
                    </a:lnTo>
                    <a:lnTo>
                      <a:pt x="788" y="459"/>
                    </a:lnTo>
                    <a:lnTo>
                      <a:pt x="796" y="462"/>
                    </a:lnTo>
                    <a:lnTo>
                      <a:pt x="805" y="466"/>
                    </a:lnTo>
                    <a:lnTo>
                      <a:pt x="815" y="471"/>
                    </a:lnTo>
                    <a:lnTo>
                      <a:pt x="821" y="486"/>
                    </a:lnTo>
                    <a:lnTo>
                      <a:pt x="814" y="480"/>
                    </a:lnTo>
                    <a:lnTo>
                      <a:pt x="808" y="476"/>
                    </a:lnTo>
                    <a:lnTo>
                      <a:pt x="799" y="473"/>
                    </a:lnTo>
                    <a:lnTo>
                      <a:pt x="792" y="476"/>
                    </a:lnTo>
                    <a:lnTo>
                      <a:pt x="783" y="480"/>
                    </a:lnTo>
                    <a:lnTo>
                      <a:pt x="772" y="480"/>
                    </a:lnTo>
                    <a:lnTo>
                      <a:pt x="766" y="478"/>
                    </a:lnTo>
                    <a:lnTo>
                      <a:pt x="762" y="480"/>
                    </a:lnTo>
                    <a:lnTo>
                      <a:pt x="760" y="482"/>
                    </a:lnTo>
                    <a:lnTo>
                      <a:pt x="761" y="489"/>
                    </a:lnTo>
                    <a:lnTo>
                      <a:pt x="757" y="492"/>
                    </a:lnTo>
                    <a:lnTo>
                      <a:pt x="755" y="497"/>
                    </a:lnTo>
                    <a:lnTo>
                      <a:pt x="760" y="498"/>
                    </a:lnTo>
                    <a:lnTo>
                      <a:pt x="762" y="500"/>
                    </a:lnTo>
                    <a:lnTo>
                      <a:pt x="762" y="504"/>
                    </a:lnTo>
                    <a:lnTo>
                      <a:pt x="762" y="509"/>
                    </a:lnTo>
                    <a:lnTo>
                      <a:pt x="757" y="516"/>
                    </a:lnTo>
                    <a:lnTo>
                      <a:pt x="755" y="525"/>
                    </a:lnTo>
                    <a:lnTo>
                      <a:pt x="745" y="529"/>
                    </a:lnTo>
                    <a:lnTo>
                      <a:pt x="736" y="531"/>
                    </a:lnTo>
                    <a:lnTo>
                      <a:pt x="729" y="533"/>
                    </a:lnTo>
                    <a:lnTo>
                      <a:pt x="727" y="543"/>
                    </a:lnTo>
                    <a:lnTo>
                      <a:pt x="722" y="546"/>
                    </a:lnTo>
                    <a:lnTo>
                      <a:pt x="720" y="549"/>
                    </a:lnTo>
                    <a:lnTo>
                      <a:pt x="727" y="556"/>
                    </a:lnTo>
                    <a:lnTo>
                      <a:pt x="734" y="563"/>
                    </a:lnTo>
                    <a:lnTo>
                      <a:pt x="730" y="569"/>
                    </a:lnTo>
                    <a:lnTo>
                      <a:pt x="724" y="574"/>
                    </a:lnTo>
                    <a:lnTo>
                      <a:pt x="717" y="578"/>
                    </a:lnTo>
                    <a:lnTo>
                      <a:pt x="711" y="581"/>
                    </a:lnTo>
                    <a:lnTo>
                      <a:pt x="713" y="583"/>
                    </a:lnTo>
                    <a:lnTo>
                      <a:pt x="717" y="585"/>
                    </a:lnTo>
                    <a:lnTo>
                      <a:pt x="720" y="586"/>
                    </a:lnTo>
                    <a:lnTo>
                      <a:pt x="723" y="591"/>
                    </a:lnTo>
                    <a:lnTo>
                      <a:pt x="718" y="600"/>
                    </a:lnTo>
                    <a:lnTo>
                      <a:pt x="711" y="606"/>
                    </a:lnTo>
                    <a:lnTo>
                      <a:pt x="707" y="607"/>
                    </a:lnTo>
                    <a:lnTo>
                      <a:pt x="706" y="611"/>
                    </a:lnTo>
                    <a:lnTo>
                      <a:pt x="707" y="614"/>
                    </a:lnTo>
                    <a:lnTo>
                      <a:pt x="713" y="621"/>
                    </a:lnTo>
                    <a:lnTo>
                      <a:pt x="703" y="625"/>
                    </a:lnTo>
                    <a:lnTo>
                      <a:pt x="695" y="632"/>
                    </a:lnTo>
                    <a:lnTo>
                      <a:pt x="686" y="635"/>
                    </a:lnTo>
                    <a:lnTo>
                      <a:pt x="678" y="640"/>
                    </a:lnTo>
                    <a:lnTo>
                      <a:pt x="668" y="644"/>
                    </a:lnTo>
                    <a:lnTo>
                      <a:pt x="658" y="648"/>
                    </a:lnTo>
                    <a:lnTo>
                      <a:pt x="648" y="651"/>
                    </a:lnTo>
                    <a:lnTo>
                      <a:pt x="640" y="657"/>
                    </a:lnTo>
                    <a:lnTo>
                      <a:pt x="649" y="659"/>
                    </a:lnTo>
                    <a:lnTo>
                      <a:pt x="660" y="656"/>
                    </a:lnTo>
                    <a:lnTo>
                      <a:pt x="673" y="651"/>
                    </a:lnTo>
                    <a:lnTo>
                      <a:pt x="686" y="651"/>
                    </a:lnTo>
                    <a:lnTo>
                      <a:pt x="689" y="657"/>
                    </a:lnTo>
                    <a:lnTo>
                      <a:pt x="687" y="665"/>
                    </a:lnTo>
                    <a:lnTo>
                      <a:pt x="676" y="671"/>
                    </a:lnTo>
                    <a:lnTo>
                      <a:pt x="667" y="677"/>
                    </a:lnTo>
                    <a:lnTo>
                      <a:pt x="657" y="682"/>
                    </a:lnTo>
                    <a:lnTo>
                      <a:pt x="647" y="688"/>
                    </a:lnTo>
                    <a:lnTo>
                      <a:pt x="636" y="693"/>
                    </a:lnTo>
                    <a:lnTo>
                      <a:pt x="627" y="698"/>
                    </a:lnTo>
                    <a:lnTo>
                      <a:pt x="618" y="703"/>
                    </a:lnTo>
                    <a:lnTo>
                      <a:pt x="610" y="709"/>
                    </a:lnTo>
                    <a:lnTo>
                      <a:pt x="619" y="709"/>
                    </a:lnTo>
                    <a:lnTo>
                      <a:pt x="629" y="709"/>
                    </a:lnTo>
                    <a:lnTo>
                      <a:pt x="638" y="709"/>
                    </a:lnTo>
                    <a:lnTo>
                      <a:pt x="649" y="715"/>
                    </a:lnTo>
                    <a:lnTo>
                      <a:pt x="644" y="729"/>
                    </a:lnTo>
                    <a:lnTo>
                      <a:pt x="630" y="732"/>
                    </a:lnTo>
                    <a:lnTo>
                      <a:pt x="616" y="736"/>
                    </a:lnTo>
                    <a:lnTo>
                      <a:pt x="603" y="740"/>
                    </a:lnTo>
                    <a:lnTo>
                      <a:pt x="591" y="744"/>
                    </a:lnTo>
                    <a:lnTo>
                      <a:pt x="576" y="748"/>
                    </a:lnTo>
                    <a:lnTo>
                      <a:pt x="564" y="753"/>
                    </a:lnTo>
                    <a:lnTo>
                      <a:pt x="549" y="757"/>
                    </a:lnTo>
                    <a:lnTo>
                      <a:pt x="537" y="762"/>
                    </a:lnTo>
                    <a:lnTo>
                      <a:pt x="533" y="764"/>
                    </a:lnTo>
                    <a:lnTo>
                      <a:pt x="529" y="768"/>
                    </a:lnTo>
                    <a:lnTo>
                      <a:pt x="527" y="771"/>
                    </a:lnTo>
                    <a:lnTo>
                      <a:pt x="529" y="778"/>
                    </a:lnTo>
                    <a:lnTo>
                      <a:pt x="537" y="776"/>
                    </a:lnTo>
                    <a:lnTo>
                      <a:pt x="546" y="775"/>
                    </a:lnTo>
                    <a:lnTo>
                      <a:pt x="554" y="773"/>
                    </a:lnTo>
                    <a:lnTo>
                      <a:pt x="564" y="771"/>
                    </a:lnTo>
                    <a:lnTo>
                      <a:pt x="572" y="770"/>
                    </a:lnTo>
                    <a:lnTo>
                      <a:pt x="581" y="770"/>
                    </a:lnTo>
                    <a:lnTo>
                      <a:pt x="589" y="773"/>
                    </a:lnTo>
                    <a:lnTo>
                      <a:pt x="598" y="778"/>
                    </a:lnTo>
                    <a:lnTo>
                      <a:pt x="593" y="786"/>
                    </a:lnTo>
                    <a:lnTo>
                      <a:pt x="586" y="791"/>
                    </a:lnTo>
                    <a:lnTo>
                      <a:pt x="577" y="794"/>
                    </a:lnTo>
                    <a:lnTo>
                      <a:pt x="571" y="798"/>
                    </a:lnTo>
                    <a:lnTo>
                      <a:pt x="565" y="797"/>
                    </a:lnTo>
                    <a:lnTo>
                      <a:pt x="559" y="801"/>
                    </a:lnTo>
                    <a:lnTo>
                      <a:pt x="561" y="805"/>
                    </a:lnTo>
                    <a:lnTo>
                      <a:pt x="567" y="809"/>
                    </a:lnTo>
                    <a:lnTo>
                      <a:pt x="570" y="813"/>
                    </a:lnTo>
                    <a:lnTo>
                      <a:pt x="568" y="820"/>
                    </a:lnTo>
                    <a:lnTo>
                      <a:pt x="557" y="823"/>
                    </a:lnTo>
                    <a:lnTo>
                      <a:pt x="548" y="827"/>
                    </a:lnTo>
                    <a:lnTo>
                      <a:pt x="538" y="829"/>
                    </a:lnTo>
                    <a:lnTo>
                      <a:pt x="528" y="832"/>
                    </a:lnTo>
                    <a:lnTo>
                      <a:pt x="517" y="833"/>
                    </a:lnTo>
                    <a:lnTo>
                      <a:pt x="507" y="836"/>
                    </a:lnTo>
                    <a:lnTo>
                      <a:pt x="497" y="838"/>
                    </a:lnTo>
                    <a:lnTo>
                      <a:pt x="488" y="841"/>
                    </a:lnTo>
                    <a:lnTo>
                      <a:pt x="477" y="849"/>
                    </a:lnTo>
                    <a:lnTo>
                      <a:pt x="467" y="854"/>
                    </a:lnTo>
                    <a:lnTo>
                      <a:pt x="456" y="859"/>
                    </a:lnTo>
                    <a:lnTo>
                      <a:pt x="445" y="867"/>
                    </a:lnTo>
                    <a:lnTo>
                      <a:pt x="455" y="868"/>
                    </a:lnTo>
                    <a:lnTo>
                      <a:pt x="466" y="867"/>
                    </a:lnTo>
                    <a:lnTo>
                      <a:pt x="478" y="865"/>
                    </a:lnTo>
                    <a:lnTo>
                      <a:pt x="490" y="865"/>
                    </a:lnTo>
                    <a:lnTo>
                      <a:pt x="495" y="871"/>
                    </a:lnTo>
                    <a:lnTo>
                      <a:pt x="500" y="878"/>
                    </a:lnTo>
                    <a:lnTo>
                      <a:pt x="493" y="882"/>
                    </a:lnTo>
                    <a:lnTo>
                      <a:pt x="486" y="887"/>
                    </a:lnTo>
                    <a:lnTo>
                      <a:pt x="479" y="889"/>
                    </a:lnTo>
                    <a:lnTo>
                      <a:pt x="473" y="892"/>
                    </a:lnTo>
                    <a:lnTo>
                      <a:pt x="466" y="893"/>
                    </a:lnTo>
                    <a:lnTo>
                      <a:pt x="459" y="894"/>
                    </a:lnTo>
                    <a:lnTo>
                      <a:pt x="452" y="897"/>
                    </a:lnTo>
                    <a:lnTo>
                      <a:pt x="447" y="901"/>
                    </a:lnTo>
                    <a:lnTo>
                      <a:pt x="439" y="904"/>
                    </a:lnTo>
                    <a:lnTo>
                      <a:pt x="431" y="908"/>
                    </a:lnTo>
                    <a:lnTo>
                      <a:pt x="423" y="910"/>
                    </a:lnTo>
                    <a:lnTo>
                      <a:pt x="415" y="914"/>
                    </a:lnTo>
                    <a:lnTo>
                      <a:pt x="407" y="916"/>
                    </a:lnTo>
                    <a:lnTo>
                      <a:pt x="399" y="920"/>
                    </a:lnTo>
                    <a:lnTo>
                      <a:pt x="392" y="924"/>
                    </a:lnTo>
                    <a:lnTo>
                      <a:pt x="385" y="927"/>
                    </a:lnTo>
                    <a:lnTo>
                      <a:pt x="394" y="927"/>
                    </a:lnTo>
                    <a:lnTo>
                      <a:pt x="408" y="926"/>
                    </a:lnTo>
                    <a:lnTo>
                      <a:pt x="413" y="926"/>
                    </a:lnTo>
                    <a:lnTo>
                      <a:pt x="419" y="927"/>
                    </a:lnTo>
                    <a:lnTo>
                      <a:pt x="424" y="930"/>
                    </a:lnTo>
                    <a:lnTo>
                      <a:pt x="430" y="936"/>
                    </a:lnTo>
                    <a:lnTo>
                      <a:pt x="425" y="942"/>
                    </a:lnTo>
                    <a:lnTo>
                      <a:pt x="420" y="947"/>
                    </a:lnTo>
                    <a:lnTo>
                      <a:pt x="414" y="949"/>
                    </a:lnTo>
                    <a:lnTo>
                      <a:pt x="408" y="952"/>
                    </a:lnTo>
                    <a:lnTo>
                      <a:pt x="401" y="953"/>
                    </a:lnTo>
                    <a:lnTo>
                      <a:pt x="393" y="954"/>
                    </a:lnTo>
                    <a:lnTo>
                      <a:pt x="387" y="955"/>
                    </a:lnTo>
                    <a:lnTo>
                      <a:pt x="382" y="959"/>
                    </a:lnTo>
                    <a:lnTo>
                      <a:pt x="369" y="962"/>
                    </a:lnTo>
                    <a:lnTo>
                      <a:pt x="358" y="966"/>
                    </a:lnTo>
                    <a:lnTo>
                      <a:pt x="347" y="974"/>
                    </a:lnTo>
                    <a:lnTo>
                      <a:pt x="337" y="981"/>
                    </a:lnTo>
                    <a:lnTo>
                      <a:pt x="327" y="989"/>
                    </a:lnTo>
                    <a:lnTo>
                      <a:pt x="317" y="997"/>
                    </a:lnTo>
                    <a:lnTo>
                      <a:pt x="306" y="1003"/>
                    </a:lnTo>
                    <a:lnTo>
                      <a:pt x="295" y="1009"/>
                    </a:lnTo>
                    <a:lnTo>
                      <a:pt x="300" y="1011"/>
                    </a:lnTo>
                    <a:lnTo>
                      <a:pt x="309" y="1012"/>
                    </a:lnTo>
                    <a:lnTo>
                      <a:pt x="316" y="1009"/>
                    </a:lnTo>
                    <a:lnTo>
                      <a:pt x="326" y="1009"/>
                    </a:lnTo>
                    <a:lnTo>
                      <a:pt x="332" y="1007"/>
                    </a:lnTo>
                    <a:lnTo>
                      <a:pt x="338" y="1009"/>
                    </a:lnTo>
                    <a:lnTo>
                      <a:pt x="341" y="1014"/>
                    </a:lnTo>
                    <a:lnTo>
                      <a:pt x="341" y="1025"/>
                    </a:lnTo>
                    <a:lnTo>
                      <a:pt x="323" y="1030"/>
                    </a:lnTo>
                    <a:lnTo>
                      <a:pt x="307" y="1035"/>
                    </a:lnTo>
                    <a:lnTo>
                      <a:pt x="291" y="1040"/>
                    </a:lnTo>
                    <a:lnTo>
                      <a:pt x="276" y="1045"/>
                    </a:lnTo>
                    <a:lnTo>
                      <a:pt x="258" y="1046"/>
                    </a:lnTo>
                    <a:lnTo>
                      <a:pt x="241" y="1047"/>
                    </a:lnTo>
                    <a:lnTo>
                      <a:pt x="224" y="1045"/>
                    </a:lnTo>
                    <a:lnTo>
                      <a:pt x="208" y="1041"/>
                    </a:lnTo>
                    <a:lnTo>
                      <a:pt x="203" y="1034"/>
                    </a:lnTo>
                    <a:lnTo>
                      <a:pt x="200" y="1028"/>
                    </a:lnTo>
                    <a:lnTo>
                      <a:pt x="198" y="1020"/>
                    </a:lnTo>
                    <a:lnTo>
                      <a:pt x="198" y="1014"/>
                    </a:lnTo>
                    <a:lnTo>
                      <a:pt x="202" y="1007"/>
                    </a:lnTo>
                    <a:lnTo>
                      <a:pt x="207" y="1000"/>
                    </a:lnTo>
                    <a:lnTo>
                      <a:pt x="212" y="993"/>
                    </a:lnTo>
                    <a:lnTo>
                      <a:pt x="219" y="989"/>
                    </a:lnTo>
                    <a:lnTo>
                      <a:pt x="225" y="982"/>
                    </a:lnTo>
                    <a:lnTo>
                      <a:pt x="233" y="979"/>
                    </a:lnTo>
                    <a:lnTo>
                      <a:pt x="240" y="975"/>
                    </a:lnTo>
                    <a:lnTo>
                      <a:pt x="249" y="975"/>
                    </a:lnTo>
                    <a:lnTo>
                      <a:pt x="267" y="953"/>
                    </a:lnTo>
                    <a:lnTo>
                      <a:pt x="289" y="933"/>
                    </a:lnTo>
                    <a:lnTo>
                      <a:pt x="309" y="912"/>
                    </a:lnTo>
                    <a:lnTo>
                      <a:pt x="329" y="892"/>
                    </a:lnTo>
                    <a:lnTo>
                      <a:pt x="347" y="870"/>
                    </a:lnTo>
                    <a:lnTo>
                      <a:pt x="364" y="847"/>
                    </a:lnTo>
                    <a:lnTo>
                      <a:pt x="379" y="823"/>
                    </a:lnTo>
                    <a:lnTo>
                      <a:pt x="392" y="798"/>
                    </a:lnTo>
                    <a:lnTo>
                      <a:pt x="398" y="789"/>
                    </a:lnTo>
                    <a:lnTo>
                      <a:pt x="407" y="781"/>
                    </a:lnTo>
                    <a:lnTo>
                      <a:pt x="414" y="775"/>
                    </a:lnTo>
                    <a:lnTo>
                      <a:pt x="425" y="769"/>
                    </a:lnTo>
                    <a:lnTo>
                      <a:pt x="434" y="763"/>
                    </a:lnTo>
                    <a:lnTo>
                      <a:pt x="443" y="758"/>
                    </a:lnTo>
                    <a:lnTo>
                      <a:pt x="455" y="753"/>
                    </a:lnTo>
                    <a:lnTo>
                      <a:pt x="466" y="749"/>
                    </a:lnTo>
                    <a:lnTo>
                      <a:pt x="473" y="740"/>
                    </a:lnTo>
                    <a:lnTo>
                      <a:pt x="484" y="736"/>
                    </a:lnTo>
                    <a:lnTo>
                      <a:pt x="495" y="731"/>
                    </a:lnTo>
                    <a:lnTo>
                      <a:pt x="504" y="722"/>
                    </a:lnTo>
                    <a:lnTo>
                      <a:pt x="501" y="713"/>
                    </a:lnTo>
                    <a:lnTo>
                      <a:pt x="500" y="705"/>
                    </a:lnTo>
                    <a:lnTo>
                      <a:pt x="499" y="697"/>
                    </a:lnTo>
                    <a:lnTo>
                      <a:pt x="504" y="692"/>
                    </a:lnTo>
                    <a:lnTo>
                      <a:pt x="515" y="688"/>
                    </a:lnTo>
                    <a:lnTo>
                      <a:pt x="523" y="682"/>
                    </a:lnTo>
                    <a:lnTo>
                      <a:pt x="529" y="673"/>
                    </a:lnTo>
                    <a:lnTo>
                      <a:pt x="537" y="665"/>
                    </a:lnTo>
                    <a:lnTo>
                      <a:pt x="542" y="654"/>
                    </a:lnTo>
                    <a:lnTo>
                      <a:pt x="546" y="643"/>
                    </a:lnTo>
                    <a:lnTo>
                      <a:pt x="551" y="633"/>
                    </a:lnTo>
                    <a:lnTo>
                      <a:pt x="559" y="625"/>
                    </a:lnTo>
                    <a:lnTo>
                      <a:pt x="566" y="614"/>
                    </a:lnTo>
                    <a:lnTo>
                      <a:pt x="573" y="603"/>
                    </a:lnTo>
                    <a:lnTo>
                      <a:pt x="580" y="591"/>
                    </a:lnTo>
                    <a:lnTo>
                      <a:pt x="586" y="579"/>
                    </a:lnTo>
                    <a:lnTo>
                      <a:pt x="589" y="565"/>
                    </a:lnTo>
                    <a:lnTo>
                      <a:pt x="594" y="552"/>
                    </a:lnTo>
                    <a:lnTo>
                      <a:pt x="598" y="538"/>
                    </a:lnTo>
                    <a:lnTo>
                      <a:pt x="603" y="525"/>
                    </a:lnTo>
                    <a:lnTo>
                      <a:pt x="600" y="513"/>
                    </a:lnTo>
                    <a:lnTo>
                      <a:pt x="598" y="502"/>
                    </a:lnTo>
                    <a:lnTo>
                      <a:pt x="594" y="491"/>
                    </a:lnTo>
                    <a:lnTo>
                      <a:pt x="593" y="481"/>
                    </a:lnTo>
                    <a:lnTo>
                      <a:pt x="592" y="470"/>
                    </a:lnTo>
                    <a:lnTo>
                      <a:pt x="593" y="459"/>
                    </a:lnTo>
                    <a:lnTo>
                      <a:pt x="595" y="448"/>
                    </a:lnTo>
                    <a:lnTo>
                      <a:pt x="603" y="437"/>
                    </a:lnTo>
                    <a:lnTo>
                      <a:pt x="608" y="430"/>
                    </a:lnTo>
                    <a:lnTo>
                      <a:pt x="610" y="424"/>
                    </a:lnTo>
                    <a:lnTo>
                      <a:pt x="611" y="417"/>
                    </a:lnTo>
                    <a:lnTo>
                      <a:pt x="616" y="412"/>
                    </a:lnTo>
                    <a:lnTo>
                      <a:pt x="624" y="395"/>
                    </a:lnTo>
                    <a:lnTo>
                      <a:pt x="629" y="378"/>
                    </a:lnTo>
                    <a:lnTo>
                      <a:pt x="630" y="359"/>
                    </a:lnTo>
                    <a:lnTo>
                      <a:pt x="630" y="342"/>
                    </a:lnTo>
                    <a:lnTo>
                      <a:pt x="626" y="324"/>
                    </a:lnTo>
                    <a:lnTo>
                      <a:pt x="622" y="305"/>
                    </a:lnTo>
                    <a:lnTo>
                      <a:pt x="615" y="288"/>
                    </a:lnTo>
                    <a:lnTo>
                      <a:pt x="608" y="273"/>
                    </a:lnTo>
                    <a:lnTo>
                      <a:pt x="592" y="275"/>
                    </a:lnTo>
                    <a:lnTo>
                      <a:pt x="577" y="273"/>
                    </a:lnTo>
                    <a:lnTo>
                      <a:pt x="561" y="271"/>
                    </a:lnTo>
                    <a:lnTo>
                      <a:pt x="546" y="270"/>
                    </a:lnTo>
                    <a:lnTo>
                      <a:pt x="532" y="269"/>
                    </a:lnTo>
                    <a:lnTo>
                      <a:pt x="517" y="271"/>
                    </a:lnTo>
                    <a:lnTo>
                      <a:pt x="504" y="278"/>
                    </a:lnTo>
                    <a:lnTo>
                      <a:pt x="493" y="292"/>
                    </a:lnTo>
                    <a:lnTo>
                      <a:pt x="484" y="291"/>
                    </a:lnTo>
                    <a:lnTo>
                      <a:pt x="477" y="293"/>
                    </a:lnTo>
                    <a:lnTo>
                      <a:pt x="470" y="297"/>
                    </a:lnTo>
                    <a:lnTo>
                      <a:pt x="466" y="303"/>
                    </a:lnTo>
                    <a:lnTo>
                      <a:pt x="453" y="311"/>
                    </a:lnTo>
                    <a:lnTo>
                      <a:pt x="442" y="318"/>
                    </a:lnTo>
                    <a:lnTo>
                      <a:pt x="417" y="340"/>
                    </a:lnTo>
                    <a:lnTo>
                      <a:pt x="392" y="362"/>
                    </a:lnTo>
                    <a:lnTo>
                      <a:pt x="367" y="384"/>
                    </a:lnTo>
                    <a:lnTo>
                      <a:pt x="347" y="408"/>
                    </a:lnTo>
                    <a:lnTo>
                      <a:pt x="325" y="433"/>
                    </a:lnTo>
                    <a:lnTo>
                      <a:pt x="306" y="459"/>
                    </a:lnTo>
                    <a:lnTo>
                      <a:pt x="288" y="486"/>
                    </a:lnTo>
                    <a:lnTo>
                      <a:pt x="274" y="515"/>
                    </a:lnTo>
                    <a:lnTo>
                      <a:pt x="263" y="522"/>
                    </a:lnTo>
                    <a:lnTo>
                      <a:pt x="253" y="530"/>
                    </a:lnTo>
                    <a:lnTo>
                      <a:pt x="244" y="537"/>
                    </a:lnTo>
                    <a:lnTo>
                      <a:pt x="236" y="546"/>
                    </a:lnTo>
                    <a:lnTo>
                      <a:pt x="227" y="553"/>
                    </a:lnTo>
                    <a:lnTo>
                      <a:pt x="219" y="563"/>
                    </a:lnTo>
                    <a:lnTo>
                      <a:pt x="212" y="573"/>
                    </a:lnTo>
                    <a:lnTo>
                      <a:pt x="208" y="584"/>
                    </a:lnTo>
                    <a:lnTo>
                      <a:pt x="195" y="591"/>
                    </a:lnTo>
                    <a:lnTo>
                      <a:pt x="185" y="605"/>
                    </a:lnTo>
                    <a:lnTo>
                      <a:pt x="176" y="618"/>
                    </a:lnTo>
                    <a:lnTo>
                      <a:pt x="169" y="634"/>
                    </a:lnTo>
                    <a:lnTo>
                      <a:pt x="160" y="645"/>
                    </a:lnTo>
                    <a:lnTo>
                      <a:pt x="151" y="654"/>
                    </a:lnTo>
                    <a:lnTo>
                      <a:pt x="137" y="655"/>
                    </a:lnTo>
                    <a:lnTo>
                      <a:pt x="120" y="649"/>
                    </a:lnTo>
                    <a:lnTo>
                      <a:pt x="103" y="651"/>
                    </a:lnTo>
                    <a:lnTo>
                      <a:pt x="90" y="657"/>
                    </a:lnTo>
                    <a:lnTo>
                      <a:pt x="79" y="666"/>
                    </a:lnTo>
                    <a:lnTo>
                      <a:pt x="72" y="678"/>
                    </a:lnTo>
                    <a:lnTo>
                      <a:pt x="64" y="689"/>
                    </a:lnTo>
                    <a:lnTo>
                      <a:pt x="55" y="703"/>
                    </a:lnTo>
                    <a:lnTo>
                      <a:pt x="45" y="714"/>
                    </a:lnTo>
                    <a:lnTo>
                      <a:pt x="35" y="725"/>
                    </a:lnTo>
                    <a:lnTo>
                      <a:pt x="30" y="720"/>
                    </a:lnTo>
                    <a:lnTo>
                      <a:pt x="24" y="716"/>
                    </a:lnTo>
                    <a:lnTo>
                      <a:pt x="18" y="714"/>
                    </a:lnTo>
                    <a:lnTo>
                      <a:pt x="13" y="713"/>
                    </a:lnTo>
                    <a:lnTo>
                      <a:pt x="7" y="709"/>
                    </a:lnTo>
                    <a:lnTo>
                      <a:pt x="3" y="705"/>
                    </a:lnTo>
                    <a:lnTo>
                      <a:pt x="0" y="700"/>
                    </a:lnTo>
                    <a:lnTo>
                      <a:pt x="1" y="694"/>
                    </a:lnTo>
                    <a:lnTo>
                      <a:pt x="5" y="683"/>
                    </a:lnTo>
                    <a:lnTo>
                      <a:pt x="8" y="673"/>
                    </a:lnTo>
                    <a:lnTo>
                      <a:pt x="12" y="662"/>
                    </a:lnTo>
                    <a:lnTo>
                      <a:pt x="17" y="652"/>
                    </a:lnTo>
                    <a:lnTo>
                      <a:pt x="18" y="640"/>
                    </a:lnTo>
                    <a:lnTo>
                      <a:pt x="21" y="629"/>
                    </a:lnTo>
                    <a:lnTo>
                      <a:pt x="23" y="618"/>
                    </a:lnTo>
                    <a:lnTo>
                      <a:pt x="26" y="607"/>
                    </a:lnTo>
                    <a:lnTo>
                      <a:pt x="28" y="597"/>
                    </a:lnTo>
                    <a:lnTo>
                      <a:pt x="35" y="589"/>
                    </a:lnTo>
                    <a:lnTo>
                      <a:pt x="41" y="587"/>
                    </a:lnTo>
                    <a:lnTo>
                      <a:pt x="46" y="591"/>
                    </a:lnTo>
                    <a:lnTo>
                      <a:pt x="48" y="596"/>
                    </a:lnTo>
                    <a:lnTo>
                      <a:pt x="49" y="602"/>
                    </a:lnTo>
                    <a:lnTo>
                      <a:pt x="49" y="606"/>
                    </a:lnTo>
                    <a:lnTo>
                      <a:pt x="50" y="611"/>
                    </a:lnTo>
                    <a:lnTo>
                      <a:pt x="54" y="612"/>
                    </a:lnTo>
                    <a:lnTo>
                      <a:pt x="62" y="612"/>
                    </a:lnTo>
                    <a:lnTo>
                      <a:pt x="67" y="606"/>
                    </a:lnTo>
                    <a:lnTo>
                      <a:pt x="72" y="601"/>
                    </a:lnTo>
                    <a:lnTo>
                      <a:pt x="76" y="594"/>
                    </a:lnTo>
                    <a:lnTo>
                      <a:pt x="79" y="587"/>
                    </a:lnTo>
                    <a:lnTo>
                      <a:pt x="83" y="580"/>
                    </a:lnTo>
                    <a:lnTo>
                      <a:pt x="88" y="576"/>
                    </a:lnTo>
                    <a:lnTo>
                      <a:pt x="93" y="574"/>
                    </a:lnTo>
                    <a:lnTo>
                      <a:pt x="102" y="575"/>
                    </a:lnTo>
                    <a:lnTo>
                      <a:pt x="109" y="568"/>
                    </a:lnTo>
                    <a:lnTo>
                      <a:pt x="117" y="562"/>
                    </a:lnTo>
                    <a:lnTo>
                      <a:pt x="124" y="554"/>
                    </a:lnTo>
                    <a:lnTo>
                      <a:pt x="130" y="548"/>
                    </a:lnTo>
                    <a:lnTo>
                      <a:pt x="135" y="541"/>
                    </a:lnTo>
                    <a:lnTo>
                      <a:pt x="142" y="533"/>
                    </a:lnTo>
                    <a:lnTo>
                      <a:pt x="148" y="526"/>
                    </a:lnTo>
                    <a:lnTo>
                      <a:pt x="157" y="522"/>
                    </a:lnTo>
                    <a:lnTo>
                      <a:pt x="162" y="524"/>
                    </a:lnTo>
                    <a:lnTo>
                      <a:pt x="166" y="525"/>
                    </a:lnTo>
                    <a:lnTo>
                      <a:pt x="168" y="527"/>
                    </a:lnTo>
                    <a:lnTo>
                      <a:pt x="169" y="533"/>
                    </a:lnTo>
                    <a:lnTo>
                      <a:pt x="174" y="535"/>
                    </a:lnTo>
                    <a:lnTo>
                      <a:pt x="179" y="531"/>
                    </a:lnTo>
                    <a:lnTo>
                      <a:pt x="184" y="524"/>
                    </a:lnTo>
                    <a:lnTo>
                      <a:pt x="190" y="520"/>
                    </a:lnTo>
                    <a:lnTo>
                      <a:pt x="203" y="494"/>
                    </a:lnTo>
                    <a:lnTo>
                      <a:pt x="218" y="471"/>
                    </a:lnTo>
                    <a:lnTo>
                      <a:pt x="233" y="446"/>
                    </a:lnTo>
                    <a:lnTo>
                      <a:pt x="247" y="423"/>
                    </a:lnTo>
                    <a:lnTo>
                      <a:pt x="262" y="399"/>
                    </a:lnTo>
                    <a:lnTo>
                      <a:pt x="277" y="374"/>
                    </a:lnTo>
                    <a:lnTo>
                      <a:pt x="291" y="350"/>
                    </a:lnTo>
                    <a:lnTo>
                      <a:pt x="306" y="326"/>
                    </a:lnTo>
                    <a:lnTo>
                      <a:pt x="312" y="327"/>
                    </a:lnTo>
                    <a:lnTo>
                      <a:pt x="318" y="331"/>
                    </a:lnTo>
                    <a:lnTo>
                      <a:pt x="325" y="320"/>
                    </a:lnTo>
                    <a:lnTo>
                      <a:pt x="332" y="309"/>
                    </a:lnTo>
                    <a:lnTo>
                      <a:pt x="336" y="304"/>
                    </a:lnTo>
                    <a:lnTo>
                      <a:pt x="341" y="300"/>
                    </a:lnTo>
                    <a:lnTo>
                      <a:pt x="345" y="298"/>
                    </a:lnTo>
                    <a:lnTo>
                      <a:pt x="353" y="299"/>
                    </a:lnTo>
                    <a:lnTo>
                      <a:pt x="355" y="303"/>
                    </a:lnTo>
                    <a:lnTo>
                      <a:pt x="354" y="309"/>
                    </a:lnTo>
                    <a:lnTo>
                      <a:pt x="354" y="315"/>
                    </a:lnTo>
                    <a:lnTo>
                      <a:pt x="359" y="320"/>
                    </a:lnTo>
                    <a:lnTo>
                      <a:pt x="364" y="315"/>
                    </a:lnTo>
                    <a:lnTo>
                      <a:pt x="369" y="310"/>
                    </a:lnTo>
                    <a:lnTo>
                      <a:pt x="372" y="303"/>
                    </a:lnTo>
                    <a:lnTo>
                      <a:pt x="377" y="297"/>
                    </a:lnTo>
                    <a:lnTo>
                      <a:pt x="380" y="289"/>
                    </a:lnTo>
                    <a:lnTo>
                      <a:pt x="383" y="283"/>
                    </a:lnTo>
                    <a:lnTo>
                      <a:pt x="387" y="276"/>
                    </a:lnTo>
                    <a:lnTo>
                      <a:pt x="392" y="271"/>
                    </a:lnTo>
                    <a:lnTo>
                      <a:pt x="394" y="261"/>
                    </a:lnTo>
                    <a:lnTo>
                      <a:pt x="398" y="253"/>
                    </a:lnTo>
                    <a:lnTo>
                      <a:pt x="403" y="244"/>
                    </a:lnTo>
                    <a:lnTo>
                      <a:pt x="412" y="239"/>
                    </a:lnTo>
                    <a:lnTo>
                      <a:pt x="419" y="239"/>
                    </a:lnTo>
                    <a:lnTo>
                      <a:pt x="421" y="245"/>
                    </a:lnTo>
                    <a:lnTo>
                      <a:pt x="423" y="253"/>
                    </a:lnTo>
                    <a:lnTo>
                      <a:pt x="424" y="260"/>
                    </a:lnTo>
                    <a:lnTo>
                      <a:pt x="436" y="255"/>
                    </a:lnTo>
                    <a:lnTo>
                      <a:pt x="445" y="248"/>
                    </a:lnTo>
                    <a:lnTo>
                      <a:pt x="448" y="237"/>
                    </a:lnTo>
                    <a:lnTo>
                      <a:pt x="453" y="226"/>
                    </a:lnTo>
                    <a:lnTo>
                      <a:pt x="455" y="212"/>
                    </a:lnTo>
                    <a:lnTo>
                      <a:pt x="458" y="201"/>
                    </a:lnTo>
                    <a:lnTo>
                      <a:pt x="463" y="189"/>
                    </a:lnTo>
                    <a:lnTo>
                      <a:pt x="472" y="181"/>
                    </a:lnTo>
                    <a:lnTo>
                      <a:pt x="478" y="181"/>
                    </a:lnTo>
                    <a:lnTo>
                      <a:pt x="481" y="188"/>
                    </a:lnTo>
                    <a:lnTo>
                      <a:pt x="483" y="195"/>
                    </a:lnTo>
                    <a:lnTo>
                      <a:pt x="484" y="202"/>
                    </a:lnTo>
                    <a:lnTo>
                      <a:pt x="494" y="194"/>
                    </a:lnTo>
                    <a:lnTo>
                      <a:pt x="501" y="184"/>
                    </a:lnTo>
                    <a:lnTo>
                      <a:pt x="506" y="172"/>
                    </a:lnTo>
                    <a:lnTo>
                      <a:pt x="511" y="159"/>
                    </a:lnTo>
                    <a:lnTo>
                      <a:pt x="515" y="146"/>
                    </a:lnTo>
                    <a:lnTo>
                      <a:pt x="521" y="134"/>
                    </a:lnTo>
                    <a:lnTo>
                      <a:pt x="528" y="121"/>
                    </a:lnTo>
                    <a:lnTo>
                      <a:pt x="539" y="113"/>
                    </a:lnTo>
                    <a:lnTo>
                      <a:pt x="546" y="116"/>
                    </a:lnTo>
                    <a:lnTo>
                      <a:pt x="550" y="124"/>
                    </a:lnTo>
                    <a:lnTo>
                      <a:pt x="527" y="212"/>
                    </a:lnTo>
                    <a:lnTo>
                      <a:pt x="532" y="215"/>
                    </a:lnTo>
                    <a:lnTo>
                      <a:pt x="539" y="217"/>
                    </a:lnTo>
                    <a:lnTo>
                      <a:pt x="546" y="218"/>
                    </a:lnTo>
                    <a:lnTo>
                      <a:pt x="555" y="221"/>
                    </a:lnTo>
                    <a:lnTo>
                      <a:pt x="560" y="212"/>
                    </a:lnTo>
                    <a:lnTo>
                      <a:pt x="565" y="204"/>
                    </a:lnTo>
                    <a:lnTo>
                      <a:pt x="568" y="194"/>
                    </a:lnTo>
                    <a:lnTo>
                      <a:pt x="573" y="186"/>
                    </a:lnTo>
                    <a:lnTo>
                      <a:pt x="582" y="163"/>
                    </a:lnTo>
                    <a:lnTo>
                      <a:pt x="592" y="141"/>
                    </a:lnTo>
                    <a:lnTo>
                      <a:pt x="602" y="119"/>
                    </a:lnTo>
                    <a:lnTo>
                      <a:pt x="611" y="97"/>
                    </a:lnTo>
                    <a:lnTo>
                      <a:pt x="620" y="74"/>
                    </a:lnTo>
                    <a:lnTo>
                      <a:pt x="629" y="50"/>
                    </a:lnTo>
                    <a:lnTo>
                      <a:pt x="636" y="27"/>
                    </a:lnTo>
                    <a:lnTo>
                      <a:pt x="644" y="5"/>
                    </a:lnTo>
                    <a:lnTo>
                      <a:pt x="649" y="0"/>
                    </a:lnTo>
                    <a:lnTo>
                      <a:pt x="656" y="0"/>
                    </a:lnTo>
                    <a:lnTo>
                      <a:pt x="660" y="9"/>
                    </a:lnTo>
                    <a:lnTo>
                      <a:pt x="659" y="20"/>
                    </a:lnTo>
                    <a:lnTo>
                      <a:pt x="658" y="31"/>
                    </a:lnTo>
                    <a:lnTo>
                      <a:pt x="660" y="42"/>
                    </a:lnTo>
                    <a:close/>
                  </a:path>
                </a:pathLst>
              </a:custGeom>
              <a:solidFill>
                <a:srgbClr val="ff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3" name="Freeform 230"/>
              <p:cNvSpPr/>
              <p:nvPr/>
            </p:nvSpPr>
            <p:spPr>
              <a:xfrm flipH="1">
                <a:off x="7357320" y="2987640"/>
                <a:ext cx="17640" cy="31320"/>
              </a:xfrm>
              <a:custGeom>
                <a:avLst/>
                <a:gdLst>
                  <a:gd name="textAreaLeft" fmla="*/ -360 w 17640"/>
                  <a:gd name="textAreaRight" fmla="*/ 17640 w 17640"/>
                  <a:gd name="textAreaTop" fmla="*/ 0 h 31320"/>
                  <a:gd name="textAreaBottom" fmla="*/ 31680 h 31320"/>
                </a:gdLst>
                <a:ahLst/>
                <a:rect l="textAreaLeft" t="textAreaTop" r="textAreaRight" b="textAreaBottom"/>
                <a:pathLst>
                  <a:path w="64" h="109">
                    <a:moveTo>
                      <a:pt x="45" y="16"/>
                    </a:moveTo>
                    <a:lnTo>
                      <a:pt x="45" y="28"/>
                    </a:lnTo>
                    <a:lnTo>
                      <a:pt x="38" y="39"/>
                    </a:lnTo>
                    <a:lnTo>
                      <a:pt x="34" y="43"/>
                    </a:lnTo>
                    <a:lnTo>
                      <a:pt x="34" y="48"/>
                    </a:lnTo>
                    <a:lnTo>
                      <a:pt x="38" y="50"/>
                    </a:lnTo>
                    <a:lnTo>
                      <a:pt x="48" y="51"/>
                    </a:lnTo>
                    <a:lnTo>
                      <a:pt x="57" y="54"/>
                    </a:lnTo>
                    <a:lnTo>
                      <a:pt x="64" y="62"/>
                    </a:lnTo>
                    <a:lnTo>
                      <a:pt x="64" y="72"/>
                    </a:lnTo>
                    <a:lnTo>
                      <a:pt x="64" y="86"/>
                    </a:lnTo>
                    <a:lnTo>
                      <a:pt x="61" y="97"/>
                    </a:lnTo>
                    <a:lnTo>
                      <a:pt x="55" y="107"/>
                    </a:lnTo>
                    <a:lnTo>
                      <a:pt x="47" y="108"/>
                    </a:lnTo>
                    <a:lnTo>
                      <a:pt x="39" y="109"/>
                    </a:lnTo>
                    <a:lnTo>
                      <a:pt x="32" y="107"/>
                    </a:lnTo>
                    <a:lnTo>
                      <a:pt x="25" y="104"/>
                    </a:lnTo>
                    <a:lnTo>
                      <a:pt x="20" y="92"/>
                    </a:lnTo>
                    <a:lnTo>
                      <a:pt x="21" y="81"/>
                    </a:lnTo>
                    <a:lnTo>
                      <a:pt x="26" y="76"/>
                    </a:lnTo>
                    <a:lnTo>
                      <a:pt x="32" y="71"/>
                    </a:lnTo>
                    <a:lnTo>
                      <a:pt x="30" y="67"/>
                    </a:lnTo>
                    <a:lnTo>
                      <a:pt x="33" y="64"/>
                    </a:lnTo>
                    <a:lnTo>
                      <a:pt x="34" y="60"/>
                    </a:lnTo>
                    <a:lnTo>
                      <a:pt x="22" y="54"/>
                    </a:lnTo>
                    <a:lnTo>
                      <a:pt x="14" y="44"/>
                    </a:lnTo>
                    <a:lnTo>
                      <a:pt x="5" y="33"/>
                    </a:lnTo>
                    <a:lnTo>
                      <a:pt x="0" y="23"/>
                    </a:lnTo>
                    <a:lnTo>
                      <a:pt x="0" y="16"/>
                    </a:lnTo>
                    <a:lnTo>
                      <a:pt x="4" y="12"/>
                    </a:lnTo>
                    <a:lnTo>
                      <a:pt x="6" y="8"/>
                    </a:lnTo>
                    <a:lnTo>
                      <a:pt x="11" y="7"/>
                    </a:lnTo>
                    <a:lnTo>
                      <a:pt x="19" y="5"/>
                    </a:lnTo>
                    <a:lnTo>
                      <a:pt x="27" y="0"/>
                    </a:lnTo>
                    <a:lnTo>
                      <a:pt x="38" y="7"/>
                    </a:lnTo>
                    <a:lnTo>
                      <a:pt x="45" y="16"/>
                    </a:lnTo>
                    <a:close/>
                  </a:path>
                </a:pathLst>
              </a:custGeom>
              <a:solidFill>
                <a:srgbClr val="ffff0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Humanst521 BT"/>
                </a:endParaRPr>
              </a:p>
            </p:txBody>
          </p:sp>
          <p:sp>
            <p:nvSpPr>
              <p:cNvPr id="144" name="Freeform 231"/>
              <p:cNvSpPr/>
              <p:nvPr/>
            </p:nvSpPr>
            <p:spPr>
              <a:xfrm flipH="1">
                <a:off x="7380000" y="3007800"/>
                <a:ext cx="13320" cy="15840"/>
              </a:xfrm>
              <a:custGeom>
                <a:avLst/>
                <a:gdLst>
                  <a:gd name="textAreaLeft" fmla="*/ -360 w 13320"/>
                  <a:gd name="textAreaRight" fmla="*/ 13320 w 13320"/>
                  <a:gd name="textAreaTop" fmla="*/ 0 h 15840"/>
                  <a:gd name="textAreaBottom" fmla="*/ 16200 h 15840"/>
                </a:gdLst>
                <a:ahLst/>
                <a:rect l="textAreaLeft" t="textAreaTop" r="textAreaRight" b="textAreaBottom"/>
                <a:pathLst>
                  <a:path w="47" h="54">
                    <a:moveTo>
                      <a:pt x="47" y="18"/>
                    </a:moveTo>
                    <a:lnTo>
                      <a:pt x="46" y="29"/>
                    </a:lnTo>
                    <a:lnTo>
                      <a:pt x="39" y="41"/>
                    </a:lnTo>
                    <a:lnTo>
                      <a:pt x="30" y="48"/>
                    </a:lnTo>
                    <a:lnTo>
                      <a:pt x="19" y="54"/>
                    </a:lnTo>
                    <a:lnTo>
                      <a:pt x="10" y="52"/>
                    </a:lnTo>
                    <a:lnTo>
                      <a:pt x="6" y="47"/>
                    </a:lnTo>
                    <a:lnTo>
                      <a:pt x="3" y="41"/>
                    </a:lnTo>
                    <a:lnTo>
                      <a:pt x="0" y="36"/>
                    </a:lnTo>
                    <a:lnTo>
                      <a:pt x="1" y="23"/>
                    </a:lnTo>
                    <a:lnTo>
                      <a:pt x="4" y="12"/>
                    </a:lnTo>
                    <a:lnTo>
                      <a:pt x="5" y="7"/>
                    </a:lnTo>
                    <a:lnTo>
                      <a:pt x="9" y="4"/>
                    </a:lnTo>
                    <a:lnTo>
                      <a:pt x="14" y="0"/>
                    </a:lnTo>
                    <a:lnTo>
                      <a:pt x="21" y="0"/>
                    </a:lnTo>
                    <a:lnTo>
                      <a:pt x="28" y="0"/>
                    </a:lnTo>
                    <a:lnTo>
                      <a:pt x="36" y="5"/>
                    </a:lnTo>
                    <a:lnTo>
                      <a:pt x="41" y="11"/>
                    </a:lnTo>
                    <a:lnTo>
                      <a:pt x="47" y="18"/>
                    </a:lnTo>
                    <a:close/>
                  </a:path>
                </a:pathLst>
              </a:custGeom>
              <a:solidFill>
                <a:srgbClr val="ffff0f"/>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Humanst521 BT"/>
                </a:endParaRPr>
              </a:p>
            </p:txBody>
          </p:sp>
          <p:sp>
            <p:nvSpPr>
              <p:cNvPr id="145" name="Freeform 232"/>
              <p:cNvSpPr/>
              <p:nvPr/>
            </p:nvSpPr>
            <p:spPr>
              <a:xfrm flipH="1">
                <a:off x="7369200" y="3022560"/>
                <a:ext cx="12240" cy="14760"/>
              </a:xfrm>
              <a:custGeom>
                <a:avLst/>
                <a:gdLst>
                  <a:gd name="textAreaLeft" fmla="*/ 360 w 12240"/>
                  <a:gd name="textAreaRight" fmla="*/ 12960 w 12240"/>
                  <a:gd name="textAreaTop" fmla="*/ 0 h 14760"/>
                  <a:gd name="textAreaBottom" fmla="*/ 15120 h 14760"/>
                </a:gdLst>
                <a:ahLst/>
                <a:rect l="textAreaLeft" t="textAreaTop" r="textAreaRight" b="textAreaBottom"/>
                <a:pathLst>
                  <a:path w="42" h="53">
                    <a:moveTo>
                      <a:pt x="42" y="21"/>
                    </a:moveTo>
                    <a:lnTo>
                      <a:pt x="38" y="26"/>
                    </a:lnTo>
                    <a:lnTo>
                      <a:pt x="36" y="34"/>
                    </a:lnTo>
                    <a:lnTo>
                      <a:pt x="34" y="42"/>
                    </a:lnTo>
                    <a:lnTo>
                      <a:pt x="28" y="48"/>
                    </a:lnTo>
                    <a:lnTo>
                      <a:pt x="20" y="49"/>
                    </a:lnTo>
                    <a:lnTo>
                      <a:pt x="13" y="52"/>
                    </a:lnTo>
                    <a:lnTo>
                      <a:pt x="6" y="53"/>
                    </a:lnTo>
                    <a:lnTo>
                      <a:pt x="1" y="48"/>
                    </a:lnTo>
                    <a:lnTo>
                      <a:pt x="0" y="34"/>
                    </a:lnTo>
                    <a:lnTo>
                      <a:pt x="4" y="22"/>
                    </a:lnTo>
                    <a:lnTo>
                      <a:pt x="13" y="9"/>
                    </a:lnTo>
                    <a:lnTo>
                      <a:pt x="24" y="0"/>
                    </a:lnTo>
                    <a:lnTo>
                      <a:pt x="30" y="0"/>
                    </a:lnTo>
                    <a:lnTo>
                      <a:pt x="38" y="5"/>
                    </a:lnTo>
                    <a:lnTo>
                      <a:pt x="41" y="11"/>
                    </a:lnTo>
                    <a:lnTo>
                      <a:pt x="42" y="21"/>
                    </a:lnTo>
                    <a:close/>
                  </a:path>
                </a:pathLst>
              </a:custGeom>
              <a:solidFill>
                <a:srgbClr val="ffff0f"/>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Humanst521 BT"/>
                </a:endParaRPr>
              </a:p>
            </p:txBody>
          </p:sp>
          <p:sp>
            <p:nvSpPr>
              <p:cNvPr id="146" name="Freeform 233"/>
              <p:cNvSpPr/>
              <p:nvPr/>
            </p:nvSpPr>
            <p:spPr>
              <a:xfrm flipH="1">
                <a:off x="7176960" y="3079080"/>
                <a:ext cx="225360" cy="239760"/>
              </a:xfrm>
              <a:custGeom>
                <a:avLst/>
                <a:gdLst>
                  <a:gd name="textAreaLeft" fmla="*/ 360 w 225360"/>
                  <a:gd name="textAreaRight" fmla="*/ 226080 w 225360"/>
                  <a:gd name="textAreaTop" fmla="*/ 0 h 239760"/>
                  <a:gd name="textAreaBottom" fmla="*/ 240120 h 239760"/>
                </a:gdLst>
                <a:ahLst/>
                <a:rect l="textAreaLeft" t="textAreaTop" r="textAreaRight" b="textAreaBottom"/>
                <a:pathLst>
                  <a:path w="804" h="847">
                    <a:moveTo>
                      <a:pt x="804" y="12"/>
                    </a:moveTo>
                    <a:lnTo>
                      <a:pt x="801" y="19"/>
                    </a:lnTo>
                    <a:lnTo>
                      <a:pt x="797" y="26"/>
                    </a:lnTo>
                    <a:lnTo>
                      <a:pt x="792" y="34"/>
                    </a:lnTo>
                    <a:lnTo>
                      <a:pt x="787" y="41"/>
                    </a:lnTo>
                    <a:lnTo>
                      <a:pt x="781" y="47"/>
                    </a:lnTo>
                    <a:lnTo>
                      <a:pt x="776" y="53"/>
                    </a:lnTo>
                    <a:lnTo>
                      <a:pt x="771" y="61"/>
                    </a:lnTo>
                    <a:lnTo>
                      <a:pt x="768" y="69"/>
                    </a:lnTo>
                    <a:lnTo>
                      <a:pt x="775" y="73"/>
                    </a:lnTo>
                    <a:lnTo>
                      <a:pt x="780" y="81"/>
                    </a:lnTo>
                    <a:lnTo>
                      <a:pt x="779" y="89"/>
                    </a:lnTo>
                    <a:lnTo>
                      <a:pt x="775" y="99"/>
                    </a:lnTo>
                    <a:lnTo>
                      <a:pt x="764" y="111"/>
                    </a:lnTo>
                    <a:lnTo>
                      <a:pt x="753" y="126"/>
                    </a:lnTo>
                    <a:lnTo>
                      <a:pt x="743" y="139"/>
                    </a:lnTo>
                    <a:lnTo>
                      <a:pt x="736" y="154"/>
                    </a:lnTo>
                    <a:lnTo>
                      <a:pt x="726" y="168"/>
                    </a:lnTo>
                    <a:lnTo>
                      <a:pt x="717" y="183"/>
                    </a:lnTo>
                    <a:lnTo>
                      <a:pt x="709" y="198"/>
                    </a:lnTo>
                    <a:lnTo>
                      <a:pt x="701" y="214"/>
                    </a:lnTo>
                    <a:lnTo>
                      <a:pt x="706" y="216"/>
                    </a:lnTo>
                    <a:lnTo>
                      <a:pt x="714" y="216"/>
                    </a:lnTo>
                    <a:lnTo>
                      <a:pt x="720" y="216"/>
                    </a:lnTo>
                    <a:lnTo>
                      <a:pt x="725" y="224"/>
                    </a:lnTo>
                    <a:lnTo>
                      <a:pt x="720" y="230"/>
                    </a:lnTo>
                    <a:lnTo>
                      <a:pt x="715" y="237"/>
                    </a:lnTo>
                    <a:lnTo>
                      <a:pt x="708" y="242"/>
                    </a:lnTo>
                    <a:lnTo>
                      <a:pt x="701" y="248"/>
                    </a:lnTo>
                    <a:lnTo>
                      <a:pt x="694" y="253"/>
                    </a:lnTo>
                    <a:lnTo>
                      <a:pt x="688" y="258"/>
                    </a:lnTo>
                    <a:lnTo>
                      <a:pt x="682" y="264"/>
                    </a:lnTo>
                    <a:lnTo>
                      <a:pt x="678" y="272"/>
                    </a:lnTo>
                    <a:lnTo>
                      <a:pt x="681" y="276"/>
                    </a:lnTo>
                    <a:lnTo>
                      <a:pt x="687" y="272"/>
                    </a:lnTo>
                    <a:lnTo>
                      <a:pt x="693" y="265"/>
                    </a:lnTo>
                    <a:lnTo>
                      <a:pt x="699" y="259"/>
                    </a:lnTo>
                    <a:lnTo>
                      <a:pt x="706" y="256"/>
                    </a:lnTo>
                    <a:lnTo>
                      <a:pt x="712" y="251"/>
                    </a:lnTo>
                    <a:lnTo>
                      <a:pt x="719" y="249"/>
                    </a:lnTo>
                    <a:lnTo>
                      <a:pt x="726" y="251"/>
                    </a:lnTo>
                    <a:lnTo>
                      <a:pt x="733" y="258"/>
                    </a:lnTo>
                    <a:lnTo>
                      <a:pt x="727" y="265"/>
                    </a:lnTo>
                    <a:lnTo>
                      <a:pt x="722" y="273"/>
                    </a:lnTo>
                    <a:lnTo>
                      <a:pt x="715" y="279"/>
                    </a:lnTo>
                    <a:lnTo>
                      <a:pt x="709" y="286"/>
                    </a:lnTo>
                    <a:lnTo>
                      <a:pt x="700" y="291"/>
                    </a:lnTo>
                    <a:lnTo>
                      <a:pt x="693" y="299"/>
                    </a:lnTo>
                    <a:lnTo>
                      <a:pt x="685" y="305"/>
                    </a:lnTo>
                    <a:lnTo>
                      <a:pt x="681" y="313"/>
                    </a:lnTo>
                    <a:lnTo>
                      <a:pt x="685" y="316"/>
                    </a:lnTo>
                    <a:lnTo>
                      <a:pt x="692" y="313"/>
                    </a:lnTo>
                    <a:lnTo>
                      <a:pt x="696" y="311"/>
                    </a:lnTo>
                    <a:lnTo>
                      <a:pt x="704" y="313"/>
                    </a:lnTo>
                    <a:lnTo>
                      <a:pt x="706" y="322"/>
                    </a:lnTo>
                    <a:lnTo>
                      <a:pt x="701" y="332"/>
                    </a:lnTo>
                    <a:lnTo>
                      <a:pt x="689" y="343"/>
                    </a:lnTo>
                    <a:lnTo>
                      <a:pt x="677" y="355"/>
                    </a:lnTo>
                    <a:lnTo>
                      <a:pt x="663" y="366"/>
                    </a:lnTo>
                    <a:lnTo>
                      <a:pt x="650" y="378"/>
                    </a:lnTo>
                    <a:lnTo>
                      <a:pt x="635" y="388"/>
                    </a:lnTo>
                    <a:lnTo>
                      <a:pt x="622" y="398"/>
                    </a:lnTo>
                    <a:lnTo>
                      <a:pt x="608" y="408"/>
                    </a:lnTo>
                    <a:lnTo>
                      <a:pt x="596" y="419"/>
                    </a:lnTo>
                    <a:lnTo>
                      <a:pt x="601" y="422"/>
                    </a:lnTo>
                    <a:lnTo>
                      <a:pt x="611" y="420"/>
                    </a:lnTo>
                    <a:lnTo>
                      <a:pt x="620" y="415"/>
                    </a:lnTo>
                    <a:lnTo>
                      <a:pt x="633" y="411"/>
                    </a:lnTo>
                    <a:lnTo>
                      <a:pt x="640" y="405"/>
                    </a:lnTo>
                    <a:lnTo>
                      <a:pt x="649" y="400"/>
                    </a:lnTo>
                    <a:lnTo>
                      <a:pt x="656" y="397"/>
                    </a:lnTo>
                    <a:lnTo>
                      <a:pt x="667" y="398"/>
                    </a:lnTo>
                    <a:lnTo>
                      <a:pt x="670" y="402"/>
                    </a:lnTo>
                    <a:lnTo>
                      <a:pt x="670" y="408"/>
                    </a:lnTo>
                    <a:lnTo>
                      <a:pt x="667" y="413"/>
                    </a:lnTo>
                    <a:lnTo>
                      <a:pt x="665" y="419"/>
                    </a:lnTo>
                    <a:lnTo>
                      <a:pt x="656" y="424"/>
                    </a:lnTo>
                    <a:lnTo>
                      <a:pt x="647" y="431"/>
                    </a:lnTo>
                    <a:lnTo>
                      <a:pt x="639" y="437"/>
                    </a:lnTo>
                    <a:lnTo>
                      <a:pt x="630" y="443"/>
                    </a:lnTo>
                    <a:lnTo>
                      <a:pt x="620" y="448"/>
                    </a:lnTo>
                    <a:lnTo>
                      <a:pt x="612" y="453"/>
                    </a:lnTo>
                    <a:lnTo>
                      <a:pt x="602" y="457"/>
                    </a:lnTo>
                    <a:lnTo>
                      <a:pt x="594" y="460"/>
                    </a:lnTo>
                    <a:lnTo>
                      <a:pt x="594" y="464"/>
                    </a:lnTo>
                    <a:lnTo>
                      <a:pt x="596" y="469"/>
                    </a:lnTo>
                    <a:lnTo>
                      <a:pt x="602" y="469"/>
                    </a:lnTo>
                    <a:lnTo>
                      <a:pt x="609" y="467"/>
                    </a:lnTo>
                    <a:lnTo>
                      <a:pt x="617" y="464"/>
                    </a:lnTo>
                    <a:lnTo>
                      <a:pt x="625" y="462"/>
                    </a:lnTo>
                    <a:lnTo>
                      <a:pt x="632" y="458"/>
                    </a:lnTo>
                    <a:lnTo>
                      <a:pt x="639" y="459"/>
                    </a:lnTo>
                    <a:lnTo>
                      <a:pt x="644" y="463"/>
                    </a:lnTo>
                    <a:lnTo>
                      <a:pt x="649" y="471"/>
                    </a:lnTo>
                    <a:lnTo>
                      <a:pt x="641" y="478"/>
                    </a:lnTo>
                    <a:lnTo>
                      <a:pt x="633" y="482"/>
                    </a:lnTo>
                    <a:lnTo>
                      <a:pt x="623" y="486"/>
                    </a:lnTo>
                    <a:lnTo>
                      <a:pt x="617" y="490"/>
                    </a:lnTo>
                    <a:lnTo>
                      <a:pt x="609" y="491"/>
                    </a:lnTo>
                    <a:lnTo>
                      <a:pt x="602" y="494"/>
                    </a:lnTo>
                    <a:lnTo>
                      <a:pt x="595" y="497"/>
                    </a:lnTo>
                    <a:lnTo>
                      <a:pt x="587" y="502"/>
                    </a:lnTo>
                    <a:lnTo>
                      <a:pt x="580" y="507"/>
                    </a:lnTo>
                    <a:lnTo>
                      <a:pt x="576" y="513"/>
                    </a:lnTo>
                    <a:lnTo>
                      <a:pt x="571" y="519"/>
                    </a:lnTo>
                    <a:lnTo>
                      <a:pt x="570" y="527"/>
                    </a:lnTo>
                    <a:lnTo>
                      <a:pt x="575" y="534"/>
                    </a:lnTo>
                    <a:lnTo>
                      <a:pt x="584" y="529"/>
                    </a:lnTo>
                    <a:lnTo>
                      <a:pt x="594" y="525"/>
                    </a:lnTo>
                    <a:lnTo>
                      <a:pt x="603" y="520"/>
                    </a:lnTo>
                    <a:lnTo>
                      <a:pt x="613" y="517"/>
                    </a:lnTo>
                    <a:lnTo>
                      <a:pt x="622" y="512"/>
                    </a:lnTo>
                    <a:lnTo>
                      <a:pt x="633" y="509"/>
                    </a:lnTo>
                    <a:lnTo>
                      <a:pt x="643" y="506"/>
                    </a:lnTo>
                    <a:lnTo>
                      <a:pt x="654" y="506"/>
                    </a:lnTo>
                    <a:lnTo>
                      <a:pt x="654" y="513"/>
                    </a:lnTo>
                    <a:lnTo>
                      <a:pt x="651" y="522"/>
                    </a:lnTo>
                    <a:lnTo>
                      <a:pt x="645" y="527"/>
                    </a:lnTo>
                    <a:lnTo>
                      <a:pt x="639" y="533"/>
                    </a:lnTo>
                    <a:lnTo>
                      <a:pt x="629" y="536"/>
                    </a:lnTo>
                    <a:lnTo>
                      <a:pt x="619" y="540"/>
                    </a:lnTo>
                    <a:lnTo>
                      <a:pt x="611" y="545"/>
                    </a:lnTo>
                    <a:lnTo>
                      <a:pt x="605" y="552"/>
                    </a:lnTo>
                    <a:lnTo>
                      <a:pt x="605" y="556"/>
                    </a:lnTo>
                    <a:lnTo>
                      <a:pt x="607" y="559"/>
                    </a:lnTo>
                    <a:lnTo>
                      <a:pt x="613" y="557"/>
                    </a:lnTo>
                    <a:lnTo>
                      <a:pt x="620" y="557"/>
                    </a:lnTo>
                    <a:lnTo>
                      <a:pt x="628" y="557"/>
                    </a:lnTo>
                    <a:lnTo>
                      <a:pt x="635" y="561"/>
                    </a:lnTo>
                    <a:lnTo>
                      <a:pt x="630" y="570"/>
                    </a:lnTo>
                    <a:lnTo>
                      <a:pt x="623" y="577"/>
                    </a:lnTo>
                    <a:lnTo>
                      <a:pt x="614" y="582"/>
                    </a:lnTo>
                    <a:lnTo>
                      <a:pt x="606" y="587"/>
                    </a:lnTo>
                    <a:lnTo>
                      <a:pt x="596" y="590"/>
                    </a:lnTo>
                    <a:lnTo>
                      <a:pt x="589" y="595"/>
                    </a:lnTo>
                    <a:lnTo>
                      <a:pt x="582" y="601"/>
                    </a:lnTo>
                    <a:lnTo>
                      <a:pt x="580" y="612"/>
                    </a:lnTo>
                    <a:lnTo>
                      <a:pt x="564" y="615"/>
                    </a:lnTo>
                    <a:lnTo>
                      <a:pt x="547" y="617"/>
                    </a:lnTo>
                    <a:lnTo>
                      <a:pt x="530" y="619"/>
                    </a:lnTo>
                    <a:lnTo>
                      <a:pt x="514" y="621"/>
                    </a:lnTo>
                    <a:lnTo>
                      <a:pt x="498" y="624"/>
                    </a:lnTo>
                    <a:lnTo>
                      <a:pt x="483" y="630"/>
                    </a:lnTo>
                    <a:lnTo>
                      <a:pt x="470" y="639"/>
                    </a:lnTo>
                    <a:lnTo>
                      <a:pt x="460" y="655"/>
                    </a:lnTo>
                    <a:lnTo>
                      <a:pt x="453" y="664"/>
                    </a:lnTo>
                    <a:lnTo>
                      <a:pt x="450" y="674"/>
                    </a:lnTo>
                    <a:lnTo>
                      <a:pt x="448" y="682"/>
                    </a:lnTo>
                    <a:lnTo>
                      <a:pt x="442" y="692"/>
                    </a:lnTo>
                    <a:lnTo>
                      <a:pt x="432" y="696"/>
                    </a:lnTo>
                    <a:lnTo>
                      <a:pt x="423" y="701"/>
                    </a:lnTo>
                    <a:lnTo>
                      <a:pt x="416" y="706"/>
                    </a:lnTo>
                    <a:lnTo>
                      <a:pt x="408" y="713"/>
                    </a:lnTo>
                    <a:lnTo>
                      <a:pt x="401" y="719"/>
                    </a:lnTo>
                    <a:lnTo>
                      <a:pt x="394" y="725"/>
                    </a:lnTo>
                    <a:lnTo>
                      <a:pt x="388" y="733"/>
                    </a:lnTo>
                    <a:lnTo>
                      <a:pt x="384" y="741"/>
                    </a:lnTo>
                    <a:lnTo>
                      <a:pt x="386" y="746"/>
                    </a:lnTo>
                    <a:lnTo>
                      <a:pt x="394" y="749"/>
                    </a:lnTo>
                    <a:lnTo>
                      <a:pt x="399" y="751"/>
                    </a:lnTo>
                    <a:lnTo>
                      <a:pt x="400" y="757"/>
                    </a:lnTo>
                    <a:lnTo>
                      <a:pt x="395" y="761"/>
                    </a:lnTo>
                    <a:lnTo>
                      <a:pt x="390" y="765"/>
                    </a:lnTo>
                    <a:lnTo>
                      <a:pt x="384" y="766"/>
                    </a:lnTo>
                    <a:lnTo>
                      <a:pt x="378" y="767"/>
                    </a:lnTo>
                    <a:lnTo>
                      <a:pt x="370" y="767"/>
                    </a:lnTo>
                    <a:lnTo>
                      <a:pt x="364" y="768"/>
                    </a:lnTo>
                    <a:lnTo>
                      <a:pt x="357" y="768"/>
                    </a:lnTo>
                    <a:lnTo>
                      <a:pt x="352" y="771"/>
                    </a:lnTo>
                    <a:lnTo>
                      <a:pt x="318" y="784"/>
                    </a:lnTo>
                    <a:lnTo>
                      <a:pt x="324" y="785"/>
                    </a:lnTo>
                    <a:lnTo>
                      <a:pt x="334" y="787"/>
                    </a:lnTo>
                    <a:lnTo>
                      <a:pt x="342" y="788"/>
                    </a:lnTo>
                    <a:lnTo>
                      <a:pt x="352" y="789"/>
                    </a:lnTo>
                    <a:lnTo>
                      <a:pt x="358" y="789"/>
                    </a:lnTo>
                    <a:lnTo>
                      <a:pt x="366" y="790"/>
                    </a:lnTo>
                    <a:lnTo>
                      <a:pt x="370" y="792"/>
                    </a:lnTo>
                    <a:lnTo>
                      <a:pt x="375" y="798"/>
                    </a:lnTo>
                    <a:lnTo>
                      <a:pt x="372" y="803"/>
                    </a:lnTo>
                    <a:lnTo>
                      <a:pt x="368" y="808"/>
                    </a:lnTo>
                    <a:lnTo>
                      <a:pt x="362" y="810"/>
                    </a:lnTo>
                    <a:lnTo>
                      <a:pt x="357" y="811"/>
                    </a:lnTo>
                    <a:lnTo>
                      <a:pt x="350" y="811"/>
                    </a:lnTo>
                    <a:lnTo>
                      <a:pt x="343" y="811"/>
                    </a:lnTo>
                    <a:lnTo>
                      <a:pt x="336" y="811"/>
                    </a:lnTo>
                    <a:lnTo>
                      <a:pt x="331" y="812"/>
                    </a:lnTo>
                    <a:lnTo>
                      <a:pt x="315" y="816"/>
                    </a:lnTo>
                    <a:lnTo>
                      <a:pt x="299" y="821"/>
                    </a:lnTo>
                    <a:lnTo>
                      <a:pt x="283" y="825"/>
                    </a:lnTo>
                    <a:lnTo>
                      <a:pt x="269" y="831"/>
                    </a:lnTo>
                    <a:lnTo>
                      <a:pt x="253" y="836"/>
                    </a:lnTo>
                    <a:lnTo>
                      <a:pt x="237" y="841"/>
                    </a:lnTo>
                    <a:lnTo>
                      <a:pt x="221" y="843"/>
                    </a:lnTo>
                    <a:lnTo>
                      <a:pt x="205" y="847"/>
                    </a:lnTo>
                    <a:lnTo>
                      <a:pt x="198" y="841"/>
                    </a:lnTo>
                    <a:lnTo>
                      <a:pt x="193" y="834"/>
                    </a:lnTo>
                    <a:lnTo>
                      <a:pt x="188" y="826"/>
                    </a:lnTo>
                    <a:lnTo>
                      <a:pt x="187" y="819"/>
                    </a:lnTo>
                    <a:lnTo>
                      <a:pt x="187" y="811"/>
                    </a:lnTo>
                    <a:lnTo>
                      <a:pt x="190" y="806"/>
                    </a:lnTo>
                    <a:lnTo>
                      <a:pt x="194" y="803"/>
                    </a:lnTo>
                    <a:lnTo>
                      <a:pt x="199" y="800"/>
                    </a:lnTo>
                    <a:lnTo>
                      <a:pt x="210" y="795"/>
                    </a:lnTo>
                    <a:lnTo>
                      <a:pt x="221" y="792"/>
                    </a:lnTo>
                    <a:lnTo>
                      <a:pt x="232" y="781"/>
                    </a:lnTo>
                    <a:lnTo>
                      <a:pt x="243" y="769"/>
                    </a:lnTo>
                    <a:lnTo>
                      <a:pt x="254" y="758"/>
                    </a:lnTo>
                    <a:lnTo>
                      <a:pt x="266" y="749"/>
                    </a:lnTo>
                    <a:lnTo>
                      <a:pt x="277" y="739"/>
                    </a:lnTo>
                    <a:lnTo>
                      <a:pt x="292" y="733"/>
                    </a:lnTo>
                    <a:lnTo>
                      <a:pt x="305" y="728"/>
                    </a:lnTo>
                    <a:lnTo>
                      <a:pt x="323" y="727"/>
                    </a:lnTo>
                    <a:lnTo>
                      <a:pt x="330" y="722"/>
                    </a:lnTo>
                    <a:lnTo>
                      <a:pt x="335" y="716"/>
                    </a:lnTo>
                    <a:lnTo>
                      <a:pt x="337" y="708"/>
                    </a:lnTo>
                    <a:lnTo>
                      <a:pt x="341" y="702"/>
                    </a:lnTo>
                    <a:lnTo>
                      <a:pt x="343" y="695"/>
                    </a:lnTo>
                    <a:lnTo>
                      <a:pt x="348" y="689"/>
                    </a:lnTo>
                    <a:lnTo>
                      <a:pt x="353" y="684"/>
                    </a:lnTo>
                    <a:lnTo>
                      <a:pt x="363" y="681"/>
                    </a:lnTo>
                    <a:lnTo>
                      <a:pt x="366" y="670"/>
                    </a:lnTo>
                    <a:lnTo>
                      <a:pt x="370" y="662"/>
                    </a:lnTo>
                    <a:lnTo>
                      <a:pt x="374" y="654"/>
                    </a:lnTo>
                    <a:lnTo>
                      <a:pt x="381" y="647"/>
                    </a:lnTo>
                    <a:lnTo>
                      <a:pt x="388" y="639"/>
                    </a:lnTo>
                    <a:lnTo>
                      <a:pt x="396" y="636"/>
                    </a:lnTo>
                    <a:lnTo>
                      <a:pt x="404" y="632"/>
                    </a:lnTo>
                    <a:lnTo>
                      <a:pt x="415" y="631"/>
                    </a:lnTo>
                    <a:lnTo>
                      <a:pt x="426" y="616"/>
                    </a:lnTo>
                    <a:lnTo>
                      <a:pt x="439" y="604"/>
                    </a:lnTo>
                    <a:lnTo>
                      <a:pt x="453" y="590"/>
                    </a:lnTo>
                    <a:lnTo>
                      <a:pt x="466" y="578"/>
                    </a:lnTo>
                    <a:lnTo>
                      <a:pt x="476" y="562"/>
                    </a:lnTo>
                    <a:lnTo>
                      <a:pt x="486" y="547"/>
                    </a:lnTo>
                    <a:lnTo>
                      <a:pt x="491" y="529"/>
                    </a:lnTo>
                    <a:lnTo>
                      <a:pt x="492" y="511"/>
                    </a:lnTo>
                    <a:lnTo>
                      <a:pt x="498" y="503"/>
                    </a:lnTo>
                    <a:lnTo>
                      <a:pt x="507" y="501"/>
                    </a:lnTo>
                    <a:lnTo>
                      <a:pt x="515" y="500"/>
                    </a:lnTo>
                    <a:lnTo>
                      <a:pt x="526" y="500"/>
                    </a:lnTo>
                    <a:lnTo>
                      <a:pt x="529" y="489"/>
                    </a:lnTo>
                    <a:lnTo>
                      <a:pt x="532" y="479"/>
                    </a:lnTo>
                    <a:lnTo>
                      <a:pt x="535" y="468"/>
                    </a:lnTo>
                    <a:lnTo>
                      <a:pt x="538" y="458"/>
                    </a:lnTo>
                    <a:lnTo>
                      <a:pt x="540" y="447"/>
                    </a:lnTo>
                    <a:lnTo>
                      <a:pt x="541" y="436"/>
                    </a:lnTo>
                    <a:lnTo>
                      <a:pt x="540" y="425"/>
                    </a:lnTo>
                    <a:lnTo>
                      <a:pt x="538" y="416"/>
                    </a:lnTo>
                    <a:lnTo>
                      <a:pt x="542" y="404"/>
                    </a:lnTo>
                    <a:lnTo>
                      <a:pt x="548" y="392"/>
                    </a:lnTo>
                    <a:lnTo>
                      <a:pt x="553" y="379"/>
                    </a:lnTo>
                    <a:lnTo>
                      <a:pt x="559" y="367"/>
                    </a:lnTo>
                    <a:lnTo>
                      <a:pt x="562" y="354"/>
                    </a:lnTo>
                    <a:lnTo>
                      <a:pt x="564" y="343"/>
                    </a:lnTo>
                    <a:lnTo>
                      <a:pt x="564" y="329"/>
                    </a:lnTo>
                    <a:lnTo>
                      <a:pt x="563" y="318"/>
                    </a:lnTo>
                    <a:lnTo>
                      <a:pt x="559" y="311"/>
                    </a:lnTo>
                    <a:lnTo>
                      <a:pt x="556" y="306"/>
                    </a:lnTo>
                    <a:lnTo>
                      <a:pt x="551" y="302"/>
                    </a:lnTo>
                    <a:lnTo>
                      <a:pt x="546" y="300"/>
                    </a:lnTo>
                    <a:lnTo>
                      <a:pt x="535" y="294"/>
                    </a:lnTo>
                    <a:lnTo>
                      <a:pt x="526" y="285"/>
                    </a:lnTo>
                    <a:lnTo>
                      <a:pt x="519" y="290"/>
                    </a:lnTo>
                    <a:lnTo>
                      <a:pt x="511" y="295"/>
                    </a:lnTo>
                    <a:lnTo>
                      <a:pt x="503" y="297"/>
                    </a:lnTo>
                    <a:lnTo>
                      <a:pt x="494" y="297"/>
                    </a:lnTo>
                    <a:lnTo>
                      <a:pt x="486" y="296"/>
                    </a:lnTo>
                    <a:lnTo>
                      <a:pt x="481" y="294"/>
                    </a:lnTo>
                    <a:lnTo>
                      <a:pt x="477" y="290"/>
                    </a:lnTo>
                    <a:lnTo>
                      <a:pt x="473" y="286"/>
                    </a:lnTo>
                    <a:lnTo>
                      <a:pt x="466" y="276"/>
                    </a:lnTo>
                    <a:lnTo>
                      <a:pt x="457" y="269"/>
                    </a:lnTo>
                    <a:lnTo>
                      <a:pt x="453" y="263"/>
                    </a:lnTo>
                    <a:lnTo>
                      <a:pt x="444" y="273"/>
                    </a:lnTo>
                    <a:lnTo>
                      <a:pt x="434" y="278"/>
                    </a:lnTo>
                    <a:lnTo>
                      <a:pt x="423" y="278"/>
                    </a:lnTo>
                    <a:lnTo>
                      <a:pt x="413" y="278"/>
                    </a:lnTo>
                    <a:lnTo>
                      <a:pt x="402" y="276"/>
                    </a:lnTo>
                    <a:lnTo>
                      <a:pt x="391" y="278"/>
                    </a:lnTo>
                    <a:lnTo>
                      <a:pt x="381" y="281"/>
                    </a:lnTo>
                    <a:lnTo>
                      <a:pt x="375" y="292"/>
                    </a:lnTo>
                    <a:lnTo>
                      <a:pt x="369" y="302"/>
                    </a:lnTo>
                    <a:lnTo>
                      <a:pt x="363" y="312"/>
                    </a:lnTo>
                    <a:lnTo>
                      <a:pt x="355" y="321"/>
                    </a:lnTo>
                    <a:lnTo>
                      <a:pt x="346" y="329"/>
                    </a:lnTo>
                    <a:lnTo>
                      <a:pt x="335" y="337"/>
                    </a:lnTo>
                    <a:lnTo>
                      <a:pt x="326" y="344"/>
                    </a:lnTo>
                    <a:lnTo>
                      <a:pt x="317" y="351"/>
                    </a:lnTo>
                    <a:lnTo>
                      <a:pt x="310" y="361"/>
                    </a:lnTo>
                    <a:lnTo>
                      <a:pt x="304" y="365"/>
                    </a:lnTo>
                    <a:lnTo>
                      <a:pt x="299" y="370"/>
                    </a:lnTo>
                    <a:lnTo>
                      <a:pt x="292" y="372"/>
                    </a:lnTo>
                    <a:lnTo>
                      <a:pt x="286" y="375"/>
                    </a:lnTo>
                    <a:lnTo>
                      <a:pt x="279" y="376"/>
                    </a:lnTo>
                    <a:lnTo>
                      <a:pt x="271" y="378"/>
                    </a:lnTo>
                    <a:lnTo>
                      <a:pt x="264" y="381"/>
                    </a:lnTo>
                    <a:lnTo>
                      <a:pt x="260" y="387"/>
                    </a:lnTo>
                    <a:lnTo>
                      <a:pt x="253" y="406"/>
                    </a:lnTo>
                    <a:lnTo>
                      <a:pt x="242" y="420"/>
                    </a:lnTo>
                    <a:lnTo>
                      <a:pt x="225" y="430"/>
                    </a:lnTo>
                    <a:lnTo>
                      <a:pt x="209" y="438"/>
                    </a:lnTo>
                    <a:lnTo>
                      <a:pt x="191" y="446"/>
                    </a:lnTo>
                    <a:lnTo>
                      <a:pt x="178" y="457"/>
                    </a:lnTo>
                    <a:lnTo>
                      <a:pt x="168" y="471"/>
                    </a:lnTo>
                    <a:lnTo>
                      <a:pt x="166" y="495"/>
                    </a:lnTo>
                    <a:lnTo>
                      <a:pt x="162" y="503"/>
                    </a:lnTo>
                    <a:lnTo>
                      <a:pt x="160" y="512"/>
                    </a:lnTo>
                    <a:lnTo>
                      <a:pt x="155" y="519"/>
                    </a:lnTo>
                    <a:lnTo>
                      <a:pt x="151" y="528"/>
                    </a:lnTo>
                    <a:lnTo>
                      <a:pt x="144" y="535"/>
                    </a:lnTo>
                    <a:lnTo>
                      <a:pt x="138" y="543"/>
                    </a:lnTo>
                    <a:lnTo>
                      <a:pt x="129" y="549"/>
                    </a:lnTo>
                    <a:lnTo>
                      <a:pt x="122" y="555"/>
                    </a:lnTo>
                    <a:lnTo>
                      <a:pt x="116" y="562"/>
                    </a:lnTo>
                    <a:lnTo>
                      <a:pt x="111" y="570"/>
                    </a:lnTo>
                    <a:lnTo>
                      <a:pt x="106" y="577"/>
                    </a:lnTo>
                    <a:lnTo>
                      <a:pt x="102" y="584"/>
                    </a:lnTo>
                    <a:lnTo>
                      <a:pt x="97" y="592"/>
                    </a:lnTo>
                    <a:lnTo>
                      <a:pt x="93" y="600"/>
                    </a:lnTo>
                    <a:lnTo>
                      <a:pt x="90" y="609"/>
                    </a:lnTo>
                    <a:lnTo>
                      <a:pt x="87" y="619"/>
                    </a:lnTo>
                    <a:lnTo>
                      <a:pt x="74" y="626"/>
                    </a:lnTo>
                    <a:lnTo>
                      <a:pt x="63" y="636"/>
                    </a:lnTo>
                    <a:lnTo>
                      <a:pt x="54" y="647"/>
                    </a:lnTo>
                    <a:lnTo>
                      <a:pt x="47" y="659"/>
                    </a:lnTo>
                    <a:lnTo>
                      <a:pt x="38" y="670"/>
                    </a:lnTo>
                    <a:lnTo>
                      <a:pt x="30" y="682"/>
                    </a:lnTo>
                    <a:lnTo>
                      <a:pt x="21" y="693"/>
                    </a:lnTo>
                    <a:lnTo>
                      <a:pt x="11" y="704"/>
                    </a:lnTo>
                    <a:lnTo>
                      <a:pt x="5" y="702"/>
                    </a:lnTo>
                    <a:lnTo>
                      <a:pt x="0" y="697"/>
                    </a:lnTo>
                    <a:lnTo>
                      <a:pt x="5" y="685"/>
                    </a:lnTo>
                    <a:lnTo>
                      <a:pt x="10" y="673"/>
                    </a:lnTo>
                    <a:lnTo>
                      <a:pt x="10" y="660"/>
                    </a:lnTo>
                    <a:lnTo>
                      <a:pt x="3" y="649"/>
                    </a:lnTo>
                    <a:lnTo>
                      <a:pt x="6" y="628"/>
                    </a:lnTo>
                    <a:lnTo>
                      <a:pt x="11" y="608"/>
                    </a:lnTo>
                    <a:lnTo>
                      <a:pt x="15" y="587"/>
                    </a:lnTo>
                    <a:lnTo>
                      <a:pt x="21" y="568"/>
                    </a:lnTo>
                    <a:lnTo>
                      <a:pt x="25" y="547"/>
                    </a:lnTo>
                    <a:lnTo>
                      <a:pt x="31" y="529"/>
                    </a:lnTo>
                    <a:lnTo>
                      <a:pt x="38" y="511"/>
                    </a:lnTo>
                    <a:lnTo>
                      <a:pt x="47" y="495"/>
                    </a:lnTo>
                    <a:lnTo>
                      <a:pt x="54" y="485"/>
                    </a:lnTo>
                    <a:lnTo>
                      <a:pt x="58" y="474"/>
                    </a:lnTo>
                    <a:lnTo>
                      <a:pt x="60" y="462"/>
                    </a:lnTo>
                    <a:lnTo>
                      <a:pt x="63" y="451"/>
                    </a:lnTo>
                    <a:lnTo>
                      <a:pt x="66" y="440"/>
                    </a:lnTo>
                    <a:lnTo>
                      <a:pt x="70" y="430"/>
                    </a:lnTo>
                    <a:lnTo>
                      <a:pt x="71" y="424"/>
                    </a:lnTo>
                    <a:lnTo>
                      <a:pt x="75" y="420"/>
                    </a:lnTo>
                    <a:lnTo>
                      <a:pt x="79" y="416"/>
                    </a:lnTo>
                    <a:lnTo>
                      <a:pt x="87" y="416"/>
                    </a:lnTo>
                    <a:lnTo>
                      <a:pt x="91" y="404"/>
                    </a:lnTo>
                    <a:lnTo>
                      <a:pt x="95" y="393"/>
                    </a:lnTo>
                    <a:lnTo>
                      <a:pt x="98" y="381"/>
                    </a:lnTo>
                    <a:lnTo>
                      <a:pt x="104" y="371"/>
                    </a:lnTo>
                    <a:lnTo>
                      <a:pt x="109" y="360"/>
                    </a:lnTo>
                    <a:lnTo>
                      <a:pt x="118" y="351"/>
                    </a:lnTo>
                    <a:lnTo>
                      <a:pt x="127" y="344"/>
                    </a:lnTo>
                    <a:lnTo>
                      <a:pt x="139" y="340"/>
                    </a:lnTo>
                    <a:lnTo>
                      <a:pt x="139" y="349"/>
                    </a:lnTo>
                    <a:lnTo>
                      <a:pt x="138" y="357"/>
                    </a:lnTo>
                    <a:lnTo>
                      <a:pt x="134" y="366"/>
                    </a:lnTo>
                    <a:lnTo>
                      <a:pt x="131" y="375"/>
                    </a:lnTo>
                    <a:lnTo>
                      <a:pt x="127" y="382"/>
                    </a:lnTo>
                    <a:lnTo>
                      <a:pt x="124" y="390"/>
                    </a:lnTo>
                    <a:lnTo>
                      <a:pt x="123" y="399"/>
                    </a:lnTo>
                    <a:lnTo>
                      <a:pt x="127" y="410"/>
                    </a:lnTo>
                    <a:lnTo>
                      <a:pt x="135" y="395"/>
                    </a:lnTo>
                    <a:lnTo>
                      <a:pt x="144" y="381"/>
                    </a:lnTo>
                    <a:lnTo>
                      <a:pt x="151" y="366"/>
                    </a:lnTo>
                    <a:lnTo>
                      <a:pt x="158" y="351"/>
                    </a:lnTo>
                    <a:lnTo>
                      <a:pt x="165" y="337"/>
                    </a:lnTo>
                    <a:lnTo>
                      <a:pt x="172" y="322"/>
                    </a:lnTo>
                    <a:lnTo>
                      <a:pt x="179" y="307"/>
                    </a:lnTo>
                    <a:lnTo>
                      <a:pt x="189" y="295"/>
                    </a:lnTo>
                    <a:lnTo>
                      <a:pt x="193" y="292"/>
                    </a:lnTo>
                    <a:lnTo>
                      <a:pt x="200" y="295"/>
                    </a:lnTo>
                    <a:lnTo>
                      <a:pt x="200" y="301"/>
                    </a:lnTo>
                    <a:lnTo>
                      <a:pt x="198" y="310"/>
                    </a:lnTo>
                    <a:lnTo>
                      <a:pt x="196" y="317"/>
                    </a:lnTo>
                    <a:lnTo>
                      <a:pt x="200" y="324"/>
                    </a:lnTo>
                    <a:lnTo>
                      <a:pt x="234" y="263"/>
                    </a:lnTo>
                    <a:lnTo>
                      <a:pt x="242" y="262"/>
                    </a:lnTo>
                    <a:lnTo>
                      <a:pt x="250" y="256"/>
                    </a:lnTo>
                    <a:lnTo>
                      <a:pt x="256" y="247"/>
                    </a:lnTo>
                    <a:lnTo>
                      <a:pt x="263" y="238"/>
                    </a:lnTo>
                    <a:lnTo>
                      <a:pt x="267" y="230"/>
                    </a:lnTo>
                    <a:lnTo>
                      <a:pt x="275" y="226"/>
                    </a:lnTo>
                    <a:lnTo>
                      <a:pt x="282" y="227"/>
                    </a:lnTo>
                    <a:lnTo>
                      <a:pt x="292" y="240"/>
                    </a:lnTo>
                    <a:lnTo>
                      <a:pt x="296" y="230"/>
                    </a:lnTo>
                    <a:lnTo>
                      <a:pt x="299" y="221"/>
                    </a:lnTo>
                    <a:lnTo>
                      <a:pt x="302" y="213"/>
                    </a:lnTo>
                    <a:lnTo>
                      <a:pt x="305" y="204"/>
                    </a:lnTo>
                    <a:lnTo>
                      <a:pt x="308" y="195"/>
                    </a:lnTo>
                    <a:lnTo>
                      <a:pt x="312" y="187"/>
                    </a:lnTo>
                    <a:lnTo>
                      <a:pt x="317" y="180"/>
                    </a:lnTo>
                    <a:lnTo>
                      <a:pt x="324" y="175"/>
                    </a:lnTo>
                    <a:lnTo>
                      <a:pt x="336" y="177"/>
                    </a:lnTo>
                    <a:lnTo>
                      <a:pt x="331" y="224"/>
                    </a:lnTo>
                    <a:lnTo>
                      <a:pt x="336" y="216"/>
                    </a:lnTo>
                    <a:lnTo>
                      <a:pt x="342" y="209"/>
                    </a:lnTo>
                    <a:lnTo>
                      <a:pt x="347" y="200"/>
                    </a:lnTo>
                    <a:lnTo>
                      <a:pt x="352" y="192"/>
                    </a:lnTo>
                    <a:lnTo>
                      <a:pt x="356" y="182"/>
                    </a:lnTo>
                    <a:lnTo>
                      <a:pt x="359" y="172"/>
                    </a:lnTo>
                    <a:lnTo>
                      <a:pt x="363" y="162"/>
                    </a:lnTo>
                    <a:lnTo>
                      <a:pt x="368" y="154"/>
                    </a:lnTo>
                    <a:lnTo>
                      <a:pt x="370" y="142"/>
                    </a:lnTo>
                    <a:lnTo>
                      <a:pt x="381" y="135"/>
                    </a:lnTo>
                    <a:lnTo>
                      <a:pt x="388" y="142"/>
                    </a:lnTo>
                    <a:lnTo>
                      <a:pt x="390" y="149"/>
                    </a:lnTo>
                    <a:lnTo>
                      <a:pt x="390" y="157"/>
                    </a:lnTo>
                    <a:lnTo>
                      <a:pt x="391" y="166"/>
                    </a:lnTo>
                    <a:lnTo>
                      <a:pt x="396" y="154"/>
                    </a:lnTo>
                    <a:lnTo>
                      <a:pt x="401" y="143"/>
                    </a:lnTo>
                    <a:lnTo>
                      <a:pt x="406" y="132"/>
                    </a:lnTo>
                    <a:lnTo>
                      <a:pt x="411" y="121"/>
                    </a:lnTo>
                    <a:lnTo>
                      <a:pt x="415" y="110"/>
                    </a:lnTo>
                    <a:lnTo>
                      <a:pt x="421" y="100"/>
                    </a:lnTo>
                    <a:lnTo>
                      <a:pt x="428" y="91"/>
                    </a:lnTo>
                    <a:lnTo>
                      <a:pt x="439" y="88"/>
                    </a:lnTo>
                    <a:lnTo>
                      <a:pt x="446" y="97"/>
                    </a:lnTo>
                    <a:lnTo>
                      <a:pt x="440" y="111"/>
                    </a:lnTo>
                    <a:lnTo>
                      <a:pt x="437" y="127"/>
                    </a:lnTo>
                    <a:lnTo>
                      <a:pt x="434" y="142"/>
                    </a:lnTo>
                    <a:lnTo>
                      <a:pt x="432" y="159"/>
                    </a:lnTo>
                    <a:lnTo>
                      <a:pt x="428" y="175"/>
                    </a:lnTo>
                    <a:lnTo>
                      <a:pt x="424" y="191"/>
                    </a:lnTo>
                    <a:lnTo>
                      <a:pt x="419" y="204"/>
                    </a:lnTo>
                    <a:lnTo>
                      <a:pt x="415" y="219"/>
                    </a:lnTo>
                    <a:lnTo>
                      <a:pt x="416" y="222"/>
                    </a:lnTo>
                    <a:lnTo>
                      <a:pt x="421" y="225"/>
                    </a:lnTo>
                    <a:lnTo>
                      <a:pt x="426" y="226"/>
                    </a:lnTo>
                    <a:lnTo>
                      <a:pt x="431" y="227"/>
                    </a:lnTo>
                    <a:lnTo>
                      <a:pt x="438" y="211"/>
                    </a:lnTo>
                    <a:lnTo>
                      <a:pt x="446" y="195"/>
                    </a:lnTo>
                    <a:lnTo>
                      <a:pt x="454" y="178"/>
                    </a:lnTo>
                    <a:lnTo>
                      <a:pt x="462" y="162"/>
                    </a:lnTo>
                    <a:lnTo>
                      <a:pt x="469" y="144"/>
                    </a:lnTo>
                    <a:lnTo>
                      <a:pt x="475" y="127"/>
                    </a:lnTo>
                    <a:lnTo>
                      <a:pt x="477" y="108"/>
                    </a:lnTo>
                    <a:lnTo>
                      <a:pt x="481" y="90"/>
                    </a:lnTo>
                    <a:lnTo>
                      <a:pt x="484" y="86"/>
                    </a:lnTo>
                    <a:lnTo>
                      <a:pt x="491" y="85"/>
                    </a:lnTo>
                    <a:lnTo>
                      <a:pt x="495" y="85"/>
                    </a:lnTo>
                    <a:lnTo>
                      <a:pt x="502" y="90"/>
                    </a:lnTo>
                    <a:lnTo>
                      <a:pt x="503" y="96"/>
                    </a:lnTo>
                    <a:lnTo>
                      <a:pt x="504" y="103"/>
                    </a:lnTo>
                    <a:lnTo>
                      <a:pt x="504" y="111"/>
                    </a:lnTo>
                    <a:lnTo>
                      <a:pt x="504" y="119"/>
                    </a:lnTo>
                    <a:lnTo>
                      <a:pt x="503" y="127"/>
                    </a:lnTo>
                    <a:lnTo>
                      <a:pt x="503" y="134"/>
                    </a:lnTo>
                    <a:lnTo>
                      <a:pt x="503" y="142"/>
                    </a:lnTo>
                    <a:lnTo>
                      <a:pt x="507" y="150"/>
                    </a:lnTo>
                    <a:lnTo>
                      <a:pt x="510" y="143"/>
                    </a:lnTo>
                    <a:lnTo>
                      <a:pt x="515" y="135"/>
                    </a:lnTo>
                    <a:lnTo>
                      <a:pt x="520" y="128"/>
                    </a:lnTo>
                    <a:lnTo>
                      <a:pt x="525" y="121"/>
                    </a:lnTo>
                    <a:lnTo>
                      <a:pt x="530" y="113"/>
                    </a:lnTo>
                    <a:lnTo>
                      <a:pt x="537" y="106"/>
                    </a:lnTo>
                    <a:lnTo>
                      <a:pt x="545" y="99"/>
                    </a:lnTo>
                    <a:lnTo>
                      <a:pt x="554" y="95"/>
                    </a:lnTo>
                    <a:lnTo>
                      <a:pt x="560" y="95"/>
                    </a:lnTo>
                    <a:lnTo>
                      <a:pt x="567" y="94"/>
                    </a:lnTo>
                    <a:lnTo>
                      <a:pt x="570" y="90"/>
                    </a:lnTo>
                    <a:lnTo>
                      <a:pt x="575" y="86"/>
                    </a:lnTo>
                    <a:lnTo>
                      <a:pt x="581" y="74"/>
                    </a:lnTo>
                    <a:lnTo>
                      <a:pt x="591" y="67"/>
                    </a:lnTo>
                    <a:lnTo>
                      <a:pt x="595" y="57"/>
                    </a:lnTo>
                    <a:lnTo>
                      <a:pt x="601" y="50"/>
                    </a:lnTo>
                    <a:lnTo>
                      <a:pt x="608" y="41"/>
                    </a:lnTo>
                    <a:lnTo>
                      <a:pt x="618" y="37"/>
                    </a:lnTo>
                    <a:lnTo>
                      <a:pt x="625" y="40"/>
                    </a:lnTo>
                    <a:lnTo>
                      <a:pt x="627" y="48"/>
                    </a:lnTo>
                    <a:lnTo>
                      <a:pt x="627" y="52"/>
                    </a:lnTo>
                    <a:lnTo>
                      <a:pt x="629" y="57"/>
                    </a:lnTo>
                    <a:lnTo>
                      <a:pt x="632" y="59"/>
                    </a:lnTo>
                    <a:lnTo>
                      <a:pt x="639" y="62"/>
                    </a:lnTo>
                    <a:lnTo>
                      <a:pt x="644" y="72"/>
                    </a:lnTo>
                    <a:lnTo>
                      <a:pt x="655" y="59"/>
                    </a:lnTo>
                    <a:lnTo>
                      <a:pt x="667" y="48"/>
                    </a:lnTo>
                    <a:lnTo>
                      <a:pt x="672" y="42"/>
                    </a:lnTo>
                    <a:lnTo>
                      <a:pt x="678" y="37"/>
                    </a:lnTo>
                    <a:lnTo>
                      <a:pt x="684" y="31"/>
                    </a:lnTo>
                    <a:lnTo>
                      <a:pt x="692" y="27"/>
                    </a:lnTo>
                    <a:lnTo>
                      <a:pt x="700" y="29"/>
                    </a:lnTo>
                    <a:lnTo>
                      <a:pt x="706" y="35"/>
                    </a:lnTo>
                    <a:lnTo>
                      <a:pt x="695" y="50"/>
                    </a:lnTo>
                    <a:lnTo>
                      <a:pt x="685" y="65"/>
                    </a:lnTo>
                    <a:lnTo>
                      <a:pt x="674" y="80"/>
                    </a:lnTo>
                    <a:lnTo>
                      <a:pt x="665" y="96"/>
                    </a:lnTo>
                    <a:lnTo>
                      <a:pt x="654" y="111"/>
                    </a:lnTo>
                    <a:lnTo>
                      <a:pt x="644" y="126"/>
                    </a:lnTo>
                    <a:lnTo>
                      <a:pt x="633" y="140"/>
                    </a:lnTo>
                    <a:lnTo>
                      <a:pt x="623" y="156"/>
                    </a:lnTo>
                    <a:lnTo>
                      <a:pt x="617" y="166"/>
                    </a:lnTo>
                    <a:lnTo>
                      <a:pt x="612" y="177"/>
                    </a:lnTo>
                    <a:lnTo>
                      <a:pt x="607" y="187"/>
                    </a:lnTo>
                    <a:lnTo>
                      <a:pt x="607" y="198"/>
                    </a:lnTo>
                    <a:lnTo>
                      <a:pt x="624" y="170"/>
                    </a:lnTo>
                    <a:lnTo>
                      <a:pt x="646" y="145"/>
                    </a:lnTo>
                    <a:lnTo>
                      <a:pt x="668" y="119"/>
                    </a:lnTo>
                    <a:lnTo>
                      <a:pt x="693" y="96"/>
                    </a:lnTo>
                    <a:lnTo>
                      <a:pt x="716" y="72"/>
                    </a:lnTo>
                    <a:lnTo>
                      <a:pt x="742" y="48"/>
                    </a:lnTo>
                    <a:lnTo>
                      <a:pt x="766" y="24"/>
                    </a:lnTo>
                    <a:lnTo>
                      <a:pt x="791" y="0"/>
                    </a:lnTo>
                    <a:lnTo>
                      <a:pt x="801" y="3"/>
                    </a:lnTo>
                    <a:lnTo>
                      <a:pt x="804" y="12"/>
                    </a:lnTo>
                    <a:close/>
                  </a:path>
                </a:pathLst>
              </a:custGeom>
              <a:solidFill>
                <a:srgbClr val="ffb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7" name="Freeform 234"/>
              <p:cNvSpPr/>
              <p:nvPr/>
            </p:nvSpPr>
            <p:spPr>
              <a:xfrm flipH="1">
                <a:off x="6954480" y="3128040"/>
                <a:ext cx="4320" cy="5400"/>
              </a:xfrm>
              <a:custGeom>
                <a:avLst/>
                <a:gdLst>
                  <a:gd name="textAreaLeft" fmla="*/ 360 w 4320"/>
                  <a:gd name="textAreaRight" fmla="*/ 5040 w 4320"/>
                  <a:gd name="textAreaTop" fmla="*/ 0 h 5400"/>
                  <a:gd name="textAreaBottom" fmla="*/ 5760 h 5400"/>
                </a:gdLst>
                <a:ahLst/>
                <a:rect l="textAreaLeft" t="textAreaTop" r="textAreaRight" b="textAreaBottom"/>
                <a:pathLst>
                  <a:path w="18" h="19">
                    <a:moveTo>
                      <a:pt x="0" y="19"/>
                    </a:moveTo>
                    <a:lnTo>
                      <a:pt x="1" y="11"/>
                    </a:lnTo>
                    <a:lnTo>
                      <a:pt x="7" y="8"/>
                    </a:lnTo>
                    <a:lnTo>
                      <a:pt x="12" y="4"/>
                    </a:lnTo>
                    <a:lnTo>
                      <a:pt x="18" y="0"/>
                    </a:lnTo>
                    <a:lnTo>
                      <a:pt x="12" y="4"/>
                    </a:lnTo>
                    <a:lnTo>
                      <a:pt x="10" y="10"/>
                    </a:lnTo>
                    <a:lnTo>
                      <a:pt x="6" y="15"/>
                    </a:lnTo>
                    <a:lnTo>
                      <a:pt x="0" y="19"/>
                    </a:lnTo>
                    <a:close/>
                  </a:path>
                </a:pathLst>
              </a:custGeom>
              <a:solidFill>
                <a:srgbClr val="ff8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Humanst521 BT"/>
                </a:endParaRPr>
              </a:p>
            </p:txBody>
          </p:sp>
          <p:sp>
            <p:nvSpPr>
              <p:cNvPr id="148" name="Freeform 235"/>
              <p:cNvSpPr/>
              <p:nvPr/>
            </p:nvSpPr>
            <p:spPr>
              <a:xfrm flipH="1">
                <a:off x="7382160" y="3048840"/>
                <a:ext cx="13320" cy="12240"/>
              </a:xfrm>
              <a:custGeom>
                <a:avLst/>
                <a:gdLst>
                  <a:gd name="textAreaLeft" fmla="*/ -360 w 13320"/>
                  <a:gd name="textAreaRight" fmla="*/ 13320 w 13320"/>
                  <a:gd name="textAreaTop" fmla="*/ 0 h 12240"/>
                  <a:gd name="textAreaBottom" fmla="*/ 12600 h 12240"/>
                </a:gdLst>
                <a:ahLst/>
                <a:rect l="textAreaLeft" t="textAreaTop" r="textAreaRight" b="textAreaBottom"/>
                <a:pathLst>
                  <a:path w="47" h="42">
                    <a:moveTo>
                      <a:pt x="47" y="13"/>
                    </a:moveTo>
                    <a:lnTo>
                      <a:pt x="46" y="19"/>
                    </a:lnTo>
                    <a:lnTo>
                      <a:pt x="45" y="28"/>
                    </a:lnTo>
                    <a:lnTo>
                      <a:pt x="44" y="35"/>
                    </a:lnTo>
                    <a:lnTo>
                      <a:pt x="41" y="42"/>
                    </a:lnTo>
                    <a:lnTo>
                      <a:pt x="33" y="41"/>
                    </a:lnTo>
                    <a:lnTo>
                      <a:pt x="24" y="40"/>
                    </a:lnTo>
                    <a:lnTo>
                      <a:pt x="20" y="34"/>
                    </a:lnTo>
                    <a:lnTo>
                      <a:pt x="17" y="31"/>
                    </a:lnTo>
                    <a:lnTo>
                      <a:pt x="12" y="29"/>
                    </a:lnTo>
                    <a:lnTo>
                      <a:pt x="6" y="31"/>
                    </a:lnTo>
                    <a:lnTo>
                      <a:pt x="2" y="28"/>
                    </a:lnTo>
                    <a:lnTo>
                      <a:pt x="0" y="24"/>
                    </a:lnTo>
                    <a:lnTo>
                      <a:pt x="3" y="15"/>
                    </a:lnTo>
                    <a:lnTo>
                      <a:pt x="8" y="8"/>
                    </a:lnTo>
                    <a:lnTo>
                      <a:pt x="14" y="2"/>
                    </a:lnTo>
                    <a:lnTo>
                      <a:pt x="24" y="0"/>
                    </a:lnTo>
                    <a:lnTo>
                      <a:pt x="30" y="1"/>
                    </a:lnTo>
                    <a:lnTo>
                      <a:pt x="38" y="3"/>
                    </a:lnTo>
                    <a:lnTo>
                      <a:pt x="42" y="6"/>
                    </a:lnTo>
                    <a:lnTo>
                      <a:pt x="47" y="13"/>
                    </a:lnTo>
                    <a:close/>
                  </a:path>
                </a:pathLst>
              </a:custGeom>
              <a:solidFill>
                <a:srgbClr val="ffff0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Humanst521 BT"/>
                </a:endParaRPr>
              </a:p>
            </p:txBody>
          </p:sp>
          <p:sp>
            <p:nvSpPr>
              <p:cNvPr id="149" name="Freeform 236"/>
              <p:cNvSpPr/>
              <p:nvPr/>
            </p:nvSpPr>
            <p:spPr>
              <a:xfrm flipH="1">
                <a:off x="7400160" y="3046320"/>
                <a:ext cx="15480" cy="16920"/>
              </a:xfrm>
              <a:custGeom>
                <a:avLst/>
                <a:gdLst>
                  <a:gd name="textAreaLeft" fmla="*/ -360 w 15480"/>
                  <a:gd name="textAreaRight" fmla="*/ 15480 w 15480"/>
                  <a:gd name="textAreaTop" fmla="*/ 0 h 16920"/>
                  <a:gd name="textAreaBottom" fmla="*/ 17280 h 16920"/>
                </a:gdLst>
                <a:ahLst/>
                <a:rect l="textAreaLeft" t="textAreaTop" r="textAreaRight" b="textAreaBottom"/>
                <a:pathLst>
                  <a:path w="57" h="61">
                    <a:moveTo>
                      <a:pt x="57" y="31"/>
                    </a:moveTo>
                    <a:lnTo>
                      <a:pt x="53" y="42"/>
                    </a:lnTo>
                    <a:lnTo>
                      <a:pt x="47" y="49"/>
                    </a:lnTo>
                    <a:lnTo>
                      <a:pt x="37" y="55"/>
                    </a:lnTo>
                    <a:lnTo>
                      <a:pt x="28" y="61"/>
                    </a:lnTo>
                    <a:lnTo>
                      <a:pt x="19" y="56"/>
                    </a:lnTo>
                    <a:lnTo>
                      <a:pt x="13" y="51"/>
                    </a:lnTo>
                    <a:lnTo>
                      <a:pt x="6" y="43"/>
                    </a:lnTo>
                    <a:lnTo>
                      <a:pt x="4" y="36"/>
                    </a:lnTo>
                    <a:lnTo>
                      <a:pt x="0" y="27"/>
                    </a:lnTo>
                    <a:lnTo>
                      <a:pt x="3" y="20"/>
                    </a:lnTo>
                    <a:lnTo>
                      <a:pt x="8" y="12"/>
                    </a:lnTo>
                    <a:lnTo>
                      <a:pt x="13" y="6"/>
                    </a:lnTo>
                    <a:lnTo>
                      <a:pt x="19" y="1"/>
                    </a:lnTo>
                    <a:lnTo>
                      <a:pt x="27" y="0"/>
                    </a:lnTo>
                    <a:lnTo>
                      <a:pt x="35" y="1"/>
                    </a:lnTo>
                    <a:lnTo>
                      <a:pt x="42" y="5"/>
                    </a:lnTo>
                    <a:lnTo>
                      <a:pt x="48" y="9"/>
                    </a:lnTo>
                    <a:lnTo>
                      <a:pt x="53" y="15"/>
                    </a:lnTo>
                    <a:lnTo>
                      <a:pt x="55" y="22"/>
                    </a:lnTo>
                    <a:lnTo>
                      <a:pt x="57" y="31"/>
                    </a:lnTo>
                    <a:close/>
                  </a:path>
                </a:pathLst>
              </a:custGeom>
              <a:solidFill>
                <a:srgbClr val="ffff0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Humanst521 BT"/>
                </a:endParaRPr>
              </a:p>
            </p:txBody>
          </p:sp>
          <p:sp>
            <p:nvSpPr>
              <p:cNvPr id="150" name="Freeform 237"/>
              <p:cNvSpPr/>
              <p:nvPr/>
            </p:nvSpPr>
            <p:spPr>
              <a:xfrm flipH="1">
                <a:off x="7387920" y="3070440"/>
                <a:ext cx="14400" cy="14400"/>
              </a:xfrm>
              <a:custGeom>
                <a:avLst/>
                <a:gdLst>
                  <a:gd name="textAreaLeft" fmla="*/ 360 w 14400"/>
                  <a:gd name="textAreaRight" fmla="*/ 15120 w 14400"/>
                  <a:gd name="textAreaTop" fmla="*/ 0 h 14400"/>
                  <a:gd name="textAreaBottom" fmla="*/ 14760 h 14400"/>
                </a:gdLst>
                <a:ahLst/>
                <a:rect l="textAreaLeft" t="textAreaTop" r="textAreaRight" b="textAreaBottom"/>
                <a:pathLst>
                  <a:path w="51" h="55">
                    <a:moveTo>
                      <a:pt x="51" y="21"/>
                    </a:moveTo>
                    <a:lnTo>
                      <a:pt x="48" y="30"/>
                    </a:lnTo>
                    <a:lnTo>
                      <a:pt x="46" y="39"/>
                    </a:lnTo>
                    <a:lnTo>
                      <a:pt x="40" y="48"/>
                    </a:lnTo>
                    <a:lnTo>
                      <a:pt x="30" y="55"/>
                    </a:lnTo>
                    <a:lnTo>
                      <a:pt x="21" y="54"/>
                    </a:lnTo>
                    <a:lnTo>
                      <a:pt x="16" y="53"/>
                    </a:lnTo>
                    <a:lnTo>
                      <a:pt x="13" y="48"/>
                    </a:lnTo>
                    <a:lnTo>
                      <a:pt x="10" y="44"/>
                    </a:lnTo>
                    <a:lnTo>
                      <a:pt x="5" y="34"/>
                    </a:lnTo>
                    <a:lnTo>
                      <a:pt x="0" y="27"/>
                    </a:lnTo>
                    <a:lnTo>
                      <a:pt x="0" y="16"/>
                    </a:lnTo>
                    <a:lnTo>
                      <a:pt x="5" y="10"/>
                    </a:lnTo>
                    <a:lnTo>
                      <a:pt x="13" y="3"/>
                    </a:lnTo>
                    <a:lnTo>
                      <a:pt x="21" y="0"/>
                    </a:lnTo>
                    <a:lnTo>
                      <a:pt x="31" y="1"/>
                    </a:lnTo>
                    <a:lnTo>
                      <a:pt x="40" y="6"/>
                    </a:lnTo>
                    <a:lnTo>
                      <a:pt x="46" y="12"/>
                    </a:lnTo>
                    <a:lnTo>
                      <a:pt x="51" y="21"/>
                    </a:lnTo>
                    <a:close/>
                  </a:path>
                </a:pathLst>
              </a:custGeom>
              <a:solidFill>
                <a:srgbClr val="ffff0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Humanst521 BT"/>
                </a:endParaRPr>
              </a:p>
            </p:txBody>
          </p:sp>
          <p:sp>
            <p:nvSpPr>
              <p:cNvPr id="151" name="Freeform 238"/>
              <p:cNvSpPr/>
              <p:nvPr/>
            </p:nvSpPr>
            <p:spPr>
              <a:xfrm flipH="1">
                <a:off x="7021440" y="3143520"/>
                <a:ext cx="75240" cy="106200"/>
              </a:xfrm>
              <a:custGeom>
                <a:avLst/>
                <a:gdLst>
                  <a:gd name="textAreaLeft" fmla="*/ -360 w 75240"/>
                  <a:gd name="textAreaRight" fmla="*/ 75240 w 75240"/>
                  <a:gd name="textAreaTop" fmla="*/ 0 h 106200"/>
                  <a:gd name="textAreaBottom" fmla="*/ 106560 h 106200"/>
                </a:gdLst>
                <a:ahLst/>
                <a:rect l="textAreaLeft" t="textAreaTop" r="textAreaRight" b="textAreaBottom"/>
                <a:pathLst>
                  <a:path w="269" h="377">
                    <a:moveTo>
                      <a:pt x="269" y="61"/>
                    </a:moveTo>
                    <a:lnTo>
                      <a:pt x="263" y="71"/>
                    </a:lnTo>
                    <a:lnTo>
                      <a:pt x="258" y="81"/>
                    </a:lnTo>
                    <a:lnTo>
                      <a:pt x="251" y="90"/>
                    </a:lnTo>
                    <a:lnTo>
                      <a:pt x="244" y="99"/>
                    </a:lnTo>
                    <a:lnTo>
                      <a:pt x="235" y="106"/>
                    </a:lnTo>
                    <a:lnTo>
                      <a:pt x="226" y="113"/>
                    </a:lnTo>
                    <a:lnTo>
                      <a:pt x="215" y="118"/>
                    </a:lnTo>
                    <a:lnTo>
                      <a:pt x="205" y="122"/>
                    </a:lnTo>
                    <a:lnTo>
                      <a:pt x="195" y="129"/>
                    </a:lnTo>
                    <a:lnTo>
                      <a:pt x="203" y="134"/>
                    </a:lnTo>
                    <a:lnTo>
                      <a:pt x="210" y="141"/>
                    </a:lnTo>
                    <a:lnTo>
                      <a:pt x="215" y="149"/>
                    </a:lnTo>
                    <a:lnTo>
                      <a:pt x="220" y="158"/>
                    </a:lnTo>
                    <a:lnTo>
                      <a:pt x="222" y="166"/>
                    </a:lnTo>
                    <a:lnTo>
                      <a:pt x="224" y="176"/>
                    </a:lnTo>
                    <a:lnTo>
                      <a:pt x="224" y="185"/>
                    </a:lnTo>
                    <a:lnTo>
                      <a:pt x="224" y="195"/>
                    </a:lnTo>
                    <a:lnTo>
                      <a:pt x="219" y="201"/>
                    </a:lnTo>
                    <a:lnTo>
                      <a:pt x="215" y="209"/>
                    </a:lnTo>
                    <a:lnTo>
                      <a:pt x="211" y="215"/>
                    </a:lnTo>
                    <a:lnTo>
                      <a:pt x="208" y="222"/>
                    </a:lnTo>
                    <a:lnTo>
                      <a:pt x="204" y="227"/>
                    </a:lnTo>
                    <a:lnTo>
                      <a:pt x="204" y="234"/>
                    </a:lnTo>
                    <a:lnTo>
                      <a:pt x="205" y="241"/>
                    </a:lnTo>
                    <a:lnTo>
                      <a:pt x="211" y="248"/>
                    </a:lnTo>
                    <a:lnTo>
                      <a:pt x="209" y="258"/>
                    </a:lnTo>
                    <a:lnTo>
                      <a:pt x="205" y="268"/>
                    </a:lnTo>
                    <a:lnTo>
                      <a:pt x="200" y="276"/>
                    </a:lnTo>
                    <a:lnTo>
                      <a:pt x="194" y="285"/>
                    </a:lnTo>
                    <a:lnTo>
                      <a:pt x="186" y="291"/>
                    </a:lnTo>
                    <a:lnTo>
                      <a:pt x="178" y="297"/>
                    </a:lnTo>
                    <a:lnTo>
                      <a:pt x="168" y="301"/>
                    </a:lnTo>
                    <a:lnTo>
                      <a:pt x="159" y="306"/>
                    </a:lnTo>
                    <a:lnTo>
                      <a:pt x="148" y="308"/>
                    </a:lnTo>
                    <a:lnTo>
                      <a:pt x="138" y="310"/>
                    </a:lnTo>
                    <a:lnTo>
                      <a:pt x="128" y="310"/>
                    </a:lnTo>
                    <a:lnTo>
                      <a:pt x="118" y="310"/>
                    </a:lnTo>
                    <a:lnTo>
                      <a:pt x="111" y="314"/>
                    </a:lnTo>
                    <a:lnTo>
                      <a:pt x="117" y="324"/>
                    </a:lnTo>
                    <a:lnTo>
                      <a:pt x="123" y="335"/>
                    </a:lnTo>
                    <a:lnTo>
                      <a:pt x="126" y="346"/>
                    </a:lnTo>
                    <a:lnTo>
                      <a:pt x="122" y="358"/>
                    </a:lnTo>
                    <a:lnTo>
                      <a:pt x="108" y="367"/>
                    </a:lnTo>
                    <a:lnTo>
                      <a:pt x="95" y="373"/>
                    </a:lnTo>
                    <a:lnTo>
                      <a:pt x="80" y="375"/>
                    </a:lnTo>
                    <a:lnTo>
                      <a:pt x="67" y="377"/>
                    </a:lnTo>
                    <a:lnTo>
                      <a:pt x="52" y="373"/>
                    </a:lnTo>
                    <a:lnTo>
                      <a:pt x="37" y="371"/>
                    </a:lnTo>
                    <a:lnTo>
                      <a:pt x="23" y="367"/>
                    </a:lnTo>
                    <a:lnTo>
                      <a:pt x="9" y="363"/>
                    </a:lnTo>
                    <a:lnTo>
                      <a:pt x="2" y="353"/>
                    </a:lnTo>
                    <a:lnTo>
                      <a:pt x="0" y="342"/>
                    </a:lnTo>
                    <a:lnTo>
                      <a:pt x="3" y="334"/>
                    </a:lnTo>
                    <a:lnTo>
                      <a:pt x="8" y="328"/>
                    </a:lnTo>
                    <a:lnTo>
                      <a:pt x="13" y="323"/>
                    </a:lnTo>
                    <a:lnTo>
                      <a:pt x="21" y="321"/>
                    </a:lnTo>
                    <a:lnTo>
                      <a:pt x="32" y="321"/>
                    </a:lnTo>
                    <a:lnTo>
                      <a:pt x="43" y="315"/>
                    </a:lnTo>
                    <a:lnTo>
                      <a:pt x="52" y="307"/>
                    </a:lnTo>
                    <a:lnTo>
                      <a:pt x="63" y="303"/>
                    </a:lnTo>
                    <a:lnTo>
                      <a:pt x="56" y="292"/>
                    </a:lnTo>
                    <a:lnTo>
                      <a:pt x="50" y="283"/>
                    </a:lnTo>
                    <a:lnTo>
                      <a:pt x="47" y="272"/>
                    </a:lnTo>
                    <a:lnTo>
                      <a:pt x="48" y="264"/>
                    </a:lnTo>
                    <a:lnTo>
                      <a:pt x="52" y="255"/>
                    </a:lnTo>
                    <a:lnTo>
                      <a:pt x="59" y="248"/>
                    </a:lnTo>
                    <a:lnTo>
                      <a:pt x="67" y="242"/>
                    </a:lnTo>
                    <a:lnTo>
                      <a:pt x="75" y="237"/>
                    </a:lnTo>
                    <a:lnTo>
                      <a:pt x="83" y="231"/>
                    </a:lnTo>
                    <a:lnTo>
                      <a:pt x="91" y="225"/>
                    </a:lnTo>
                    <a:lnTo>
                      <a:pt x="99" y="217"/>
                    </a:lnTo>
                    <a:lnTo>
                      <a:pt x="106" y="211"/>
                    </a:lnTo>
                    <a:lnTo>
                      <a:pt x="102" y="200"/>
                    </a:lnTo>
                    <a:lnTo>
                      <a:pt x="103" y="190"/>
                    </a:lnTo>
                    <a:lnTo>
                      <a:pt x="106" y="179"/>
                    </a:lnTo>
                    <a:lnTo>
                      <a:pt x="111" y="172"/>
                    </a:lnTo>
                    <a:lnTo>
                      <a:pt x="118" y="164"/>
                    </a:lnTo>
                    <a:lnTo>
                      <a:pt x="130" y="161"/>
                    </a:lnTo>
                    <a:lnTo>
                      <a:pt x="134" y="157"/>
                    </a:lnTo>
                    <a:lnTo>
                      <a:pt x="139" y="153"/>
                    </a:lnTo>
                    <a:lnTo>
                      <a:pt x="141" y="149"/>
                    </a:lnTo>
                    <a:lnTo>
                      <a:pt x="143" y="142"/>
                    </a:lnTo>
                    <a:lnTo>
                      <a:pt x="148" y="138"/>
                    </a:lnTo>
                    <a:lnTo>
                      <a:pt x="152" y="134"/>
                    </a:lnTo>
                    <a:lnTo>
                      <a:pt x="159" y="131"/>
                    </a:lnTo>
                    <a:lnTo>
                      <a:pt x="166" y="130"/>
                    </a:lnTo>
                    <a:lnTo>
                      <a:pt x="161" y="123"/>
                    </a:lnTo>
                    <a:lnTo>
                      <a:pt x="156" y="119"/>
                    </a:lnTo>
                    <a:lnTo>
                      <a:pt x="150" y="114"/>
                    </a:lnTo>
                    <a:lnTo>
                      <a:pt x="145" y="109"/>
                    </a:lnTo>
                    <a:lnTo>
                      <a:pt x="139" y="103"/>
                    </a:lnTo>
                    <a:lnTo>
                      <a:pt x="137" y="98"/>
                    </a:lnTo>
                    <a:lnTo>
                      <a:pt x="135" y="91"/>
                    </a:lnTo>
                    <a:lnTo>
                      <a:pt x="138" y="85"/>
                    </a:lnTo>
                    <a:lnTo>
                      <a:pt x="151" y="76"/>
                    </a:lnTo>
                    <a:lnTo>
                      <a:pt x="162" y="66"/>
                    </a:lnTo>
                    <a:lnTo>
                      <a:pt x="170" y="54"/>
                    </a:lnTo>
                    <a:lnTo>
                      <a:pt x="177" y="42"/>
                    </a:lnTo>
                    <a:lnTo>
                      <a:pt x="183" y="30"/>
                    </a:lnTo>
                    <a:lnTo>
                      <a:pt x="192" y="19"/>
                    </a:lnTo>
                    <a:lnTo>
                      <a:pt x="203" y="9"/>
                    </a:lnTo>
                    <a:lnTo>
                      <a:pt x="219" y="4"/>
                    </a:lnTo>
                    <a:lnTo>
                      <a:pt x="231" y="0"/>
                    </a:lnTo>
                    <a:lnTo>
                      <a:pt x="241" y="3"/>
                    </a:lnTo>
                    <a:lnTo>
                      <a:pt x="248" y="7"/>
                    </a:lnTo>
                    <a:lnTo>
                      <a:pt x="254" y="17"/>
                    </a:lnTo>
                    <a:lnTo>
                      <a:pt x="258" y="27"/>
                    </a:lnTo>
                    <a:lnTo>
                      <a:pt x="262" y="39"/>
                    </a:lnTo>
                    <a:lnTo>
                      <a:pt x="265" y="50"/>
                    </a:lnTo>
                    <a:lnTo>
                      <a:pt x="269" y="61"/>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2" name="Freeform 239"/>
              <p:cNvSpPr/>
              <p:nvPr/>
            </p:nvSpPr>
            <p:spPr>
              <a:xfrm flipH="1">
                <a:off x="7406640" y="3070440"/>
                <a:ext cx="19080" cy="19080"/>
              </a:xfrm>
              <a:custGeom>
                <a:avLst/>
                <a:gdLst>
                  <a:gd name="textAreaLeft" fmla="*/ -360 w 19080"/>
                  <a:gd name="textAreaRight" fmla="*/ 19080 w 19080"/>
                  <a:gd name="textAreaTop" fmla="*/ 0 h 19080"/>
                  <a:gd name="textAreaBottom" fmla="*/ 19440 h 19080"/>
                </a:gdLst>
                <a:ahLst/>
                <a:rect l="textAreaLeft" t="textAreaTop" r="textAreaRight" b="textAreaBottom"/>
                <a:pathLst>
                  <a:path w="70" h="68">
                    <a:moveTo>
                      <a:pt x="70" y="21"/>
                    </a:moveTo>
                    <a:lnTo>
                      <a:pt x="70" y="25"/>
                    </a:lnTo>
                    <a:lnTo>
                      <a:pt x="70" y="30"/>
                    </a:lnTo>
                    <a:lnTo>
                      <a:pt x="68" y="35"/>
                    </a:lnTo>
                    <a:lnTo>
                      <a:pt x="65" y="40"/>
                    </a:lnTo>
                    <a:lnTo>
                      <a:pt x="57" y="46"/>
                    </a:lnTo>
                    <a:lnTo>
                      <a:pt x="48" y="49"/>
                    </a:lnTo>
                    <a:lnTo>
                      <a:pt x="43" y="51"/>
                    </a:lnTo>
                    <a:lnTo>
                      <a:pt x="40" y="54"/>
                    </a:lnTo>
                    <a:lnTo>
                      <a:pt x="36" y="58"/>
                    </a:lnTo>
                    <a:lnTo>
                      <a:pt x="36" y="65"/>
                    </a:lnTo>
                    <a:lnTo>
                      <a:pt x="27" y="67"/>
                    </a:lnTo>
                    <a:lnTo>
                      <a:pt x="20" y="68"/>
                    </a:lnTo>
                    <a:lnTo>
                      <a:pt x="13" y="67"/>
                    </a:lnTo>
                    <a:lnTo>
                      <a:pt x="5" y="63"/>
                    </a:lnTo>
                    <a:lnTo>
                      <a:pt x="0" y="53"/>
                    </a:lnTo>
                    <a:lnTo>
                      <a:pt x="0" y="43"/>
                    </a:lnTo>
                    <a:lnTo>
                      <a:pt x="2" y="33"/>
                    </a:lnTo>
                    <a:lnTo>
                      <a:pt x="8" y="26"/>
                    </a:lnTo>
                    <a:lnTo>
                      <a:pt x="13" y="18"/>
                    </a:lnTo>
                    <a:lnTo>
                      <a:pt x="18" y="10"/>
                    </a:lnTo>
                    <a:lnTo>
                      <a:pt x="25" y="4"/>
                    </a:lnTo>
                    <a:lnTo>
                      <a:pt x="36" y="2"/>
                    </a:lnTo>
                    <a:lnTo>
                      <a:pt x="46" y="0"/>
                    </a:lnTo>
                    <a:lnTo>
                      <a:pt x="56" y="5"/>
                    </a:lnTo>
                    <a:lnTo>
                      <a:pt x="63" y="11"/>
                    </a:lnTo>
                    <a:lnTo>
                      <a:pt x="70" y="21"/>
                    </a:lnTo>
                    <a:close/>
                  </a:path>
                </a:pathLst>
              </a:custGeom>
              <a:solidFill>
                <a:srgbClr val="ffff0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Humanst521 BT"/>
                </a:endParaRPr>
              </a:p>
            </p:txBody>
          </p:sp>
          <p:sp>
            <p:nvSpPr>
              <p:cNvPr id="153" name="Freeform 240"/>
              <p:cNvSpPr/>
              <p:nvPr/>
            </p:nvSpPr>
            <p:spPr>
              <a:xfrm flipH="1">
                <a:off x="7032960" y="3152880"/>
                <a:ext cx="7560" cy="11160"/>
              </a:xfrm>
              <a:custGeom>
                <a:avLst/>
                <a:gdLst>
                  <a:gd name="textAreaLeft" fmla="*/ -360 w 7560"/>
                  <a:gd name="textAreaRight" fmla="*/ 7560 w 7560"/>
                  <a:gd name="textAreaTop" fmla="*/ 0 h 11160"/>
                  <a:gd name="textAreaBottom" fmla="*/ 11520 h 11160"/>
                </a:gdLst>
                <a:ahLst/>
                <a:rect l="textAreaLeft" t="textAreaTop" r="textAreaRight" b="textAreaBottom"/>
                <a:pathLst>
                  <a:path w="25" h="38">
                    <a:moveTo>
                      <a:pt x="25" y="2"/>
                    </a:moveTo>
                    <a:lnTo>
                      <a:pt x="22" y="13"/>
                    </a:lnTo>
                    <a:lnTo>
                      <a:pt x="16" y="22"/>
                    </a:lnTo>
                    <a:lnTo>
                      <a:pt x="7" y="29"/>
                    </a:lnTo>
                    <a:lnTo>
                      <a:pt x="0" y="38"/>
                    </a:lnTo>
                    <a:lnTo>
                      <a:pt x="0" y="32"/>
                    </a:lnTo>
                    <a:lnTo>
                      <a:pt x="1" y="25"/>
                    </a:lnTo>
                    <a:lnTo>
                      <a:pt x="2" y="18"/>
                    </a:lnTo>
                    <a:lnTo>
                      <a:pt x="3" y="13"/>
                    </a:lnTo>
                    <a:lnTo>
                      <a:pt x="5" y="7"/>
                    </a:lnTo>
                    <a:lnTo>
                      <a:pt x="8" y="3"/>
                    </a:lnTo>
                    <a:lnTo>
                      <a:pt x="12" y="1"/>
                    </a:lnTo>
                    <a:lnTo>
                      <a:pt x="21" y="1"/>
                    </a:lnTo>
                    <a:lnTo>
                      <a:pt x="23" y="0"/>
                    </a:lnTo>
                    <a:lnTo>
                      <a:pt x="25" y="2"/>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Humanst521 BT"/>
                </a:endParaRPr>
              </a:p>
            </p:txBody>
          </p:sp>
          <p:sp>
            <p:nvSpPr>
              <p:cNvPr id="154" name="Freeform 241"/>
              <p:cNvSpPr/>
              <p:nvPr/>
            </p:nvSpPr>
            <p:spPr>
              <a:xfrm flipH="1">
                <a:off x="7394760" y="3087360"/>
                <a:ext cx="24480" cy="19080"/>
              </a:xfrm>
              <a:custGeom>
                <a:avLst/>
                <a:gdLst>
                  <a:gd name="textAreaLeft" fmla="*/ 360 w 24480"/>
                  <a:gd name="textAreaRight" fmla="*/ 25200 w 24480"/>
                  <a:gd name="textAreaTop" fmla="*/ 0 h 19080"/>
                  <a:gd name="textAreaBottom" fmla="*/ 19440 h 19080"/>
                </a:gdLst>
                <a:ahLst/>
                <a:rect l="textAreaLeft" t="textAreaTop" r="textAreaRight" b="textAreaBottom"/>
                <a:pathLst>
                  <a:path w="85" h="66">
                    <a:moveTo>
                      <a:pt x="85" y="26"/>
                    </a:moveTo>
                    <a:lnTo>
                      <a:pt x="79" y="35"/>
                    </a:lnTo>
                    <a:lnTo>
                      <a:pt x="74" y="48"/>
                    </a:lnTo>
                    <a:lnTo>
                      <a:pt x="67" y="58"/>
                    </a:lnTo>
                    <a:lnTo>
                      <a:pt x="57" y="65"/>
                    </a:lnTo>
                    <a:lnTo>
                      <a:pt x="43" y="66"/>
                    </a:lnTo>
                    <a:lnTo>
                      <a:pt x="31" y="66"/>
                    </a:lnTo>
                    <a:lnTo>
                      <a:pt x="18" y="64"/>
                    </a:lnTo>
                    <a:lnTo>
                      <a:pt x="9" y="58"/>
                    </a:lnTo>
                    <a:lnTo>
                      <a:pt x="3" y="50"/>
                    </a:lnTo>
                    <a:lnTo>
                      <a:pt x="0" y="43"/>
                    </a:lnTo>
                    <a:lnTo>
                      <a:pt x="2" y="34"/>
                    </a:lnTo>
                    <a:lnTo>
                      <a:pt x="7" y="28"/>
                    </a:lnTo>
                    <a:lnTo>
                      <a:pt x="16" y="26"/>
                    </a:lnTo>
                    <a:lnTo>
                      <a:pt x="25" y="21"/>
                    </a:lnTo>
                    <a:lnTo>
                      <a:pt x="32" y="13"/>
                    </a:lnTo>
                    <a:lnTo>
                      <a:pt x="41" y="7"/>
                    </a:lnTo>
                    <a:lnTo>
                      <a:pt x="48" y="1"/>
                    </a:lnTo>
                    <a:lnTo>
                      <a:pt x="57" y="0"/>
                    </a:lnTo>
                    <a:lnTo>
                      <a:pt x="65" y="1"/>
                    </a:lnTo>
                    <a:lnTo>
                      <a:pt x="78" y="10"/>
                    </a:lnTo>
                    <a:lnTo>
                      <a:pt x="85" y="26"/>
                    </a:lnTo>
                    <a:close/>
                  </a:path>
                </a:pathLst>
              </a:custGeom>
              <a:solidFill>
                <a:srgbClr val="ffff0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Humanst521 BT"/>
                </a:endParaRPr>
              </a:p>
            </p:txBody>
          </p:sp>
          <p:sp>
            <p:nvSpPr>
              <p:cNvPr id="155" name="Freeform 242"/>
              <p:cNvSpPr/>
              <p:nvPr/>
            </p:nvSpPr>
            <p:spPr>
              <a:xfrm flipH="1">
                <a:off x="6930000" y="3183480"/>
                <a:ext cx="6480" cy="7560"/>
              </a:xfrm>
              <a:custGeom>
                <a:avLst/>
                <a:gdLst>
                  <a:gd name="textAreaLeft" fmla="*/ 360 w 6480"/>
                  <a:gd name="textAreaRight" fmla="*/ 7200 w 6480"/>
                  <a:gd name="textAreaTop" fmla="*/ 0 h 7560"/>
                  <a:gd name="textAreaBottom" fmla="*/ 7920 h 7560"/>
                </a:gdLst>
                <a:ahLst/>
                <a:rect l="textAreaLeft" t="textAreaTop" r="textAreaRight" b="textAreaBottom"/>
                <a:pathLst>
                  <a:path w="24" h="30">
                    <a:moveTo>
                      <a:pt x="24" y="24"/>
                    </a:moveTo>
                    <a:lnTo>
                      <a:pt x="16" y="30"/>
                    </a:lnTo>
                    <a:lnTo>
                      <a:pt x="15" y="24"/>
                    </a:lnTo>
                    <a:lnTo>
                      <a:pt x="10" y="22"/>
                    </a:lnTo>
                    <a:lnTo>
                      <a:pt x="4" y="20"/>
                    </a:lnTo>
                    <a:lnTo>
                      <a:pt x="0" y="19"/>
                    </a:lnTo>
                    <a:lnTo>
                      <a:pt x="16" y="0"/>
                    </a:lnTo>
                    <a:lnTo>
                      <a:pt x="17" y="8"/>
                    </a:lnTo>
                    <a:lnTo>
                      <a:pt x="15" y="19"/>
                    </a:lnTo>
                    <a:lnTo>
                      <a:pt x="12" y="21"/>
                    </a:lnTo>
                    <a:lnTo>
                      <a:pt x="13" y="25"/>
                    </a:lnTo>
                    <a:lnTo>
                      <a:pt x="17" y="25"/>
                    </a:lnTo>
                    <a:lnTo>
                      <a:pt x="24" y="24"/>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Humanst521 BT"/>
                </a:endParaRPr>
              </a:p>
            </p:txBody>
          </p:sp>
          <p:sp>
            <p:nvSpPr>
              <p:cNvPr id="156" name="Freeform 243"/>
              <p:cNvSpPr/>
              <p:nvPr/>
            </p:nvSpPr>
            <p:spPr>
              <a:xfrm flipH="1">
                <a:off x="7412400" y="3090600"/>
                <a:ext cx="29160" cy="42840"/>
              </a:xfrm>
              <a:custGeom>
                <a:avLst/>
                <a:gdLst>
                  <a:gd name="textAreaLeft" fmla="*/ -360 w 29160"/>
                  <a:gd name="textAreaRight" fmla="*/ 29160 w 29160"/>
                  <a:gd name="textAreaTop" fmla="*/ 0 h 42840"/>
                  <a:gd name="textAreaBottom" fmla="*/ 43200 h 42840"/>
                </a:gdLst>
                <a:ahLst/>
                <a:rect l="textAreaLeft" t="textAreaTop" r="textAreaRight" b="textAreaBottom"/>
                <a:pathLst>
                  <a:path w="104" h="153">
                    <a:moveTo>
                      <a:pt x="64" y="40"/>
                    </a:moveTo>
                    <a:lnTo>
                      <a:pt x="63" y="45"/>
                    </a:lnTo>
                    <a:lnTo>
                      <a:pt x="61" y="51"/>
                    </a:lnTo>
                    <a:lnTo>
                      <a:pt x="60" y="57"/>
                    </a:lnTo>
                    <a:lnTo>
                      <a:pt x="61" y="63"/>
                    </a:lnTo>
                    <a:lnTo>
                      <a:pt x="70" y="61"/>
                    </a:lnTo>
                    <a:lnTo>
                      <a:pt x="79" y="59"/>
                    </a:lnTo>
                    <a:lnTo>
                      <a:pt x="87" y="57"/>
                    </a:lnTo>
                    <a:lnTo>
                      <a:pt x="97" y="63"/>
                    </a:lnTo>
                    <a:lnTo>
                      <a:pt x="102" y="73"/>
                    </a:lnTo>
                    <a:lnTo>
                      <a:pt x="104" y="86"/>
                    </a:lnTo>
                    <a:lnTo>
                      <a:pt x="102" y="97"/>
                    </a:lnTo>
                    <a:lnTo>
                      <a:pt x="101" y="110"/>
                    </a:lnTo>
                    <a:lnTo>
                      <a:pt x="93" y="121"/>
                    </a:lnTo>
                    <a:lnTo>
                      <a:pt x="85" y="130"/>
                    </a:lnTo>
                    <a:lnTo>
                      <a:pt x="74" y="133"/>
                    </a:lnTo>
                    <a:lnTo>
                      <a:pt x="64" y="137"/>
                    </a:lnTo>
                    <a:lnTo>
                      <a:pt x="52" y="138"/>
                    </a:lnTo>
                    <a:lnTo>
                      <a:pt x="41" y="142"/>
                    </a:lnTo>
                    <a:lnTo>
                      <a:pt x="30" y="146"/>
                    </a:lnTo>
                    <a:lnTo>
                      <a:pt x="21" y="153"/>
                    </a:lnTo>
                    <a:lnTo>
                      <a:pt x="14" y="152"/>
                    </a:lnTo>
                    <a:lnTo>
                      <a:pt x="10" y="149"/>
                    </a:lnTo>
                    <a:lnTo>
                      <a:pt x="6" y="146"/>
                    </a:lnTo>
                    <a:lnTo>
                      <a:pt x="5" y="142"/>
                    </a:lnTo>
                    <a:lnTo>
                      <a:pt x="3" y="132"/>
                    </a:lnTo>
                    <a:lnTo>
                      <a:pt x="0" y="124"/>
                    </a:lnTo>
                    <a:lnTo>
                      <a:pt x="1" y="115"/>
                    </a:lnTo>
                    <a:lnTo>
                      <a:pt x="4" y="108"/>
                    </a:lnTo>
                    <a:lnTo>
                      <a:pt x="6" y="99"/>
                    </a:lnTo>
                    <a:lnTo>
                      <a:pt x="10" y="92"/>
                    </a:lnTo>
                    <a:lnTo>
                      <a:pt x="11" y="84"/>
                    </a:lnTo>
                    <a:lnTo>
                      <a:pt x="12" y="77"/>
                    </a:lnTo>
                    <a:lnTo>
                      <a:pt x="10" y="70"/>
                    </a:lnTo>
                    <a:lnTo>
                      <a:pt x="6" y="63"/>
                    </a:lnTo>
                    <a:lnTo>
                      <a:pt x="10" y="52"/>
                    </a:lnTo>
                    <a:lnTo>
                      <a:pt x="11" y="43"/>
                    </a:lnTo>
                    <a:lnTo>
                      <a:pt x="11" y="32"/>
                    </a:lnTo>
                    <a:lnTo>
                      <a:pt x="12" y="22"/>
                    </a:lnTo>
                    <a:lnTo>
                      <a:pt x="14" y="12"/>
                    </a:lnTo>
                    <a:lnTo>
                      <a:pt x="18" y="6"/>
                    </a:lnTo>
                    <a:lnTo>
                      <a:pt x="26" y="1"/>
                    </a:lnTo>
                    <a:lnTo>
                      <a:pt x="42" y="0"/>
                    </a:lnTo>
                    <a:lnTo>
                      <a:pt x="52" y="5"/>
                    </a:lnTo>
                    <a:lnTo>
                      <a:pt x="58" y="16"/>
                    </a:lnTo>
                    <a:lnTo>
                      <a:pt x="60" y="28"/>
                    </a:lnTo>
                    <a:lnTo>
                      <a:pt x="64" y="40"/>
                    </a:lnTo>
                    <a:close/>
                  </a:path>
                </a:pathLst>
              </a:custGeom>
              <a:solidFill>
                <a:srgbClr val="ffff0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Humanst521 BT"/>
                </a:endParaRPr>
              </a:p>
            </p:txBody>
          </p:sp>
          <p:sp>
            <p:nvSpPr>
              <p:cNvPr id="157" name="Freeform 244"/>
              <p:cNvSpPr/>
              <p:nvPr/>
            </p:nvSpPr>
            <p:spPr>
              <a:xfrm flipH="1">
                <a:off x="7062480" y="3164040"/>
                <a:ext cx="22320" cy="28080"/>
              </a:xfrm>
              <a:custGeom>
                <a:avLst/>
                <a:gdLst>
                  <a:gd name="textAreaLeft" fmla="*/ 360 w 22320"/>
                  <a:gd name="textAreaRight" fmla="*/ 23040 w 22320"/>
                  <a:gd name="textAreaTop" fmla="*/ 0 h 28080"/>
                  <a:gd name="textAreaBottom" fmla="*/ 28440 h 28080"/>
                </a:gdLst>
                <a:ahLst/>
                <a:rect l="textAreaLeft" t="textAreaTop" r="textAreaRight" b="textAreaBottom"/>
                <a:pathLst>
                  <a:path w="80" h="98">
                    <a:moveTo>
                      <a:pt x="79" y="28"/>
                    </a:moveTo>
                    <a:lnTo>
                      <a:pt x="79" y="37"/>
                    </a:lnTo>
                    <a:lnTo>
                      <a:pt x="78" y="47"/>
                    </a:lnTo>
                    <a:lnTo>
                      <a:pt x="74" y="55"/>
                    </a:lnTo>
                    <a:lnTo>
                      <a:pt x="71" y="64"/>
                    </a:lnTo>
                    <a:lnTo>
                      <a:pt x="65" y="71"/>
                    </a:lnTo>
                    <a:lnTo>
                      <a:pt x="60" y="78"/>
                    </a:lnTo>
                    <a:lnTo>
                      <a:pt x="54" y="86"/>
                    </a:lnTo>
                    <a:lnTo>
                      <a:pt x="49" y="94"/>
                    </a:lnTo>
                    <a:lnTo>
                      <a:pt x="37" y="98"/>
                    </a:lnTo>
                    <a:lnTo>
                      <a:pt x="26" y="98"/>
                    </a:lnTo>
                    <a:lnTo>
                      <a:pt x="14" y="96"/>
                    </a:lnTo>
                    <a:lnTo>
                      <a:pt x="3" y="92"/>
                    </a:lnTo>
                    <a:lnTo>
                      <a:pt x="0" y="86"/>
                    </a:lnTo>
                    <a:lnTo>
                      <a:pt x="4" y="82"/>
                    </a:lnTo>
                    <a:lnTo>
                      <a:pt x="8" y="77"/>
                    </a:lnTo>
                    <a:lnTo>
                      <a:pt x="13" y="74"/>
                    </a:lnTo>
                    <a:lnTo>
                      <a:pt x="14" y="64"/>
                    </a:lnTo>
                    <a:lnTo>
                      <a:pt x="15" y="56"/>
                    </a:lnTo>
                    <a:lnTo>
                      <a:pt x="16" y="47"/>
                    </a:lnTo>
                    <a:lnTo>
                      <a:pt x="18" y="39"/>
                    </a:lnTo>
                    <a:lnTo>
                      <a:pt x="19" y="31"/>
                    </a:lnTo>
                    <a:lnTo>
                      <a:pt x="22" y="23"/>
                    </a:lnTo>
                    <a:lnTo>
                      <a:pt x="27" y="16"/>
                    </a:lnTo>
                    <a:lnTo>
                      <a:pt x="36" y="12"/>
                    </a:lnTo>
                    <a:lnTo>
                      <a:pt x="41" y="5"/>
                    </a:lnTo>
                    <a:lnTo>
                      <a:pt x="49" y="1"/>
                    </a:lnTo>
                    <a:lnTo>
                      <a:pt x="57" y="0"/>
                    </a:lnTo>
                    <a:lnTo>
                      <a:pt x="67" y="2"/>
                    </a:lnTo>
                    <a:lnTo>
                      <a:pt x="73" y="5"/>
                    </a:lnTo>
                    <a:lnTo>
                      <a:pt x="79" y="11"/>
                    </a:lnTo>
                    <a:lnTo>
                      <a:pt x="80" y="18"/>
                    </a:lnTo>
                    <a:lnTo>
                      <a:pt x="79" y="28"/>
                    </a:lnTo>
                    <a:close/>
                  </a:path>
                </a:pathLst>
              </a:custGeom>
              <a:solidFill>
                <a:srgbClr val="ffff0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Humanst521 BT"/>
                </a:endParaRPr>
              </a:p>
            </p:txBody>
          </p:sp>
          <p:sp>
            <p:nvSpPr>
              <p:cNvPr id="158" name="Freeform 245"/>
              <p:cNvSpPr/>
              <p:nvPr/>
            </p:nvSpPr>
            <p:spPr>
              <a:xfrm flipH="1">
                <a:off x="6980040" y="3186720"/>
                <a:ext cx="6840" cy="4320"/>
              </a:xfrm>
              <a:custGeom>
                <a:avLst/>
                <a:gdLst>
                  <a:gd name="textAreaLeft" fmla="*/ -360 w 6840"/>
                  <a:gd name="textAreaRight" fmla="*/ 6840 w 6840"/>
                  <a:gd name="textAreaTop" fmla="*/ 0 h 4320"/>
                  <a:gd name="textAreaBottom" fmla="*/ 4680 h 4320"/>
                </a:gdLst>
                <a:ahLst/>
                <a:rect l="textAreaLeft" t="textAreaTop" r="textAreaRight" b="textAreaBottom"/>
                <a:pathLst>
                  <a:path w="25" h="15">
                    <a:moveTo>
                      <a:pt x="25" y="13"/>
                    </a:moveTo>
                    <a:lnTo>
                      <a:pt x="18" y="15"/>
                    </a:lnTo>
                    <a:lnTo>
                      <a:pt x="13" y="13"/>
                    </a:lnTo>
                    <a:lnTo>
                      <a:pt x="7" y="10"/>
                    </a:lnTo>
                    <a:lnTo>
                      <a:pt x="0" y="10"/>
                    </a:lnTo>
                    <a:lnTo>
                      <a:pt x="4" y="0"/>
                    </a:lnTo>
                    <a:lnTo>
                      <a:pt x="25" y="13"/>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59" name="Freeform 246"/>
              <p:cNvSpPr/>
              <p:nvPr/>
            </p:nvSpPr>
            <p:spPr>
              <a:xfrm flipH="1">
                <a:off x="6982200" y="3200400"/>
                <a:ext cx="11160" cy="2160"/>
              </a:xfrm>
              <a:custGeom>
                <a:avLst/>
                <a:gdLst>
                  <a:gd name="textAreaLeft" fmla="*/ -360 w 11160"/>
                  <a:gd name="textAreaRight" fmla="*/ 11160 w 11160"/>
                  <a:gd name="textAreaTop" fmla="*/ 0 h 2160"/>
                  <a:gd name="textAreaBottom" fmla="*/ 2520 h 2160"/>
                </a:gdLst>
                <a:ahLst/>
                <a:rect l="textAreaLeft" t="textAreaTop" r="textAreaRight" b="textAreaBottom"/>
                <a:pathLst>
                  <a:path w="39" h="9">
                    <a:moveTo>
                      <a:pt x="39" y="0"/>
                    </a:moveTo>
                    <a:lnTo>
                      <a:pt x="28" y="3"/>
                    </a:lnTo>
                    <a:lnTo>
                      <a:pt x="20" y="5"/>
                    </a:lnTo>
                    <a:lnTo>
                      <a:pt x="9" y="7"/>
                    </a:lnTo>
                    <a:lnTo>
                      <a:pt x="0" y="9"/>
                    </a:lnTo>
                    <a:lnTo>
                      <a:pt x="8" y="4"/>
                    </a:lnTo>
                    <a:lnTo>
                      <a:pt x="19" y="1"/>
                    </a:lnTo>
                    <a:lnTo>
                      <a:pt x="28" y="0"/>
                    </a:lnTo>
                    <a:lnTo>
                      <a:pt x="39" y="0"/>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Humanst521 BT"/>
                </a:endParaRPr>
              </a:p>
            </p:txBody>
          </p:sp>
          <p:sp>
            <p:nvSpPr>
              <p:cNvPr id="160" name="Freeform 247"/>
              <p:cNvSpPr/>
              <p:nvPr/>
            </p:nvSpPr>
            <p:spPr>
              <a:xfrm flipH="1">
                <a:off x="7045560" y="3186720"/>
                <a:ext cx="4320" cy="4320"/>
              </a:xfrm>
              <a:custGeom>
                <a:avLst/>
                <a:gdLst>
                  <a:gd name="textAreaLeft" fmla="*/ 360 w 4320"/>
                  <a:gd name="textAreaRight" fmla="*/ 5040 w 4320"/>
                  <a:gd name="textAreaTop" fmla="*/ 0 h 4320"/>
                  <a:gd name="textAreaBottom" fmla="*/ 4680 h 4320"/>
                </a:gdLst>
                <a:ahLst/>
                <a:rect l="textAreaLeft" t="textAreaTop" r="textAreaRight" b="textAreaBottom"/>
                <a:pathLst>
                  <a:path w="13" h="13">
                    <a:moveTo>
                      <a:pt x="13" y="11"/>
                    </a:moveTo>
                    <a:lnTo>
                      <a:pt x="13" y="13"/>
                    </a:lnTo>
                    <a:lnTo>
                      <a:pt x="4" y="8"/>
                    </a:lnTo>
                    <a:lnTo>
                      <a:pt x="0" y="0"/>
                    </a:lnTo>
                    <a:lnTo>
                      <a:pt x="8" y="2"/>
                    </a:lnTo>
                    <a:lnTo>
                      <a:pt x="13" y="11"/>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61" name="Freeform 248"/>
              <p:cNvSpPr/>
              <p:nvPr/>
            </p:nvSpPr>
            <p:spPr>
              <a:xfrm flipH="1">
                <a:off x="7307280" y="3146040"/>
                <a:ext cx="4320" cy="10080"/>
              </a:xfrm>
              <a:custGeom>
                <a:avLst/>
                <a:gdLst>
                  <a:gd name="textAreaLeft" fmla="*/ 360 w 4320"/>
                  <a:gd name="textAreaRight" fmla="*/ 5040 w 4320"/>
                  <a:gd name="textAreaTop" fmla="*/ 0 h 10080"/>
                  <a:gd name="textAreaBottom" fmla="*/ 10440 h 10080"/>
                </a:gdLst>
                <a:ahLst/>
                <a:rect l="textAreaLeft" t="textAreaTop" r="textAreaRight" b="textAreaBottom"/>
                <a:pathLst>
                  <a:path w="17" h="37">
                    <a:moveTo>
                      <a:pt x="0" y="37"/>
                    </a:moveTo>
                    <a:lnTo>
                      <a:pt x="5" y="0"/>
                    </a:lnTo>
                    <a:lnTo>
                      <a:pt x="17" y="13"/>
                    </a:lnTo>
                    <a:lnTo>
                      <a:pt x="0" y="37"/>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Humanst521 BT"/>
                </a:endParaRPr>
              </a:p>
            </p:txBody>
          </p:sp>
          <p:sp>
            <p:nvSpPr>
              <p:cNvPr id="162" name="Freeform 249"/>
              <p:cNvSpPr/>
              <p:nvPr/>
            </p:nvSpPr>
            <p:spPr>
              <a:xfrm flipH="1">
                <a:off x="7084440" y="3189960"/>
                <a:ext cx="127800" cy="165240"/>
              </a:xfrm>
              <a:custGeom>
                <a:avLst/>
                <a:gdLst>
                  <a:gd name="textAreaLeft" fmla="*/ -360 w 127800"/>
                  <a:gd name="textAreaRight" fmla="*/ 127800 w 127800"/>
                  <a:gd name="textAreaTop" fmla="*/ 0 h 165240"/>
                  <a:gd name="textAreaBottom" fmla="*/ 165600 h 165240"/>
                </a:gdLst>
                <a:ahLst/>
                <a:rect l="textAreaLeft" t="textAreaTop" r="textAreaRight" b="textAreaBottom"/>
                <a:pathLst>
                  <a:path w="456" h="588">
                    <a:moveTo>
                      <a:pt x="453" y="31"/>
                    </a:moveTo>
                    <a:lnTo>
                      <a:pt x="454" y="41"/>
                    </a:lnTo>
                    <a:lnTo>
                      <a:pt x="456" y="51"/>
                    </a:lnTo>
                    <a:lnTo>
                      <a:pt x="454" y="62"/>
                    </a:lnTo>
                    <a:lnTo>
                      <a:pt x="453" y="73"/>
                    </a:lnTo>
                    <a:lnTo>
                      <a:pt x="442" y="75"/>
                    </a:lnTo>
                    <a:lnTo>
                      <a:pt x="436" y="80"/>
                    </a:lnTo>
                    <a:lnTo>
                      <a:pt x="432" y="88"/>
                    </a:lnTo>
                    <a:lnTo>
                      <a:pt x="432" y="96"/>
                    </a:lnTo>
                    <a:lnTo>
                      <a:pt x="431" y="104"/>
                    </a:lnTo>
                    <a:lnTo>
                      <a:pt x="430" y="112"/>
                    </a:lnTo>
                    <a:lnTo>
                      <a:pt x="425" y="118"/>
                    </a:lnTo>
                    <a:lnTo>
                      <a:pt x="420" y="126"/>
                    </a:lnTo>
                    <a:lnTo>
                      <a:pt x="413" y="126"/>
                    </a:lnTo>
                    <a:lnTo>
                      <a:pt x="407" y="127"/>
                    </a:lnTo>
                    <a:lnTo>
                      <a:pt x="399" y="127"/>
                    </a:lnTo>
                    <a:lnTo>
                      <a:pt x="396" y="132"/>
                    </a:lnTo>
                    <a:lnTo>
                      <a:pt x="399" y="143"/>
                    </a:lnTo>
                    <a:lnTo>
                      <a:pt x="400" y="156"/>
                    </a:lnTo>
                    <a:lnTo>
                      <a:pt x="398" y="170"/>
                    </a:lnTo>
                    <a:lnTo>
                      <a:pt x="394" y="183"/>
                    </a:lnTo>
                    <a:lnTo>
                      <a:pt x="387" y="196"/>
                    </a:lnTo>
                    <a:lnTo>
                      <a:pt x="381" y="208"/>
                    </a:lnTo>
                    <a:lnTo>
                      <a:pt x="372" y="218"/>
                    </a:lnTo>
                    <a:lnTo>
                      <a:pt x="365" y="229"/>
                    </a:lnTo>
                    <a:lnTo>
                      <a:pt x="356" y="235"/>
                    </a:lnTo>
                    <a:lnTo>
                      <a:pt x="348" y="237"/>
                    </a:lnTo>
                    <a:lnTo>
                      <a:pt x="338" y="237"/>
                    </a:lnTo>
                    <a:lnTo>
                      <a:pt x="328" y="238"/>
                    </a:lnTo>
                    <a:lnTo>
                      <a:pt x="323" y="236"/>
                    </a:lnTo>
                    <a:lnTo>
                      <a:pt x="318" y="232"/>
                    </a:lnTo>
                    <a:lnTo>
                      <a:pt x="313" y="230"/>
                    </a:lnTo>
                    <a:lnTo>
                      <a:pt x="310" y="231"/>
                    </a:lnTo>
                    <a:lnTo>
                      <a:pt x="309" y="242"/>
                    </a:lnTo>
                    <a:lnTo>
                      <a:pt x="307" y="254"/>
                    </a:lnTo>
                    <a:lnTo>
                      <a:pt x="306" y="258"/>
                    </a:lnTo>
                    <a:lnTo>
                      <a:pt x="306" y="264"/>
                    </a:lnTo>
                    <a:lnTo>
                      <a:pt x="306" y="270"/>
                    </a:lnTo>
                    <a:lnTo>
                      <a:pt x="309" y="278"/>
                    </a:lnTo>
                    <a:lnTo>
                      <a:pt x="304" y="286"/>
                    </a:lnTo>
                    <a:lnTo>
                      <a:pt x="299" y="296"/>
                    </a:lnTo>
                    <a:lnTo>
                      <a:pt x="293" y="305"/>
                    </a:lnTo>
                    <a:lnTo>
                      <a:pt x="286" y="313"/>
                    </a:lnTo>
                    <a:lnTo>
                      <a:pt x="277" y="319"/>
                    </a:lnTo>
                    <a:lnTo>
                      <a:pt x="268" y="326"/>
                    </a:lnTo>
                    <a:lnTo>
                      <a:pt x="258" y="329"/>
                    </a:lnTo>
                    <a:lnTo>
                      <a:pt x="248" y="334"/>
                    </a:lnTo>
                    <a:lnTo>
                      <a:pt x="241" y="333"/>
                    </a:lnTo>
                    <a:lnTo>
                      <a:pt x="236" y="332"/>
                    </a:lnTo>
                    <a:lnTo>
                      <a:pt x="231" y="328"/>
                    </a:lnTo>
                    <a:lnTo>
                      <a:pt x="228" y="326"/>
                    </a:lnTo>
                    <a:lnTo>
                      <a:pt x="219" y="317"/>
                    </a:lnTo>
                    <a:lnTo>
                      <a:pt x="214" y="310"/>
                    </a:lnTo>
                    <a:lnTo>
                      <a:pt x="209" y="324"/>
                    </a:lnTo>
                    <a:lnTo>
                      <a:pt x="206" y="339"/>
                    </a:lnTo>
                    <a:lnTo>
                      <a:pt x="199" y="352"/>
                    </a:lnTo>
                    <a:lnTo>
                      <a:pt x="195" y="366"/>
                    </a:lnTo>
                    <a:lnTo>
                      <a:pt x="186" y="377"/>
                    </a:lnTo>
                    <a:lnTo>
                      <a:pt x="179" y="389"/>
                    </a:lnTo>
                    <a:lnTo>
                      <a:pt x="169" y="399"/>
                    </a:lnTo>
                    <a:lnTo>
                      <a:pt x="159" y="410"/>
                    </a:lnTo>
                    <a:lnTo>
                      <a:pt x="164" y="415"/>
                    </a:lnTo>
                    <a:lnTo>
                      <a:pt x="168" y="421"/>
                    </a:lnTo>
                    <a:lnTo>
                      <a:pt x="170" y="429"/>
                    </a:lnTo>
                    <a:lnTo>
                      <a:pt x="170" y="436"/>
                    </a:lnTo>
                    <a:lnTo>
                      <a:pt x="159" y="433"/>
                    </a:lnTo>
                    <a:lnTo>
                      <a:pt x="148" y="435"/>
                    </a:lnTo>
                    <a:lnTo>
                      <a:pt x="137" y="437"/>
                    </a:lnTo>
                    <a:lnTo>
                      <a:pt x="127" y="440"/>
                    </a:lnTo>
                    <a:lnTo>
                      <a:pt x="116" y="441"/>
                    </a:lnTo>
                    <a:lnTo>
                      <a:pt x="106" y="440"/>
                    </a:lnTo>
                    <a:lnTo>
                      <a:pt x="98" y="433"/>
                    </a:lnTo>
                    <a:lnTo>
                      <a:pt x="92" y="422"/>
                    </a:lnTo>
                    <a:lnTo>
                      <a:pt x="87" y="432"/>
                    </a:lnTo>
                    <a:lnTo>
                      <a:pt x="83" y="443"/>
                    </a:lnTo>
                    <a:lnTo>
                      <a:pt x="78" y="453"/>
                    </a:lnTo>
                    <a:lnTo>
                      <a:pt x="73" y="464"/>
                    </a:lnTo>
                    <a:lnTo>
                      <a:pt x="66" y="473"/>
                    </a:lnTo>
                    <a:lnTo>
                      <a:pt x="60" y="483"/>
                    </a:lnTo>
                    <a:lnTo>
                      <a:pt x="51" y="490"/>
                    </a:lnTo>
                    <a:lnTo>
                      <a:pt x="44" y="498"/>
                    </a:lnTo>
                    <a:lnTo>
                      <a:pt x="52" y="501"/>
                    </a:lnTo>
                    <a:lnTo>
                      <a:pt x="63" y="502"/>
                    </a:lnTo>
                    <a:lnTo>
                      <a:pt x="76" y="501"/>
                    </a:lnTo>
                    <a:lnTo>
                      <a:pt x="88" y="500"/>
                    </a:lnTo>
                    <a:lnTo>
                      <a:pt x="89" y="491"/>
                    </a:lnTo>
                    <a:lnTo>
                      <a:pt x="94" y="485"/>
                    </a:lnTo>
                    <a:lnTo>
                      <a:pt x="100" y="479"/>
                    </a:lnTo>
                    <a:lnTo>
                      <a:pt x="108" y="475"/>
                    </a:lnTo>
                    <a:lnTo>
                      <a:pt x="116" y="474"/>
                    </a:lnTo>
                    <a:lnTo>
                      <a:pt x="126" y="474"/>
                    </a:lnTo>
                    <a:lnTo>
                      <a:pt x="134" y="473"/>
                    </a:lnTo>
                    <a:lnTo>
                      <a:pt x="144" y="471"/>
                    </a:lnTo>
                    <a:lnTo>
                      <a:pt x="153" y="470"/>
                    </a:lnTo>
                    <a:lnTo>
                      <a:pt x="163" y="470"/>
                    </a:lnTo>
                    <a:lnTo>
                      <a:pt x="171" y="471"/>
                    </a:lnTo>
                    <a:lnTo>
                      <a:pt x="181" y="475"/>
                    </a:lnTo>
                    <a:lnTo>
                      <a:pt x="186" y="468"/>
                    </a:lnTo>
                    <a:lnTo>
                      <a:pt x="191" y="459"/>
                    </a:lnTo>
                    <a:lnTo>
                      <a:pt x="197" y="452"/>
                    </a:lnTo>
                    <a:lnTo>
                      <a:pt x="207" y="447"/>
                    </a:lnTo>
                    <a:lnTo>
                      <a:pt x="206" y="438"/>
                    </a:lnTo>
                    <a:lnTo>
                      <a:pt x="212" y="431"/>
                    </a:lnTo>
                    <a:lnTo>
                      <a:pt x="218" y="426"/>
                    </a:lnTo>
                    <a:lnTo>
                      <a:pt x="226" y="424"/>
                    </a:lnTo>
                    <a:lnTo>
                      <a:pt x="235" y="422"/>
                    </a:lnTo>
                    <a:lnTo>
                      <a:pt x="245" y="424"/>
                    </a:lnTo>
                    <a:lnTo>
                      <a:pt x="252" y="424"/>
                    </a:lnTo>
                    <a:lnTo>
                      <a:pt x="261" y="427"/>
                    </a:lnTo>
                    <a:lnTo>
                      <a:pt x="269" y="430"/>
                    </a:lnTo>
                    <a:lnTo>
                      <a:pt x="278" y="436"/>
                    </a:lnTo>
                    <a:lnTo>
                      <a:pt x="283" y="442"/>
                    </a:lnTo>
                    <a:lnTo>
                      <a:pt x="286" y="453"/>
                    </a:lnTo>
                    <a:lnTo>
                      <a:pt x="286" y="462"/>
                    </a:lnTo>
                    <a:lnTo>
                      <a:pt x="283" y="470"/>
                    </a:lnTo>
                    <a:lnTo>
                      <a:pt x="272" y="479"/>
                    </a:lnTo>
                    <a:lnTo>
                      <a:pt x="258" y="484"/>
                    </a:lnTo>
                    <a:lnTo>
                      <a:pt x="244" y="486"/>
                    </a:lnTo>
                    <a:lnTo>
                      <a:pt x="230" y="490"/>
                    </a:lnTo>
                    <a:lnTo>
                      <a:pt x="217" y="492"/>
                    </a:lnTo>
                    <a:lnTo>
                      <a:pt x="207" y="500"/>
                    </a:lnTo>
                    <a:lnTo>
                      <a:pt x="199" y="511"/>
                    </a:lnTo>
                    <a:lnTo>
                      <a:pt x="198" y="528"/>
                    </a:lnTo>
                    <a:lnTo>
                      <a:pt x="188" y="534"/>
                    </a:lnTo>
                    <a:lnTo>
                      <a:pt x="180" y="539"/>
                    </a:lnTo>
                    <a:lnTo>
                      <a:pt x="170" y="543"/>
                    </a:lnTo>
                    <a:lnTo>
                      <a:pt x="160" y="548"/>
                    </a:lnTo>
                    <a:lnTo>
                      <a:pt x="149" y="549"/>
                    </a:lnTo>
                    <a:lnTo>
                      <a:pt x="139" y="551"/>
                    </a:lnTo>
                    <a:lnTo>
                      <a:pt x="130" y="551"/>
                    </a:lnTo>
                    <a:lnTo>
                      <a:pt x="120" y="551"/>
                    </a:lnTo>
                    <a:lnTo>
                      <a:pt x="117" y="559"/>
                    </a:lnTo>
                    <a:lnTo>
                      <a:pt x="115" y="566"/>
                    </a:lnTo>
                    <a:lnTo>
                      <a:pt x="112" y="572"/>
                    </a:lnTo>
                    <a:lnTo>
                      <a:pt x="110" y="581"/>
                    </a:lnTo>
                    <a:lnTo>
                      <a:pt x="100" y="586"/>
                    </a:lnTo>
                    <a:lnTo>
                      <a:pt x="92" y="587"/>
                    </a:lnTo>
                    <a:lnTo>
                      <a:pt x="82" y="587"/>
                    </a:lnTo>
                    <a:lnTo>
                      <a:pt x="73" y="588"/>
                    </a:lnTo>
                    <a:lnTo>
                      <a:pt x="63" y="581"/>
                    </a:lnTo>
                    <a:lnTo>
                      <a:pt x="54" y="578"/>
                    </a:lnTo>
                    <a:lnTo>
                      <a:pt x="43" y="574"/>
                    </a:lnTo>
                    <a:lnTo>
                      <a:pt x="32" y="573"/>
                    </a:lnTo>
                    <a:lnTo>
                      <a:pt x="20" y="568"/>
                    </a:lnTo>
                    <a:lnTo>
                      <a:pt x="12" y="565"/>
                    </a:lnTo>
                    <a:lnTo>
                      <a:pt x="3" y="557"/>
                    </a:lnTo>
                    <a:lnTo>
                      <a:pt x="0" y="546"/>
                    </a:lnTo>
                    <a:lnTo>
                      <a:pt x="0" y="535"/>
                    </a:lnTo>
                    <a:lnTo>
                      <a:pt x="3" y="528"/>
                    </a:lnTo>
                    <a:lnTo>
                      <a:pt x="9" y="521"/>
                    </a:lnTo>
                    <a:lnTo>
                      <a:pt x="16" y="516"/>
                    </a:lnTo>
                    <a:lnTo>
                      <a:pt x="20" y="508"/>
                    </a:lnTo>
                    <a:lnTo>
                      <a:pt x="24" y="502"/>
                    </a:lnTo>
                    <a:lnTo>
                      <a:pt x="24" y="494"/>
                    </a:lnTo>
                    <a:lnTo>
                      <a:pt x="20" y="486"/>
                    </a:lnTo>
                    <a:lnTo>
                      <a:pt x="14" y="476"/>
                    </a:lnTo>
                    <a:lnTo>
                      <a:pt x="13" y="468"/>
                    </a:lnTo>
                    <a:lnTo>
                      <a:pt x="12" y="458"/>
                    </a:lnTo>
                    <a:lnTo>
                      <a:pt x="16" y="449"/>
                    </a:lnTo>
                    <a:lnTo>
                      <a:pt x="23" y="441"/>
                    </a:lnTo>
                    <a:lnTo>
                      <a:pt x="29" y="432"/>
                    </a:lnTo>
                    <a:lnTo>
                      <a:pt x="34" y="422"/>
                    </a:lnTo>
                    <a:lnTo>
                      <a:pt x="39" y="413"/>
                    </a:lnTo>
                    <a:lnTo>
                      <a:pt x="43" y="402"/>
                    </a:lnTo>
                    <a:lnTo>
                      <a:pt x="50" y="394"/>
                    </a:lnTo>
                    <a:lnTo>
                      <a:pt x="60" y="389"/>
                    </a:lnTo>
                    <a:lnTo>
                      <a:pt x="73" y="388"/>
                    </a:lnTo>
                    <a:lnTo>
                      <a:pt x="89" y="399"/>
                    </a:lnTo>
                    <a:lnTo>
                      <a:pt x="92" y="381"/>
                    </a:lnTo>
                    <a:lnTo>
                      <a:pt x="96" y="365"/>
                    </a:lnTo>
                    <a:lnTo>
                      <a:pt x="100" y="350"/>
                    </a:lnTo>
                    <a:lnTo>
                      <a:pt x="108" y="335"/>
                    </a:lnTo>
                    <a:lnTo>
                      <a:pt x="114" y="321"/>
                    </a:lnTo>
                    <a:lnTo>
                      <a:pt x="121" y="306"/>
                    </a:lnTo>
                    <a:lnTo>
                      <a:pt x="128" y="292"/>
                    </a:lnTo>
                    <a:lnTo>
                      <a:pt x="136" y="279"/>
                    </a:lnTo>
                    <a:lnTo>
                      <a:pt x="143" y="274"/>
                    </a:lnTo>
                    <a:lnTo>
                      <a:pt x="152" y="270"/>
                    </a:lnTo>
                    <a:lnTo>
                      <a:pt x="159" y="267"/>
                    </a:lnTo>
                    <a:lnTo>
                      <a:pt x="169" y="267"/>
                    </a:lnTo>
                    <a:lnTo>
                      <a:pt x="177" y="264"/>
                    </a:lnTo>
                    <a:lnTo>
                      <a:pt x="186" y="265"/>
                    </a:lnTo>
                    <a:lnTo>
                      <a:pt x="193" y="268"/>
                    </a:lnTo>
                    <a:lnTo>
                      <a:pt x="202" y="273"/>
                    </a:lnTo>
                    <a:lnTo>
                      <a:pt x="204" y="278"/>
                    </a:lnTo>
                    <a:lnTo>
                      <a:pt x="209" y="281"/>
                    </a:lnTo>
                    <a:lnTo>
                      <a:pt x="210" y="273"/>
                    </a:lnTo>
                    <a:lnTo>
                      <a:pt x="214" y="269"/>
                    </a:lnTo>
                    <a:lnTo>
                      <a:pt x="219" y="265"/>
                    </a:lnTo>
                    <a:lnTo>
                      <a:pt x="226" y="265"/>
                    </a:lnTo>
                    <a:lnTo>
                      <a:pt x="233" y="263"/>
                    </a:lnTo>
                    <a:lnTo>
                      <a:pt x="239" y="262"/>
                    </a:lnTo>
                    <a:lnTo>
                      <a:pt x="244" y="258"/>
                    </a:lnTo>
                    <a:lnTo>
                      <a:pt x="248" y="252"/>
                    </a:lnTo>
                    <a:lnTo>
                      <a:pt x="250" y="242"/>
                    </a:lnTo>
                    <a:lnTo>
                      <a:pt x="252" y="235"/>
                    </a:lnTo>
                    <a:lnTo>
                      <a:pt x="256" y="227"/>
                    </a:lnTo>
                    <a:lnTo>
                      <a:pt x="261" y="221"/>
                    </a:lnTo>
                    <a:lnTo>
                      <a:pt x="264" y="214"/>
                    </a:lnTo>
                    <a:lnTo>
                      <a:pt x="272" y="209"/>
                    </a:lnTo>
                    <a:lnTo>
                      <a:pt x="278" y="204"/>
                    </a:lnTo>
                    <a:lnTo>
                      <a:pt x="288" y="202"/>
                    </a:lnTo>
                    <a:lnTo>
                      <a:pt x="294" y="204"/>
                    </a:lnTo>
                    <a:lnTo>
                      <a:pt x="301" y="208"/>
                    </a:lnTo>
                    <a:lnTo>
                      <a:pt x="301" y="198"/>
                    </a:lnTo>
                    <a:lnTo>
                      <a:pt x="305" y="191"/>
                    </a:lnTo>
                    <a:lnTo>
                      <a:pt x="310" y="183"/>
                    </a:lnTo>
                    <a:lnTo>
                      <a:pt x="316" y="178"/>
                    </a:lnTo>
                    <a:lnTo>
                      <a:pt x="321" y="172"/>
                    </a:lnTo>
                    <a:lnTo>
                      <a:pt x="326" y="166"/>
                    </a:lnTo>
                    <a:lnTo>
                      <a:pt x="326" y="157"/>
                    </a:lnTo>
                    <a:lnTo>
                      <a:pt x="324" y="150"/>
                    </a:lnTo>
                    <a:lnTo>
                      <a:pt x="323" y="142"/>
                    </a:lnTo>
                    <a:lnTo>
                      <a:pt x="323" y="134"/>
                    </a:lnTo>
                    <a:lnTo>
                      <a:pt x="324" y="127"/>
                    </a:lnTo>
                    <a:lnTo>
                      <a:pt x="328" y="121"/>
                    </a:lnTo>
                    <a:lnTo>
                      <a:pt x="335" y="112"/>
                    </a:lnTo>
                    <a:lnTo>
                      <a:pt x="345" y="108"/>
                    </a:lnTo>
                    <a:lnTo>
                      <a:pt x="356" y="106"/>
                    </a:lnTo>
                    <a:lnTo>
                      <a:pt x="367" y="105"/>
                    </a:lnTo>
                    <a:lnTo>
                      <a:pt x="373" y="107"/>
                    </a:lnTo>
                    <a:lnTo>
                      <a:pt x="380" y="107"/>
                    </a:lnTo>
                    <a:lnTo>
                      <a:pt x="378" y="97"/>
                    </a:lnTo>
                    <a:lnTo>
                      <a:pt x="378" y="89"/>
                    </a:lnTo>
                    <a:lnTo>
                      <a:pt x="380" y="79"/>
                    </a:lnTo>
                    <a:lnTo>
                      <a:pt x="383" y="70"/>
                    </a:lnTo>
                    <a:lnTo>
                      <a:pt x="387" y="61"/>
                    </a:lnTo>
                    <a:lnTo>
                      <a:pt x="391" y="52"/>
                    </a:lnTo>
                    <a:lnTo>
                      <a:pt x="394" y="42"/>
                    </a:lnTo>
                    <a:lnTo>
                      <a:pt x="398" y="34"/>
                    </a:lnTo>
                    <a:lnTo>
                      <a:pt x="402" y="29"/>
                    </a:lnTo>
                    <a:lnTo>
                      <a:pt x="405" y="23"/>
                    </a:lnTo>
                    <a:lnTo>
                      <a:pt x="409" y="15"/>
                    </a:lnTo>
                    <a:lnTo>
                      <a:pt x="413" y="9"/>
                    </a:lnTo>
                    <a:lnTo>
                      <a:pt x="416" y="3"/>
                    </a:lnTo>
                    <a:lnTo>
                      <a:pt x="421" y="0"/>
                    </a:lnTo>
                    <a:lnTo>
                      <a:pt x="429" y="2"/>
                    </a:lnTo>
                    <a:lnTo>
                      <a:pt x="438" y="8"/>
                    </a:lnTo>
                    <a:lnTo>
                      <a:pt x="453" y="31"/>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3" name="Freeform 250"/>
              <p:cNvSpPr/>
              <p:nvPr/>
            </p:nvSpPr>
            <p:spPr>
              <a:xfrm flipH="1">
                <a:off x="6989040" y="3212640"/>
                <a:ext cx="3240" cy="1080"/>
              </a:xfrm>
              <a:custGeom>
                <a:avLst/>
                <a:gdLst>
                  <a:gd name="textAreaLeft" fmla="*/ -360 w 3240"/>
                  <a:gd name="textAreaRight" fmla="*/ 3240 w 3240"/>
                  <a:gd name="textAreaTop" fmla="*/ 0 h 1080"/>
                  <a:gd name="textAreaBottom" fmla="*/ 1440 h 1080"/>
                </a:gdLst>
                <a:ahLst/>
                <a:rect l="textAreaLeft" t="textAreaTop" r="textAreaRight" b="textAreaBottom"/>
                <a:pathLst>
                  <a:path w="11" h="5">
                    <a:moveTo>
                      <a:pt x="9" y="5"/>
                    </a:moveTo>
                    <a:lnTo>
                      <a:pt x="0" y="3"/>
                    </a:lnTo>
                    <a:lnTo>
                      <a:pt x="4" y="0"/>
                    </a:lnTo>
                    <a:lnTo>
                      <a:pt x="11" y="3"/>
                    </a:lnTo>
                    <a:lnTo>
                      <a:pt x="9" y="5"/>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Humanst521 BT"/>
                </a:endParaRPr>
              </a:p>
            </p:txBody>
          </p:sp>
          <p:sp>
            <p:nvSpPr>
              <p:cNvPr id="164" name="Freeform 251"/>
              <p:cNvSpPr/>
              <p:nvPr/>
            </p:nvSpPr>
            <p:spPr>
              <a:xfrm flipH="1">
                <a:off x="7253280" y="3162960"/>
                <a:ext cx="98640" cy="100800"/>
              </a:xfrm>
              <a:custGeom>
                <a:avLst/>
                <a:gdLst>
                  <a:gd name="textAreaLeft" fmla="*/ 360 w 98640"/>
                  <a:gd name="textAreaRight" fmla="*/ 99360 w 98640"/>
                  <a:gd name="textAreaTop" fmla="*/ 0 h 100800"/>
                  <a:gd name="textAreaBottom" fmla="*/ 101160 h 100800"/>
                </a:gdLst>
                <a:ahLst/>
                <a:rect l="textAreaLeft" t="textAreaTop" r="textAreaRight" b="textAreaBottom"/>
                <a:pathLst>
                  <a:path w="353" h="354">
                    <a:moveTo>
                      <a:pt x="267" y="43"/>
                    </a:moveTo>
                    <a:lnTo>
                      <a:pt x="267" y="47"/>
                    </a:lnTo>
                    <a:lnTo>
                      <a:pt x="270" y="53"/>
                    </a:lnTo>
                    <a:lnTo>
                      <a:pt x="277" y="47"/>
                    </a:lnTo>
                    <a:lnTo>
                      <a:pt x="287" y="42"/>
                    </a:lnTo>
                    <a:lnTo>
                      <a:pt x="296" y="37"/>
                    </a:lnTo>
                    <a:lnTo>
                      <a:pt x="307" y="33"/>
                    </a:lnTo>
                    <a:lnTo>
                      <a:pt x="315" y="30"/>
                    </a:lnTo>
                    <a:lnTo>
                      <a:pt x="326" y="31"/>
                    </a:lnTo>
                    <a:lnTo>
                      <a:pt x="336" y="32"/>
                    </a:lnTo>
                    <a:lnTo>
                      <a:pt x="347" y="37"/>
                    </a:lnTo>
                    <a:lnTo>
                      <a:pt x="353" y="48"/>
                    </a:lnTo>
                    <a:lnTo>
                      <a:pt x="353" y="60"/>
                    </a:lnTo>
                    <a:lnTo>
                      <a:pt x="348" y="71"/>
                    </a:lnTo>
                    <a:lnTo>
                      <a:pt x="343" y="82"/>
                    </a:lnTo>
                    <a:lnTo>
                      <a:pt x="337" y="86"/>
                    </a:lnTo>
                    <a:lnTo>
                      <a:pt x="332" y="91"/>
                    </a:lnTo>
                    <a:lnTo>
                      <a:pt x="325" y="96"/>
                    </a:lnTo>
                    <a:lnTo>
                      <a:pt x="320" y="101"/>
                    </a:lnTo>
                    <a:lnTo>
                      <a:pt x="324" y="107"/>
                    </a:lnTo>
                    <a:lnTo>
                      <a:pt x="328" y="114"/>
                    </a:lnTo>
                    <a:lnTo>
                      <a:pt x="328" y="122"/>
                    </a:lnTo>
                    <a:lnTo>
                      <a:pt x="329" y="132"/>
                    </a:lnTo>
                    <a:lnTo>
                      <a:pt x="321" y="140"/>
                    </a:lnTo>
                    <a:lnTo>
                      <a:pt x="315" y="149"/>
                    </a:lnTo>
                    <a:lnTo>
                      <a:pt x="304" y="155"/>
                    </a:lnTo>
                    <a:lnTo>
                      <a:pt x="294" y="161"/>
                    </a:lnTo>
                    <a:lnTo>
                      <a:pt x="282" y="161"/>
                    </a:lnTo>
                    <a:lnTo>
                      <a:pt x="271" y="161"/>
                    </a:lnTo>
                    <a:lnTo>
                      <a:pt x="259" y="158"/>
                    </a:lnTo>
                    <a:lnTo>
                      <a:pt x="248" y="156"/>
                    </a:lnTo>
                    <a:lnTo>
                      <a:pt x="237" y="151"/>
                    </a:lnTo>
                    <a:lnTo>
                      <a:pt x="227" y="145"/>
                    </a:lnTo>
                    <a:lnTo>
                      <a:pt x="218" y="138"/>
                    </a:lnTo>
                    <a:lnTo>
                      <a:pt x="212" y="132"/>
                    </a:lnTo>
                    <a:lnTo>
                      <a:pt x="207" y="124"/>
                    </a:lnTo>
                    <a:lnTo>
                      <a:pt x="201" y="128"/>
                    </a:lnTo>
                    <a:lnTo>
                      <a:pt x="201" y="135"/>
                    </a:lnTo>
                    <a:lnTo>
                      <a:pt x="201" y="143"/>
                    </a:lnTo>
                    <a:lnTo>
                      <a:pt x="199" y="150"/>
                    </a:lnTo>
                    <a:lnTo>
                      <a:pt x="193" y="152"/>
                    </a:lnTo>
                    <a:lnTo>
                      <a:pt x="188" y="155"/>
                    </a:lnTo>
                    <a:lnTo>
                      <a:pt x="180" y="157"/>
                    </a:lnTo>
                    <a:lnTo>
                      <a:pt x="177" y="161"/>
                    </a:lnTo>
                    <a:lnTo>
                      <a:pt x="172" y="163"/>
                    </a:lnTo>
                    <a:lnTo>
                      <a:pt x="171" y="167"/>
                    </a:lnTo>
                    <a:lnTo>
                      <a:pt x="172" y="172"/>
                    </a:lnTo>
                    <a:lnTo>
                      <a:pt x="178" y="179"/>
                    </a:lnTo>
                    <a:lnTo>
                      <a:pt x="183" y="187"/>
                    </a:lnTo>
                    <a:lnTo>
                      <a:pt x="191" y="187"/>
                    </a:lnTo>
                    <a:lnTo>
                      <a:pt x="201" y="183"/>
                    </a:lnTo>
                    <a:lnTo>
                      <a:pt x="212" y="182"/>
                    </a:lnTo>
                    <a:lnTo>
                      <a:pt x="220" y="183"/>
                    </a:lnTo>
                    <a:lnTo>
                      <a:pt x="229" y="187"/>
                    </a:lnTo>
                    <a:lnTo>
                      <a:pt x="237" y="189"/>
                    </a:lnTo>
                    <a:lnTo>
                      <a:pt x="247" y="193"/>
                    </a:lnTo>
                    <a:lnTo>
                      <a:pt x="253" y="197"/>
                    </a:lnTo>
                    <a:lnTo>
                      <a:pt x="260" y="201"/>
                    </a:lnTo>
                    <a:lnTo>
                      <a:pt x="265" y="209"/>
                    </a:lnTo>
                    <a:lnTo>
                      <a:pt x="270" y="219"/>
                    </a:lnTo>
                    <a:lnTo>
                      <a:pt x="270" y="231"/>
                    </a:lnTo>
                    <a:lnTo>
                      <a:pt x="269" y="244"/>
                    </a:lnTo>
                    <a:lnTo>
                      <a:pt x="265" y="257"/>
                    </a:lnTo>
                    <a:lnTo>
                      <a:pt x="258" y="269"/>
                    </a:lnTo>
                    <a:lnTo>
                      <a:pt x="250" y="274"/>
                    </a:lnTo>
                    <a:lnTo>
                      <a:pt x="243" y="279"/>
                    </a:lnTo>
                    <a:lnTo>
                      <a:pt x="233" y="281"/>
                    </a:lnTo>
                    <a:lnTo>
                      <a:pt x="226" y="285"/>
                    </a:lnTo>
                    <a:lnTo>
                      <a:pt x="214" y="281"/>
                    </a:lnTo>
                    <a:lnTo>
                      <a:pt x="201" y="279"/>
                    </a:lnTo>
                    <a:lnTo>
                      <a:pt x="190" y="276"/>
                    </a:lnTo>
                    <a:lnTo>
                      <a:pt x="179" y="274"/>
                    </a:lnTo>
                    <a:lnTo>
                      <a:pt x="168" y="270"/>
                    </a:lnTo>
                    <a:lnTo>
                      <a:pt x="160" y="266"/>
                    </a:lnTo>
                    <a:lnTo>
                      <a:pt x="151" y="260"/>
                    </a:lnTo>
                    <a:lnTo>
                      <a:pt x="144" y="255"/>
                    </a:lnTo>
                    <a:lnTo>
                      <a:pt x="136" y="247"/>
                    </a:lnTo>
                    <a:lnTo>
                      <a:pt x="134" y="239"/>
                    </a:lnTo>
                    <a:lnTo>
                      <a:pt x="134" y="232"/>
                    </a:lnTo>
                    <a:lnTo>
                      <a:pt x="131" y="225"/>
                    </a:lnTo>
                    <a:lnTo>
                      <a:pt x="124" y="235"/>
                    </a:lnTo>
                    <a:lnTo>
                      <a:pt x="114" y="242"/>
                    </a:lnTo>
                    <a:lnTo>
                      <a:pt x="103" y="244"/>
                    </a:lnTo>
                    <a:lnTo>
                      <a:pt x="93" y="248"/>
                    </a:lnTo>
                    <a:lnTo>
                      <a:pt x="82" y="250"/>
                    </a:lnTo>
                    <a:lnTo>
                      <a:pt x="75" y="257"/>
                    </a:lnTo>
                    <a:lnTo>
                      <a:pt x="71" y="268"/>
                    </a:lnTo>
                    <a:lnTo>
                      <a:pt x="74" y="285"/>
                    </a:lnTo>
                    <a:lnTo>
                      <a:pt x="76" y="287"/>
                    </a:lnTo>
                    <a:lnTo>
                      <a:pt x="85" y="280"/>
                    </a:lnTo>
                    <a:lnTo>
                      <a:pt x="96" y="275"/>
                    </a:lnTo>
                    <a:lnTo>
                      <a:pt x="101" y="271"/>
                    </a:lnTo>
                    <a:lnTo>
                      <a:pt x="107" y="271"/>
                    </a:lnTo>
                    <a:lnTo>
                      <a:pt x="113" y="270"/>
                    </a:lnTo>
                    <a:lnTo>
                      <a:pt x="120" y="271"/>
                    </a:lnTo>
                    <a:lnTo>
                      <a:pt x="126" y="273"/>
                    </a:lnTo>
                    <a:lnTo>
                      <a:pt x="133" y="275"/>
                    </a:lnTo>
                    <a:lnTo>
                      <a:pt x="139" y="277"/>
                    </a:lnTo>
                    <a:lnTo>
                      <a:pt x="146" y="282"/>
                    </a:lnTo>
                    <a:lnTo>
                      <a:pt x="151" y="286"/>
                    </a:lnTo>
                    <a:lnTo>
                      <a:pt x="156" y="291"/>
                    </a:lnTo>
                    <a:lnTo>
                      <a:pt x="160" y="297"/>
                    </a:lnTo>
                    <a:lnTo>
                      <a:pt x="163" y="306"/>
                    </a:lnTo>
                    <a:lnTo>
                      <a:pt x="162" y="311"/>
                    </a:lnTo>
                    <a:lnTo>
                      <a:pt x="161" y="317"/>
                    </a:lnTo>
                    <a:lnTo>
                      <a:pt x="160" y="324"/>
                    </a:lnTo>
                    <a:lnTo>
                      <a:pt x="158" y="331"/>
                    </a:lnTo>
                    <a:lnTo>
                      <a:pt x="155" y="338"/>
                    </a:lnTo>
                    <a:lnTo>
                      <a:pt x="151" y="344"/>
                    </a:lnTo>
                    <a:lnTo>
                      <a:pt x="145" y="349"/>
                    </a:lnTo>
                    <a:lnTo>
                      <a:pt x="139" y="352"/>
                    </a:lnTo>
                    <a:lnTo>
                      <a:pt x="124" y="352"/>
                    </a:lnTo>
                    <a:lnTo>
                      <a:pt x="111" y="354"/>
                    </a:lnTo>
                    <a:lnTo>
                      <a:pt x="97" y="350"/>
                    </a:lnTo>
                    <a:lnTo>
                      <a:pt x="85" y="347"/>
                    </a:lnTo>
                    <a:lnTo>
                      <a:pt x="71" y="341"/>
                    </a:lnTo>
                    <a:lnTo>
                      <a:pt x="60" y="335"/>
                    </a:lnTo>
                    <a:lnTo>
                      <a:pt x="48" y="328"/>
                    </a:lnTo>
                    <a:lnTo>
                      <a:pt x="39" y="322"/>
                    </a:lnTo>
                    <a:lnTo>
                      <a:pt x="33" y="311"/>
                    </a:lnTo>
                    <a:lnTo>
                      <a:pt x="31" y="300"/>
                    </a:lnTo>
                    <a:lnTo>
                      <a:pt x="27" y="293"/>
                    </a:lnTo>
                    <a:lnTo>
                      <a:pt x="25" y="290"/>
                    </a:lnTo>
                    <a:lnTo>
                      <a:pt x="20" y="286"/>
                    </a:lnTo>
                    <a:lnTo>
                      <a:pt x="15" y="285"/>
                    </a:lnTo>
                    <a:lnTo>
                      <a:pt x="11" y="277"/>
                    </a:lnTo>
                    <a:lnTo>
                      <a:pt x="8" y="270"/>
                    </a:lnTo>
                    <a:lnTo>
                      <a:pt x="4" y="263"/>
                    </a:lnTo>
                    <a:lnTo>
                      <a:pt x="3" y="255"/>
                    </a:lnTo>
                    <a:lnTo>
                      <a:pt x="0" y="247"/>
                    </a:lnTo>
                    <a:lnTo>
                      <a:pt x="1" y="239"/>
                    </a:lnTo>
                    <a:lnTo>
                      <a:pt x="3" y="232"/>
                    </a:lnTo>
                    <a:lnTo>
                      <a:pt x="8" y="225"/>
                    </a:lnTo>
                    <a:lnTo>
                      <a:pt x="16" y="215"/>
                    </a:lnTo>
                    <a:lnTo>
                      <a:pt x="22" y="204"/>
                    </a:lnTo>
                    <a:lnTo>
                      <a:pt x="27" y="190"/>
                    </a:lnTo>
                    <a:lnTo>
                      <a:pt x="37" y="182"/>
                    </a:lnTo>
                    <a:lnTo>
                      <a:pt x="47" y="177"/>
                    </a:lnTo>
                    <a:lnTo>
                      <a:pt x="58" y="179"/>
                    </a:lnTo>
                    <a:lnTo>
                      <a:pt x="60" y="168"/>
                    </a:lnTo>
                    <a:lnTo>
                      <a:pt x="64" y="158"/>
                    </a:lnTo>
                    <a:lnTo>
                      <a:pt x="68" y="149"/>
                    </a:lnTo>
                    <a:lnTo>
                      <a:pt x="75" y="141"/>
                    </a:lnTo>
                    <a:lnTo>
                      <a:pt x="80" y="133"/>
                    </a:lnTo>
                    <a:lnTo>
                      <a:pt x="87" y="125"/>
                    </a:lnTo>
                    <a:lnTo>
                      <a:pt x="95" y="119"/>
                    </a:lnTo>
                    <a:lnTo>
                      <a:pt x="104" y="114"/>
                    </a:lnTo>
                    <a:lnTo>
                      <a:pt x="112" y="114"/>
                    </a:lnTo>
                    <a:lnTo>
                      <a:pt x="120" y="118"/>
                    </a:lnTo>
                    <a:lnTo>
                      <a:pt x="128" y="120"/>
                    </a:lnTo>
                    <a:lnTo>
                      <a:pt x="136" y="119"/>
                    </a:lnTo>
                    <a:lnTo>
                      <a:pt x="134" y="112"/>
                    </a:lnTo>
                    <a:lnTo>
                      <a:pt x="134" y="105"/>
                    </a:lnTo>
                    <a:lnTo>
                      <a:pt x="134" y="98"/>
                    </a:lnTo>
                    <a:lnTo>
                      <a:pt x="138" y="92"/>
                    </a:lnTo>
                    <a:lnTo>
                      <a:pt x="142" y="79"/>
                    </a:lnTo>
                    <a:lnTo>
                      <a:pt x="147" y="67"/>
                    </a:lnTo>
                    <a:lnTo>
                      <a:pt x="158" y="59"/>
                    </a:lnTo>
                    <a:lnTo>
                      <a:pt x="171" y="55"/>
                    </a:lnTo>
                    <a:lnTo>
                      <a:pt x="182" y="54"/>
                    </a:lnTo>
                    <a:lnTo>
                      <a:pt x="194" y="58"/>
                    </a:lnTo>
                    <a:lnTo>
                      <a:pt x="201" y="51"/>
                    </a:lnTo>
                    <a:lnTo>
                      <a:pt x="206" y="42"/>
                    </a:lnTo>
                    <a:lnTo>
                      <a:pt x="210" y="32"/>
                    </a:lnTo>
                    <a:lnTo>
                      <a:pt x="214" y="22"/>
                    </a:lnTo>
                    <a:lnTo>
                      <a:pt x="216" y="11"/>
                    </a:lnTo>
                    <a:lnTo>
                      <a:pt x="222" y="5"/>
                    </a:lnTo>
                    <a:lnTo>
                      <a:pt x="232" y="0"/>
                    </a:lnTo>
                    <a:lnTo>
                      <a:pt x="247" y="0"/>
                    </a:lnTo>
                    <a:lnTo>
                      <a:pt x="256" y="6"/>
                    </a:lnTo>
                    <a:lnTo>
                      <a:pt x="263" y="17"/>
                    </a:lnTo>
                    <a:lnTo>
                      <a:pt x="265" y="30"/>
                    </a:lnTo>
                    <a:lnTo>
                      <a:pt x="267" y="43"/>
                    </a:lnTo>
                    <a:close/>
                  </a:path>
                </a:pathLst>
              </a:custGeom>
              <a:solidFill>
                <a:srgbClr val="bfb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5" name="Freeform 252"/>
              <p:cNvSpPr/>
              <p:nvPr/>
            </p:nvSpPr>
            <p:spPr>
              <a:xfrm flipH="1">
                <a:off x="7053480" y="3211560"/>
                <a:ext cx="8640" cy="4320"/>
              </a:xfrm>
              <a:custGeom>
                <a:avLst/>
                <a:gdLst>
                  <a:gd name="textAreaLeft" fmla="*/ 360 w 8640"/>
                  <a:gd name="textAreaRight" fmla="*/ 9360 w 8640"/>
                  <a:gd name="textAreaTop" fmla="*/ 0 h 4320"/>
                  <a:gd name="textAreaBottom" fmla="*/ 4680 h 4320"/>
                </a:gdLst>
                <a:ahLst/>
                <a:rect l="textAreaLeft" t="textAreaTop" r="textAreaRight" b="textAreaBottom"/>
                <a:pathLst>
                  <a:path w="32" h="15">
                    <a:moveTo>
                      <a:pt x="32" y="10"/>
                    </a:moveTo>
                    <a:lnTo>
                      <a:pt x="24" y="15"/>
                    </a:lnTo>
                    <a:lnTo>
                      <a:pt x="17" y="12"/>
                    </a:lnTo>
                    <a:lnTo>
                      <a:pt x="8" y="7"/>
                    </a:lnTo>
                    <a:lnTo>
                      <a:pt x="2" y="5"/>
                    </a:lnTo>
                    <a:lnTo>
                      <a:pt x="0" y="0"/>
                    </a:lnTo>
                    <a:lnTo>
                      <a:pt x="7" y="2"/>
                    </a:lnTo>
                    <a:lnTo>
                      <a:pt x="14" y="5"/>
                    </a:lnTo>
                    <a:lnTo>
                      <a:pt x="23" y="7"/>
                    </a:lnTo>
                    <a:lnTo>
                      <a:pt x="32" y="1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66" name="Freeform 253"/>
              <p:cNvSpPr/>
              <p:nvPr/>
            </p:nvSpPr>
            <p:spPr>
              <a:xfrm flipH="1">
                <a:off x="7322400" y="3165120"/>
                <a:ext cx="3240" cy="4320"/>
              </a:xfrm>
              <a:custGeom>
                <a:avLst/>
                <a:gdLst>
                  <a:gd name="textAreaLeft" fmla="*/ -360 w 3240"/>
                  <a:gd name="textAreaRight" fmla="*/ 3240 w 3240"/>
                  <a:gd name="textAreaTop" fmla="*/ 0 h 4320"/>
                  <a:gd name="textAreaBottom" fmla="*/ 4680 h 4320"/>
                </a:gdLst>
                <a:ahLst/>
                <a:rect l="textAreaLeft" t="textAreaTop" r="textAreaRight" b="textAreaBottom"/>
                <a:pathLst>
                  <a:path w="12" h="14">
                    <a:moveTo>
                      <a:pt x="12" y="6"/>
                    </a:moveTo>
                    <a:lnTo>
                      <a:pt x="8" y="7"/>
                    </a:lnTo>
                    <a:lnTo>
                      <a:pt x="6" y="11"/>
                    </a:lnTo>
                    <a:lnTo>
                      <a:pt x="5" y="13"/>
                    </a:lnTo>
                    <a:lnTo>
                      <a:pt x="0" y="14"/>
                    </a:lnTo>
                    <a:lnTo>
                      <a:pt x="0" y="1"/>
                    </a:lnTo>
                    <a:lnTo>
                      <a:pt x="6" y="0"/>
                    </a:lnTo>
                    <a:lnTo>
                      <a:pt x="12" y="6"/>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67" name="Freeform 254"/>
              <p:cNvSpPr/>
              <p:nvPr/>
            </p:nvSpPr>
            <p:spPr>
              <a:xfrm flipH="1">
                <a:off x="7082280" y="3251160"/>
                <a:ext cx="33480" cy="31680"/>
              </a:xfrm>
              <a:custGeom>
                <a:avLst/>
                <a:gdLst>
                  <a:gd name="textAreaLeft" fmla="*/ -360 w 33480"/>
                  <a:gd name="textAreaRight" fmla="*/ 33480 w 33480"/>
                  <a:gd name="textAreaTop" fmla="*/ 0 h 31680"/>
                  <a:gd name="textAreaBottom" fmla="*/ 32040 h 31680"/>
                </a:gdLst>
                <a:ahLst/>
                <a:rect l="textAreaLeft" t="textAreaTop" r="textAreaRight" b="textAreaBottom"/>
                <a:pathLst>
                  <a:path w="119" h="112">
                    <a:moveTo>
                      <a:pt x="118" y="27"/>
                    </a:moveTo>
                    <a:lnTo>
                      <a:pt x="119" y="35"/>
                    </a:lnTo>
                    <a:lnTo>
                      <a:pt x="119" y="44"/>
                    </a:lnTo>
                    <a:lnTo>
                      <a:pt x="115" y="51"/>
                    </a:lnTo>
                    <a:lnTo>
                      <a:pt x="113" y="60"/>
                    </a:lnTo>
                    <a:lnTo>
                      <a:pt x="108" y="67"/>
                    </a:lnTo>
                    <a:lnTo>
                      <a:pt x="107" y="74"/>
                    </a:lnTo>
                    <a:lnTo>
                      <a:pt x="107" y="82"/>
                    </a:lnTo>
                    <a:lnTo>
                      <a:pt x="113" y="92"/>
                    </a:lnTo>
                    <a:lnTo>
                      <a:pt x="109" y="98"/>
                    </a:lnTo>
                    <a:lnTo>
                      <a:pt x="105" y="104"/>
                    </a:lnTo>
                    <a:lnTo>
                      <a:pt x="98" y="109"/>
                    </a:lnTo>
                    <a:lnTo>
                      <a:pt x="91" y="112"/>
                    </a:lnTo>
                    <a:lnTo>
                      <a:pt x="81" y="109"/>
                    </a:lnTo>
                    <a:lnTo>
                      <a:pt x="75" y="105"/>
                    </a:lnTo>
                    <a:lnTo>
                      <a:pt x="69" y="99"/>
                    </a:lnTo>
                    <a:lnTo>
                      <a:pt x="65" y="94"/>
                    </a:lnTo>
                    <a:lnTo>
                      <a:pt x="58" y="92"/>
                    </a:lnTo>
                    <a:lnTo>
                      <a:pt x="50" y="92"/>
                    </a:lnTo>
                    <a:lnTo>
                      <a:pt x="43" y="92"/>
                    </a:lnTo>
                    <a:lnTo>
                      <a:pt x="36" y="92"/>
                    </a:lnTo>
                    <a:lnTo>
                      <a:pt x="28" y="90"/>
                    </a:lnTo>
                    <a:lnTo>
                      <a:pt x="21" y="89"/>
                    </a:lnTo>
                    <a:lnTo>
                      <a:pt x="14" y="87"/>
                    </a:lnTo>
                    <a:lnTo>
                      <a:pt x="7" y="84"/>
                    </a:lnTo>
                    <a:lnTo>
                      <a:pt x="0" y="76"/>
                    </a:lnTo>
                    <a:lnTo>
                      <a:pt x="0" y="67"/>
                    </a:lnTo>
                    <a:lnTo>
                      <a:pt x="1" y="57"/>
                    </a:lnTo>
                    <a:lnTo>
                      <a:pt x="1" y="50"/>
                    </a:lnTo>
                    <a:lnTo>
                      <a:pt x="7" y="40"/>
                    </a:lnTo>
                    <a:lnTo>
                      <a:pt x="18" y="34"/>
                    </a:lnTo>
                    <a:lnTo>
                      <a:pt x="22" y="30"/>
                    </a:lnTo>
                    <a:lnTo>
                      <a:pt x="27" y="27"/>
                    </a:lnTo>
                    <a:lnTo>
                      <a:pt x="29" y="22"/>
                    </a:lnTo>
                    <a:lnTo>
                      <a:pt x="33" y="16"/>
                    </a:lnTo>
                    <a:lnTo>
                      <a:pt x="41" y="7"/>
                    </a:lnTo>
                    <a:lnTo>
                      <a:pt x="50" y="3"/>
                    </a:lnTo>
                    <a:lnTo>
                      <a:pt x="61" y="1"/>
                    </a:lnTo>
                    <a:lnTo>
                      <a:pt x="72" y="0"/>
                    </a:lnTo>
                    <a:lnTo>
                      <a:pt x="79" y="1"/>
                    </a:lnTo>
                    <a:lnTo>
                      <a:pt x="85" y="3"/>
                    </a:lnTo>
                    <a:lnTo>
                      <a:pt x="91" y="4"/>
                    </a:lnTo>
                    <a:lnTo>
                      <a:pt x="98" y="8"/>
                    </a:lnTo>
                    <a:lnTo>
                      <a:pt x="109" y="16"/>
                    </a:lnTo>
                    <a:lnTo>
                      <a:pt x="118" y="27"/>
                    </a:lnTo>
                    <a:close/>
                  </a:path>
                </a:pathLst>
              </a:custGeom>
              <a:solidFill>
                <a:srgbClr val="ffff0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Humanst521 BT"/>
                </a:endParaRPr>
              </a:p>
            </p:txBody>
          </p:sp>
          <p:sp>
            <p:nvSpPr>
              <p:cNvPr id="168" name="Freeform 255"/>
              <p:cNvSpPr/>
              <p:nvPr/>
            </p:nvSpPr>
            <p:spPr>
              <a:xfrm flipH="1">
                <a:off x="7102800" y="3286440"/>
                <a:ext cx="32400" cy="24840"/>
              </a:xfrm>
              <a:custGeom>
                <a:avLst/>
                <a:gdLst>
                  <a:gd name="textAreaLeft" fmla="*/ 360 w 32400"/>
                  <a:gd name="textAreaRight" fmla="*/ 33120 w 32400"/>
                  <a:gd name="textAreaTop" fmla="*/ 0 h 24840"/>
                  <a:gd name="textAreaBottom" fmla="*/ 25200 h 24840"/>
                </a:gdLst>
                <a:ahLst/>
                <a:rect l="textAreaLeft" t="textAreaTop" r="textAreaRight" b="textAreaBottom"/>
                <a:pathLst>
                  <a:path w="117" h="88">
                    <a:moveTo>
                      <a:pt x="117" y="30"/>
                    </a:moveTo>
                    <a:lnTo>
                      <a:pt x="113" y="43"/>
                    </a:lnTo>
                    <a:lnTo>
                      <a:pt x="108" y="55"/>
                    </a:lnTo>
                    <a:lnTo>
                      <a:pt x="101" y="65"/>
                    </a:lnTo>
                    <a:lnTo>
                      <a:pt x="90" y="75"/>
                    </a:lnTo>
                    <a:lnTo>
                      <a:pt x="80" y="78"/>
                    </a:lnTo>
                    <a:lnTo>
                      <a:pt x="71" y="82"/>
                    </a:lnTo>
                    <a:lnTo>
                      <a:pt x="61" y="84"/>
                    </a:lnTo>
                    <a:lnTo>
                      <a:pt x="53" y="88"/>
                    </a:lnTo>
                    <a:lnTo>
                      <a:pt x="42" y="87"/>
                    </a:lnTo>
                    <a:lnTo>
                      <a:pt x="32" y="87"/>
                    </a:lnTo>
                    <a:lnTo>
                      <a:pt x="22" y="83"/>
                    </a:lnTo>
                    <a:lnTo>
                      <a:pt x="14" y="79"/>
                    </a:lnTo>
                    <a:lnTo>
                      <a:pt x="4" y="70"/>
                    </a:lnTo>
                    <a:lnTo>
                      <a:pt x="0" y="59"/>
                    </a:lnTo>
                    <a:lnTo>
                      <a:pt x="0" y="45"/>
                    </a:lnTo>
                    <a:lnTo>
                      <a:pt x="6" y="35"/>
                    </a:lnTo>
                    <a:lnTo>
                      <a:pt x="12" y="28"/>
                    </a:lnTo>
                    <a:lnTo>
                      <a:pt x="20" y="22"/>
                    </a:lnTo>
                    <a:lnTo>
                      <a:pt x="27" y="14"/>
                    </a:lnTo>
                    <a:lnTo>
                      <a:pt x="35" y="9"/>
                    </a:lnTo>
                    <a:lnTo>
                      <a:pt x="42" y="3"/>
                    </a:lnTo>
                    <a:lnTo>
                      <a:pt x="52" y="1"/>
                    </a:lnTo>
                    <a:lnTo>
                      <a:pt x="61" y="0"/>
                    </a:lnTo>
                    <a:lnTo>
                      <a:pt x="73" y="1"/>
                    </a:lnTo>
                    <a:lnTo>
                      <a:pt x="79" y="1"/>
                    </a:lnTo>
                    <a:lnTo>
                      <a:pt x="85" y="3"/>
                    </a:lnTo>
                    <a:lnTo>
                      <a:pt x="91" y="6"/>
                    </a:lnTo>
                    <a:lnTo>
                      <a:pt x="98" y="9"/>
                    </a:lnTo>
                    <a:lnTo>
                      <a:pt x="103" y="13"/>
                    </a:lnTo>
                    <a:lnTo>
                      <a:pt x="108" y="18"/>
                    </a:lnTo>
                    <a:lnTo>
                      <a:pt x="112" y="23"/>
                    </a:lnTo>
                    <a:lnTo>
                      <a:pt x="117" y="30"/>
                    </a:lnTo>
                    <a:close/>
                  </a:path>
                </a:pathLst>
              </a:custGeom>
              <a:solidFill>
                <a:srgbClr val="ffff0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Humanst521 BT"/>
                </a:endParaRPr>
              </a:p>
            </p:txBody>
          </p:sp>
          <p:sp>
            <p:nvSpPr>
              <p:cNvPr id="169" name="Freeform 256"/>
              <p:cNvSpPr/>
              <p:nvPr/>
            </p:nvSpPr>
            <p:spPr>
              <a:xfrm flipH="1">
                <a:off x="7064280" y="3303360"/>
                <a:ext cx="5400" cy="720"/>
              </a:xfrm>
              <a:custGeom>
                <a:avLst/>
                <a:gdLst>
                  <a:gd name="textAreaLeft" fmla="*/ -360 w 5400"/>
                  <a:gd name="textAreaRight" fmla="*/ 5400 w 5400"/>
                  <a:gd name="textAreaTop" fmla="*/ 0 h 720"/>
                  <a:gd name="textAreaBottom" fmla="*/ 1080 h 720"/>
                </a:gdLst>
                <a:ahLst/>
                <a:rect l="textAreaLeft" t="textAreaTop" r="textAreaRight" b="textAreaBottom"/>
                <a:pathLst>
                  <a:path w="19" h="6">
                    <a:moveTo>
                      <a:pt x="19" y="2"/>
                    </a:moveTo>
                    <a:lnTo>
                      <a:pt x="13" y="0"/>
                    </a:lnTo>
                    <a:lnTo>
                      <a:pt x="9" y="3"/>
                    </a:lnTo>
                    <a:lnTo>
                      <a:pt x="4" y="5"/>
                    </a:lnTo>
                    <a:lnTo>
                      <a:pt x="0" y="6"/>
                    </a:lnTo>
                    <a:lnTo>
                      <a:pt x="2" y="2"/>
                    </a:lnTo>
                    <a:lnTo>
                      <a:pt x="6" y="0"/>
                    </a:lnTo>
                    <a:lnTo>
                      <a:pt x="13" y="0"/>
                    </a:lnTo>
                    <a:lnTo>
                      <a:pt x="19" y="2"/>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Humanst521 BT"/>
                </a:endParaRPr>
              </a:p>
            </p:txBody>
          </p:sp>
          <p:sp>
            <p:nvSpPr>
              <p:cNvPr id="170" name="Freeform 257"/>
              <p:cNvSpPr/>
              <p:nvPr/>
            </p:nvSpPr>
            <p:spPr>
              <a:xfrm flipH="1">
                <a:off x="7333920" y="3246840"/>
                <a:ext cx="31320" cy="36000"/>
              </a:xfrm>
              <a:custGeom>
                <a:avLst/>
                <a:gdLst>
                  <a:gd name="textAreaLeft" fmla="*/ -360 w 31320"/>
                  <a:gd name="textAreaRight" fmla="*/ 31320 w 31320"/>
                  <a:gd name="textAreaTop" fmla="*/ 0 h 36000"/>
                  <a:gd name="textAreaBottom" fmla="*/ 36360 h 36000"/>
                </a:gdLst>
                <a:ahLst/>
                <a:rect l="textAreaLeft" t="textAreaTop" r="textAreaRight" b="textAreaBottom"/>
                <a:pathLst>
                  <a:path w="110" h="128">
                    <a:moveTo>
                      <a:pt x="45" y="39"/>
                    </a:moveTo>
                    <a:lnTo>
                      <a:pt x="45" y="43"/>
                    </a:lnTo>
                    <a:lnTo>
                      <a:pt x="44" y="50"/>
                    </a:lnTo>
                    <a:lnTo>
                      <a:pt x="43" y="55"/>
                    </a:lnTo>
                    <a:lnTo>
                      <a:pt x="45" y="61"/>
                    </a:lnTo>
                    <a:lnTo>
                      <a:pt x="51" y="60"/>
                    </a:lnTo>
                    <a:lnTo>
                      <a:pt x="60" y="60"/>
                    </a:lnTo>
                    <a:lnTo>
                      <a:pt x="67" y="60"/>
                    </a:lnTo>
                    <a:lnTo>
                      <a:pt x="76" y="61"/>
                    </a:lnTo>
                    <a:lnTo>
                      <a:pt x="83" y="62"/>
                    </a:lnTo>
                    <a:lnTo>
                      <a:pt x="91" y="66"/>
                    </a:lnTo>
                    <a:lnTo>
                      <a:pt x="97" y="70"/>
                    </a:lnTo>
                    <a:lnTo>
                      <a:pt x="103" y="77"/>
                    </a:lnTo>
                    <a:lnTo>
                      <a:pt x="108" y="85"/>
                    </a:lnTo>
                    <a:lnTo>
                      <a:pt x="110" y="97"/>
                    </a:lnTo>
                    <a:lnTo>
                      <a:pt x="108" y="106"/>
                    </a:lnTo>
                    <a:lnTo>
                      <a:pt x="103" y="116"/>
                    </a:lnTo>
                    <a:lnTo>
                      <a:pt x="97" y="120"/>
                    </a:lnTo>
                    <a:lnTo>
                      <a:pt x="92" y="124"/>
                    </a:lnTo>
                    <a:lnTo>
                      <a:pt x="86" y="126"/>
                    </a:lnTo>
                    <a:lnTo>
                      <a:pt x="80" y="128"/>
                    </a:lnTo>
                    <a:lnTo>
                      <a:pt x="72" y="128"/>
                    </a:lnTo>
                    <a:lnTo>
                      <a:pt x="66" y="128"/>
                    </a:lnTo>
                    <a:lnTo>
                      <a:pt x="59" y="127"/>
                    </a:lnTo>
                    <a:lnTo>
                      <a:pt x="53" y="126"/>
                    </a:lnTo>
                    <a:lnTo>
                      <a:pt x="48" y="117"/>
                    </a:lnTo>
                    <a:lnTo>
                      <a:pt x="43" y="112"/>
                    </a:lnTo>
                    <a:lnTo>
                      <a:pt x="35" y="108"/>
                    </a:lnTo>
                    <a:lnTo>
                      <a:pt x="31" y="104"/>
                    </a:lnTo>
                    <a:lnTo>
                      <a:pt x="23" y="98"/>
                    </a:lnTo>
                    <a:lnTo>
                      <a:pt x="21" y="93"/>
                    </a:lnTo>
                    <a:lnTo>
                      <a:pt x="20" y="87"/>
                    </a:lnTo>
                    <a:lnTo>
                      <a:pt x="23" y="79"/>
                    </a:lnTo>
                    <a:lnTo>
                      <a:pt x="16" y="74"/>
                    </a:lnTo>
                    <a:lnTo>
                      <a:pt x="10" y="72"/>
                    </a:lnTo>
                    <a:lnTo>
                      <a:pt x="4" y="67"/>
                    </a:lnTo>
                    <a:lnTo>
                      <a:pt x="2" y="61"/>
                    </a:lnTo>
                    <a:lnTo>
                      <a:pt x="1" y="51"/>
                    </a:lnTo>
                    <a:lnTo>
                      <a:pt x="1" y="44"/>
                    </a:lnTo>
                    <a:lnTo>
                      <a:pt x="0" y="34"/>
                    </a:lnTo>
                    <a:lnTo>
                      <a:pt x="0" y="27"/>
                    </a:lnTo>
                    <a:lnTo>
                      <a:pt x="0" y="18"/>
                    </a:lnTo>
                    <a:lnTo>
                      <a:pt x="2" y="11"/>
                    </a:lnTo>
                    <a:lnTo>
                      <a:pt x="6" y="3"/>
                    </a:lnTo>
                    <a:lnTo>
                      <a:pt x="13" y="0"/>
                    </a:lnTo>
                    <a:lnTo>
                      <a:pt x="21" y="0"/>
                    </a:lnTo>
                    <a:lnTo>
                      <a:pt x="28" y="2"/>
                    </a:lnTo>
                    <a:lnTo>
                      <a:pt x="32" y="6"/>
                    </a:lnTo>
                    <a:lnTo>
                      <a:pt x="37" y="12"/>
                    </a:lnTo>
                    <a:lnTo>
                      <a:pt x="39" y="17"/>
                    </a:lnTo>
                    <a:lnTo>
                      <a:pt x="42" y="24"/>
                    </a:lnTo>
                    <a:lnTo>
                      <a:pt x="43" y="32"/>
                    </a:lnTo>
                    <a:lnTo>
                      <a:pt x="45" y="39"/>
                    </a:lnTo>
                    <a:close/>
                  </a:path>
                </a:pathLst>
              </a:custGeom>
              <a:solidFill>
                <a:srgbClr val="bfbf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Humanst521 BT"/>
                </a:endParaRPr>
              </a:p>
            </p:txBody>
          </p:sp>
          <p:sp>
            <p:nvSpPr>
              <p:cNvPr id="171" name="Freeform 258"/>
              <p:cNvSpPr/>
              <p:nvPr/>
            </p:nvSpPr>
            <p:spPr>
              <a:xfrm flipH="1">
                <a:off x="7063200" y="3321360"/>
                <a:ext cx="3240" cy="4320"/>
              </a:xfrm>
              <a:custGeom>
                <a:avLst/>
                <a:gdLst>
                  <a:gd name="textAreaLeft" fmla="*/ -360 w 3240"/>
                  <a:gd name="textAreaRight" fmla="*/ 3240 w 3240"/>
                  <a:gd name="textAreaTop" fmla="*/ 0 h 4320"/>
                  <a:gd name="textAreaBottom" fmla="*/ 4680 h 4320"/>
                </a:gdLst>
                <a:ahLst/>
                <a:rect l="textAreaLeft" t="textAreaTop" r="textAreaRight" b="textAreaBottom"/>
                <a:pathLst>
                  <a:path w="11" h="12">
                    <a:moveTo>
                      <a:pt x="0" y="12"/>
                    </a:moveTo>
                    <a:lnTo>
                      <a:pt x="7" y="0"/>
                    </a:lnTo>
                    <a:lnTo>
                      <a:pt x="11" y="0"/>
                    </a:lnTo>
                    <a:lnTo>
                      <a:pt x="0" y="12"/>
                    </a:lnTo>
                    <a:close/>
                  </a:path>
                </a:pathLst>
              </a:custGeom>
              <a:solidFill>
                <a:srgbClr val="ff8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72" name="Freeform 259"/>
              <p:cNvSpPr/>
              <p:nvPr/>
            </p:nvSpPr>
            <p:spPr>
              <a:xfrm flipH="1">
                <a:off x="7352640" y="3267000"/>
                <a:ext cx="49320" cy="60840"/>
              </a:xfrm>
              <a:custGeom>
                <a:avLst/>
                <a:gdLst>
                  <a:gd name="textAreaLeft" fmla="*/ -360 w 49320"/>
                  <a:gd name="textAreaRight" fmla="*/ 49320 w 49320"/>
                  <a:gd name="textAreaTop" fmla="*/ 0 h 60840"/>
                  <a:gd name="textAreaBottom" fmla="*/ 61200 h 60840"/>
                </a:gdLst>
                <a:ahLst/>
                <a:rect l="textAreaLeft" t="textAreaTop" r="textAreaRight" b="textAreaBottom"/>
                <a:pathLst>
                  <a:path w="172" h="214">
                    <a:moveTo>
                      <a:pt x="132" y="30"/>
                    </a:moveTo>
                    <a:lnTo>
                      <a:pt x="128" y="42"/>
                    </a:lnTo>
                    <a:lnTo>
                      <a:pt x="132" y="52"/>
                    </a:lnTo>
                    <a:lnTo>
                      <a:pt x="140" y="59"/>
                    </a:lnTo>
                    <a:lnTo>
                      <a:pt x="152" y="65"/>
                    </a:lnTo>
                    <a:lnTo>
                      <a:pt x="161" y="71"/>
                    </a:lnTo>
                    <a:lnTo>
                      <a:pt x="170" y="80"/>
                    </a:lnTo>
                    <a:lnTo>
                      <a:pt x="172" y="92"/>
                    </a:lnTo>
                    <a:lnTo>
                      <a:pt x="169" y="108"/>
                    </a:lnTo>
                    <a:lnTo>
                      <a:pt x="160" y="114"/>
                    </a:lnTo>
                    <a:lnTo>
                      <a:pt x="153" y="123"/>
                    </a:lnTo>
                    <a:lnTo>
                      <a:pt x="143" y="129"/>
                    </a:lnTo>
                    <a:lnTo>
                      <a:pt x="134" y="135"/>
                    </a:lnTo>
                    <a:lnTo>
                      <a:pt x="123" y="133"/>
                    </a:lnTo>
                    <a:lnTo>
                      <a:pt x="114" y="133"/>
                    </a:lnTo>
                    <a:lnTo>
                      <a:pt x="104" y="131"/>
                    </a:lnTo>
                    <a:lnTo>
                      <a:pt x="94" y="130"/>
                    </a:lnTo>
                    <a:lnTo>
                      <a:pt x="83" y="127"/>
                    </a:lnTo>
                    <a:lnTo>
                      <a:pt x="76" y="124"/>
                    </a:lnTo>
                    <a:lnTo>
                      <a:pt x="68" y="118"/>
                    </a:lnTo>
                    <a:lnTo>
                      <a:pt x="64" y="111"/>
                    </a:lnTo>
                    <a:lnTo>
                      <a:pt x="61" y="114"/>
                    </a:lnTo>
                    <a:lnTo>
                      <a:pt x="61" y="122"/>
                    </a:lnTo>
                    <a:lnTo>
                      <a:pt x="61" y="129"/>
                    </a:lnTo>
                    <a:lnTo>
                      <a:pt x="61" y="138"/>
                    </a:lnTo>
                    <a:lnTo>
                      <a:pt x="64" y="143"/>
                    </a:lnTo>
                    <a:lnTo>
                      <a:pt x="72" y="149"/>
                    </a:lnTo>
                    <a:lnTo>
                      <a:pt x="79" y="152"/>
                    </a:lnTo>
                    <a:lnTo>
                      <a:pt x="89" y="157"/>
                    </a:lnTo>
                    <a:lnTo>
                      <a:pt x="96" y="161"/>
                    </a:lnTo>
                    <a:lnTo>
                      <a:pt x="104" y="166"/>
                    </a:lnTo>
                    <a:lnTo>
                      <a:pt x="109" y="173"/>
                    </a:lnTo>
                    <a:lnTo>
                      <a:pt x="111" y="184"/>
                    </a:lnTo>
                    <a:lnTo>
                      <a:pt x="107" y="193"/>
                    </a:lnTo>
                    <a:lnTo>
                      <a:pt x="101" y="201"/>
                    </a:lnTo>
                    <a:lnTo>
                      <a:pt x="93" y="208"/>
                    </a:lnTo>
                    <a:lnTo>
                      <a:pt x="83" y="214"/>
                    </a:lnTo>
                    <a:lnTo>
                      <a:pt x="68" y="212"/>
                    </a:lnTo>
                    <a:lnTo>
                      <a:pt x="57" y="209"/>
                    </a:lnTo>
                    <a:lnTo>
                      <a:pt x="49" y="201"/>
                    </a:lnTo>
                    <a:lnTo>
                      <a:pt x="42" y="194"/>
                    </a:lnTo>
                    <a:lnTo>
                      <a:pt x="35" y="184"/>
                    </a:lnTo>
                    <a:lnTo>
                      <a:pt x="28" y="177"/>
                    </a:lnTo>
                    <a:lnTo>
                      <a:pt x="18" y="169"/>
                    </a:lnTo>
                    <a:lnTo>
                      <a:pt x="9" y="166"/>
                    </a:lnTo>
                    <a:lnTo>
                      <a:pt x="3" y="157"/>
                    </a:lnTo>
                    <a:lnTo>
                      <a:pt x="1" y="149"/>
                    </a:lnTo>
                    <a:lnTo>
                      <a:pt x="0" y="139"/>
                    </a:lnTo>
                    <a:lnTo>
                      <a:pt x="1" y="131"/>
                    </a:lnTo>
                    <a:lnTo>
                      <a:pt x="4" y="123"/>
                    </a:lnTo>
                    <a:lnTo>
                      <a:pt x="8" y="116"/>
                    </a:lnTo>
                    <a:lnTo>
                      <a:pt x="11" y="106"/>
                    </a:lnTo>
                    <a:lnTo>
                      <a:pt x="13" y="97"/>
                    </a:lnTo>
                    <a:lnTo>
                      <a:pt x="15" y="89"/>
                    </a:lnTo>
                    <a:lnTo>
                      <a:pt x="20" y="82"/>
                    </a:lnTo>
                    <a:lnTo>
                      <a:pt x="25" y="77"/>
                    </a:lnTo>
                    <a:lnTo>
                      <a:pt x="35" y="77"/>
                    </a:lnTo>
                    <a:lnTo>
                      <a:pt x="40" y="77"/>
                    </a:lnTo>
                    <a:lnTo>
                      <a:pt x="46" y="81"/>
                    </a:lnTo>
                    <a:lnTo>
                      <a:pt x="50" y="87"/>
                    </a:lnTo>
                    <a:lnTo>
                      <a:pt x="55" y="93"/>
                    </a:lnTo>
                    <a:lnTo>
                      <a:pt x="57" y="97"/>
                    </a:lnTo>
                    <a:lnTo>
                      <a:pt x="61" y="100"/>
                    </a:lnTo>
                    <a:lnTo>
                      <a:pt x="64" y="98"/>
                    </a:lnTo>
                    <a:lnTo>
                      <a:pt x="69" y="92"/>
                    </a:lnTo>
                    <a:lnTo>
                      <a:pt x="61" y="84"/>
                    </a:lnTo>
                    <a:lnTo>
                      <a:pt x="57" y="75"/>
                    </a:lnTo>
                    <a:lnTo>
                      <a:pt x="53" y="65"/>
                    </a:lnTo>
                    <a:lnTo>
                      <a:pt x="53" y="55"/>
                    </a:lnTo>
                    <a:lnTo>
                      <a:pt x="53" y="44"/>
                    </a:lnTo>
                    <a:lnTo>
                      <a:pt x="56" y="35"/>
                    </a:lnTo>
                    <a:lnTo>
                      <a:pt x="58" y="25"/>
                    </a:lnTo>
                    <a:lnTo>
                      <a:pt x="63" y="16"/>
                    </a:lnTo>
                    <a:lnTo>
                      <a:pt x="68" y="9"/>
                    </a:lnTo>
                    <a:lnTo>
                      <a:pt x="76" y="5"/>
                    </a:lnTo>
                    <a:lnTo>
                      <a:pt x="83" y="1"/>
                    </a:lnTo>
                    <a:lnTo>
                      <a:pt x="93" y="0"/>
                    </a:lnTo>
                    <a:lnTo>
                      <a:pt x="105" y="0"/>
                    </a:lnTo>
                    <a:lnTo>
                      <a:pt x="116" y="6"/>
                    </a:lnTo>
                    <a:lnTo>
                      <a:pt x="120" y="10"/>
                    </a:lnTo>
                    <a:lnTo>
                      <a:pt x="125" y="16"/>
                    </a:lnTo>
                    <a:lnTo>
                      <a:pt x="128" y="22"/>
                    </a:lnTo>
                    <a:lnTo>
                      <a:pt x="132" y="30"/>
                    </a:lnTo>
                    <a:close/>
                  </a:path>
                </a:pathLst>
              </a:custGeom>
              <a:solidFill>
                <a:srgbClr val="bfbf0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Humanst521 BT"/>
                </a:endParaRPr>
              </a:p>
            </p:txBody>
          </p:sp>
          <p:sp>
            <p:nvSpPr>
              <p:cNvPr id="173" name="Freeform 261"/>
              <p:cNvSpPr/>
              <p:nvPr/>
            </p:nvSpPr>
            <p:spPr>
              <a:xfrm flipH="1">
                <a:off x="7443000" y="3143520"/>
                <a:ext cx="52560" cy="182160"/>
              </a:xfrm>
              <a:custGeom>
                <a:avLst/>
                <a:gdLst>
                  <a:gd name="textAreaLeft" fmla="*/ 360 w 52560"/>
                  <a:gd name="textAreaRight" fmla="*/ 53280 w 52560"/>
                  <a:gd name="textAreaTop" fmla="*/ 0 h 182160"/>
                  <a:gd name="textAreaBottom" fmla="*/ 182520 h 182160"/>
                </a:gdLst>
                <a:ahLst/>
                <a:rect l="textAreaLeft" t="textAreaTop" r="textAreaRight" b="textAreaBottom"/>
                <a:pathLst>
                  <a:path w="189" h="640">
                    <a:moveTo>
                      <a:pt x="189" y="37"/>
                    </a:moveTo>
                    <a:lnTo>
                      <a:pt x="170" y="122"/>
                    </a:lnTo>
                    <a:lnTo>
                      <a:pt x="142" y="207"/>
                    </a:lnTo>
                    <a:lnTo>
                      <a:pt x="124" y="244"/>
                    </a:lnTo>
                    <a:lnTo>
                      <a:pt x="105" y="304"/>
                    </a:lnTo>
                    <a:lnTo>
                      <a:pt x="94" y="368"/>
                    </a:lnTo>
                    <a:lnTo>
                      <a:pt x="71" y="430"/>
                    </a:lnTo>
                    <a:lnTo>
                      <a:pt x="50" y="483"/>
                    </a:lnTo>
                    <a:lnTo>
                      <a:pt x="39" y="549"/>
                    </a:lnTo>
                    <a:lnTo>
                      <a:pt x="26" y="596"/>
                    </a:lnTo>
                    <a:lnTo>
                      <a:pt x="16" y="640"/>
                    </a:lnTo>
                    <a:lnTo>
                      <a:pt x="2" y="635"/>
                    </a:lnTo>
                    <a:lnTo>
                      <a:pt x="5" y="614"/>
                    </a:lnTo>
                    <a:lnTo>
                      <a:pt x="0" y="585"/>
                    </a:lnTo>
                    <a:lnTo>
                      <a:pt x="7" y="541"/>
                    </a:lnTo>
                    <a:lnTo>
                      <a:pt x="21" y="488"/>
                    </a:lnTo>
                    <a:lnTo>
                      <a:pt x="32" y="423"/>
                    </a:lnTo>
                    <a:lnTo>
                      <a:pt x="49" y="386"/>
                    </a:lnTo>
                    <a:lnTo>
                      <a:pt x="62" y="347"/>
                    </a:lnTo>
                    <a:lnTo>
                      <a:pt x="76" y="297"/>
                    </a:lnTo>
                    <a:lnTo>
                      <a:pt x="89" y="255"/>
                    </a:lnTo>
                    <a:lnTo>
                      <a:pt x="122" y="181"/>
                    </a:lnTo>
                    <a:lnTo>
                      <a:pt x="134" y="131"/>
                    </a:lnTo>
                    <a:lnTo>
                      <a:pt x="145" y="89"/>
                    </a:lnTo>
                    <a:lnTo>
                      <a:pt x="149" y="37"/>
                    </a:lnTo>
                    <a:lnTo>
                      <a:pt x="165" y="0"/>
                    </a:lnTo>
                    <a:lnTo>
                      <a:pt x="184" y="7"/>
                    </a:lnTo>
                    <a:lnTo>
                      <a:pt x="189" y="37"/>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74" name="Freeform 262"/>
              <p:cNvSpPr/>
              <p:nvPr/>
            </p:nvSpPr>
            <p:spPr>
              <a:xfrm flipH="1">
                <a:off x="7486920" y="3291840"/>
                <a:ext cx="44640" cy="207000"/>
              </a:xfrm>
              <a:custGeom>
                <a:avLst/>
                <a:gdLst>
                  <a:gd name="textAreaLeft" fmla="*/ 360 w 44640"/>
                  <a:gd name="textAreaRight" fmla="*/ 45360 w 44640"/>
                  <a:gd name="textAreaTop" fmla="*/ 0 h 207000"/>
                  <a:gd name="textAreaBottom" fmla="*/ 207360 h 207000"/>
                </a:gdLst>
                <a:ahLst/>
                <a:rect l="textAreaLeft" t="textAreaTop" r="textAreaRight" b="textAreaBottom"/>
                <a:pathLst>
                  <a:path w="158" h="734">
                    <a:moveTo>
                      <a:pt x="158" y="35"/>
                    </a:moveTo>
                    <a:lnTo>
                      <a:pt x="147" y="122"/>
                    </a:lnTo>
                    <a:lnTo>
                      <a:pt x="126" y="210"/>
                    </a:lnTo>
                    <a:lnTo>
                      <a:pt x="110" y="247"/>
                    </a:lnTo>
                    <a:lnTo>
                      <a:pt x="96" y="311"/>
                    </a:lnTo>
                    <a:lnTo>
                      <a:pt x="87" y="373"/>
                    </a:lnTo>
                    <a:lnTo>
                      <a:pt x="71" y="439"/>
                    </a:lnTo>
                    <a:lnTo>
                      <a:pt x="52" y="492"/>
                    </a:lnTo>
                    <a:lnTo>
                      <a:pt x="46" y="560"/>
                    </a:lnTo>
                    <a:lnTo>
                      <a:pt x="36" y="607"/>
                    </a:lnTo>
                    <a:lnTo>
                      <a:pt x="32" y="652"/>
                    </a:lnTo>
                    <a:lnTo>
                      <a:pt x="0" y="734"/>
                    </a:lnTo>
                    <a:lnTo>
                      <a:pt x="2" y="660"/>
                    </a:lnTo>
                    <a:lnTo>
                      <a:pt x="11" y="598"/>
                    </a:lnTo>
                    <a:lnTo>
                      <a:pt x="13" y="552"/>
                    </a:lnTo>
                    <a:lnTo>
                      <a:pt x="23" y="499"/>
                    </a:lnTo>
                    <a:lnTo>
                      <a:pt x="29" y="432"/>
                    </a:lnTo>
                    <a:lnTo>
                      <a:pt x="46" y="395"/>
                    </a:lnTo>
                    <a:lnTo>
                      <a:pt x="55" y="357"/>
                    </a:lnTo>
                    <a:lnTo>
                      <a:pt x="66" y="303"/>
                    </a:lnTo>
                    <a:lnTo>
                      <a:pt x="76" y="260"/>
                    </a:lnTo>
                    <a:lnTo>
                      <a:pt x="103" y="187"/>
                    </a:lnTo>
                    <a:lnTo>
                      <a:pt x="110" y="136"/>
                    </a:lnTo>
                    <a:lnTo>
                      <a:pt x="117" y="92"/>
                    </a:lnTo>
                    <a:lnTo>
                      <a:pt x="120" y="40"/>
                    </a:lnTo>
                    <a:lnTo>
                      <a:pt x="133" y="0"/>
                    </a:lnTo>
                    <a:lnTo>
                      <a:pt x="154" y="9"/>
                    </a:lnTo>
                    <a:lnTo>
                      <a:pt x="158" y="35"/>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75" name="Freeform 264"/>
              <p:cNvSpPr/>
              <p:nvPr/>
            </p:nvSpPr>
            <p:spPr>
              <a:xfrm flipH="1">
                <a:off x="7284600" y="3390480"/>
                <a:ext cx="90720" cy="86760"/>
              </a:xfrm>
              <a:custGeom>
                <a:avLst/>
                <a:gdLst>
                  <a:gd name="textAreaLeft" fmla="*/ 360 w 90720"/>
                  <a:gd name="textAreaRight" fmla="*/ 91440 w 90720"/>
                  <a:gd name="textAreaTop" fmla="*/ 0 h 86760"/>
                  <a:gd name="textAreaBottom" fmla="*/ 87120 h 86760"/>
                </a:gdLst>
                <a:ahLst/>
                <a:rect l="textAreaLeft" t="textAreaTop" r="textAreaRight" b="textAreaBottom"/>
                <a:pathLst>
                  <a:path w="323" h="311">
                    <a:moveTo>
                      <a:pt x="315" y="29"/>
                    </a:moveTo>
                    <a:lnTo>
                      <a:pt x="278" y="48"/>
                    </a:lnTo>
                    <a:lnTo>
                      <a:pt x="229" y="90"/>
                    </a:lnTo>
                    <a:lnTo>
                      <a:pt x="207" y="111"/>
                    </a:lnTo>
                    <a:lnTo>
                      <a:pt x="174" y="137"/>
                    </a:lnTo>
                    <a:lnTo>
                      <a:pt x="144" y="166"/>
                    </a:lnTo>
                    <a:lnTo>
                      <a:pt x="110" y="200"/>
                    </a:lnTo>
                    <a:lnTo>
                      <a:pt x="82" y="232"/>
                    </a:lnTo>
                    <a:lnTo>
                      <a:pt x="52" y="263"/>
                    </a:lnTo>
                    <a:lnTo>
                      <a:pt x="27" y="287"/>
                    </a:lnTo>
                    <a:lnTo>
                      <a:pt x="8" y="311"/>
                    </a:lnTo>
                    <a:lnTo>
                      <a:pt x="0" y="302"/>
                    </a:lnTo>
                    <a:lnTo>
                      <a:pt x="2" y="286"/>
                    </a:lnTo>
                    <a:lnTo>
                      <a:pt x="16" y="269"/>
                    </a:lnTo>
                    <a:lnTo>
                      <a:pt x="41" y="258"/>
                    </a:lnTo>
                    <a:lnTo>
                      <a:pt x="66" y="224"/>
                    </a:lnTo>
                    <a:lnTo>
                      <a:pt x="96" y="194"/>
                    </a:lnTo>
                    <a:lnTo>
                      <a:pt x="117" y="176"/>
                    </a:lnTo>
                    <a:lnTo>
                      <a:pt x="136" y="157"/>
                    </a:lnTo>
                    <a:lnTo>
                      <a:pt x="165" y="127"/>
                    </a:lnTo>
                    <a:lnTo>
                      <a:pt x="184" y="106"/>
                    </a:lnTo>
                    <a:lnTo>
                      <a:pt x="228" y="79"/>
                    </a:lnTo>
                    <a:lnTo>
                      <a:pt x="252" y="58"/>
                    </a:lnTo>
                    <a:lnTo>
                      <a:pt x="273" y="40"/>
                    </a:lnTo>
                    <a:lnTo>
                      <a:pt x="296" y="14"/>
                    </a:lnTo>
                    <a:lnTo>
                      <a:pt x="320" y="0"/>
                    </a:lnTo>
                    <a:lnTo>
                      <a:pt x="323" y="11"/>
                    </a:lnTo>
                    <a:lnTo>
                      <a:pt x="315" y="29"/>
                    </a:lnTo>
                    <a:close/>
                  </a:path>
                </a:pathLst>
              </a:custGeom>
              <a:solidFill>
                <a:srgbClr val="ffbf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Humanst521 BT"/>
                </a:endParaRPr>
              </a:p>
            </p:txBody>
          </p:sp>
          <p:sp>
            <p:nvSpPr>
              <p:cNvPr id="176" name="Freeform 265"/>
              <p:cNvSpPr/>
              <p:nvPr/>
            </p:nvSpPr>
            <p:spPr>
              <a:xfrm flipH="1">
                <a:off x="7442280" y="2990880"/>
                <a:ext cx="20880" cy="109800"/>
              </a:xfrm>
              <a:custGeom>
                <a:avLst/>
                <a:gdLst>
                  <a:gd name="textAreaLeft" fmla="*/ 360 w 20880"/>
                  <a:gd name="textAreaRight" fmla="*/ 21600 w 20880"/>
                  <a:gd name="textAreaTop" fmla="*/ 0 h 109800"/>
                  <a:gd name="textAreaBottom" fmla="*/ 110160 h 109800"/>
                </a:gdLst>
                <a:ahLst/>
                <a:rect l="textAreaLeft" t="textAreaTop" r="textAreaRight" b="textAreaBottom"/>
                <a:pathLst>
                  <a:path w="76" h="389">
                    <a:moveTo>
                      <a:pt x="61" y="2"/>
                    </a:moveTo>
                    <a:lnTo>
                      <a:pt x="42" y="0"/>
                    </a:lnTo>
                    <a:lnTo>
                      <a:pt x="36" y="18"/>
                    </a:lnTo>
                    <a:lnTo>
                      <a:pt x="41" y="52"/>
                    </a:lnTo>
                    <a:lnTo>
                      <a:pt x="41" y="84"/>
                    </a:lnTo>
                    <a:lnTo>
                      <a:pt x="34" y="115"/>
                    </a:lnTo>
                    <a:lnTo>
                      <a:pt x="23" y="168"/>
                    </a:lnTo>
                    <a:lnTo>
                      <a:pt x="20" y="202"/>
                    </a:lnTo>
                    <a:lnTo>
                      <a:pt x="11" y="250"/>
                    </a:lnTo>
                    <a:lnTo>
                      <a:pt x="6" y="281"/>
                    </a:lnTo>
                    <a:lnTo>
                      <a:pt x="2" y="321"/>
                    </a:lnTo>
                    <a:lnTo>
                      <a:pt x="0" y="373"/>
                    </a:lnTo>
                    <a:lnTo>
                      <a:pt x="4" y="384"/>
                    </a:lnTo>
                    <a:lnTo>
                      <a:pt x="11" y="389"/>
                    </a:lnTo>
                    <a:lnTo>
                      <a:pt x="23" y="384"/>
                    </a:lnTo>
                    <a:lnTo>
                      <a:pt x="23" y="365"/>
                    </a:lnTo>
                    <a:lnTo>
                      <a:pt x="27" y="305"/>
                    </a:lnTo>
                    <a:lnTo>
                      <a:pt x="27" y="281"/>
                    </a:lnTo>
                    <a:lnTo>
                      <a:pt x="34" y="255"/>
                    </a:lnTo>
                    <a:lnTo>
                      <a:pt x="41" y="232"/>
                    </a:lnTo>
                    <a:lnTo>
                      <a:pt x="42" y="211"/>
                    </a:lnTo>
                    <a:lnTo>
                      <a:pt x="50" y="192"/>
                    </a:lnTo>
                    <a:lnTo>
                      <a:pt x="55" y="174"/>
                    </a:lnTo>
                    <a:lnTo>
                      <a:pt x="55" y="171"/>
                    </a:lnTo>
                    <a:lnTo>
                      <a:pt x="56" y="167"/>
                    </a:lnTo>
                    <a:lnTo>
                      <a:pt x="56" y="162"/>
                    </a:lnTo>
                    <a:lnTo>
                      <a:pt x="57" y="157"/>
                    </a:lnTo>
                    <a:lnTo>
                      <a:pt x="58" y="151"/>
                    </a:lnTo>
                    <a:lnTo>
                      <a:pt x="61" y="144"/>
                    </a:lnTo>
                    <a:lnTo>
                      <a:pt x="61" y="135"/>
                    </a:lnTo>
                    <a:lnTo>
                      <a:pt x="63" y="127"/>
                    </a:lnTo>
                    <a:lnTo>
                      <a:pt x="65" y="119"/>
                    </a:lnTo>
                    <a:lnTo>
                      <a:pt x="67" y="113"/>
                    </a:lnTo>
                    <a:lnTo>
                      <a:pt x="68" y="105"/>
                    </a:lnTo>
                    <a:lnTo>
                      <a:pt x="71" y="100"/>
                    </a:lnTo>
                    <a:lnTo>
                      <a:pt x="72" y="97"/>
                    </a:lnTo>
                    <a:lnTo>
                      <a:pt x="73" y="97"/>
                    </a:lnTo>
                    <a:lnTo>
                      <a:pt x="76" y="66"/>
                    </a:lnTo>
                    <a:lnTo>
                      <a:pt x="76" y="41"/>
                    </a:lnTo>
                    <a:lnTo>
                      <a:pt x="61" y="2"/>
                    </a:lnTo>
                    <a:close/>
                  </a:path>
                </a:pathLst>
              </a:custGeom>
              <a:solidFill>
                <a:srgbClr val="ded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77" name="Freeform 266"/>
              <p:cNvSpPr/>
              <p:nvPr/>
            </p:nvSpPr>
            <p:spPr>
              <a:xfrm flipH="1">
                <a:off x="7390080" y="3328200"/>
                <a:ext cx="171720" cy="370080"/>
              </a:xfrm>
              <a:custGeom>
                <a:avLst/>
                <a:gdLst>
                  <a:gd name="textAreaLeft" fmla="*/ -360 w 171720"/>
                  <a:gd name="textAreaRight" fmla="*/ 171720 w 171720"/>
                  <a:gd name="textAreaTop" fmla="*/ 0 h 370080"/>
                  <a:gd name="textAreaBottom" fmla="*/ 370440 h 370080"/>
                </a:gdLst>
                <a:ahLst/>
                <a:rect l="textAreaLeft" t="textAreaTop" r="textAreaRight" b="textAreaBottom"/>
                <a:pathLst>
                  <a:path w="611" h="1308">
                    <a:moveTo>
                      <a:pt x="567" y="0"/>
                    </a:moveTo>
                    <a:lnTo>
                      <a:pt x="535" y="25"/>
                    </a:lnTo>
                    <a:lnTo>
                      <a:pt x="515" y="50"/>
                    </a:lnTo>
                    <a:lnTo>
                      <a:pt x="491" y="87"/>
                    </a:lnTo>
                    <a:lnTo>
                      <a:pt x="473" y="117"/>
                    </a:lnTo>
                    <a:lnTo>
                      <a:pt x="452" y="158"/>
                    </a:lnTo>
                    <a:lnTo>
                      <a:pt x="425" y="175"/>
                    </a:lnTo>
                    <a:lnTo>
                      <a:pt x="397" y="207"/>
                    </a:lnTo>
                    <a:lnTo>
                      <a:pt x="368" y="234"/>
                    </a:lnTo>
                    <a:lnTo>
                      <a:pt x="338" y="271"/>
                    </a:lnTo>
                    <a:lnTo>
                      <a:pt x="320" y="292"/>
                    </a:lnTo>
                    <a:lnTo>
                      <a:pt x="289" y="331"/>
                    </a:lnTo>
                    <a:lnTo>
                      <a:pt x="273" y="360"/>
                    </a:lnTo>
                    <a:lnTo>
                      <a:pt x="244" y="399"/>
                    </a:lnTo>
                    <a:lnTo>
                      <a:pt x="223" y="455"/>
                    </a:lnTo>
                    <a:lnTo>
                      <a:pt x="192" y="507"/>
                    </a:lnTo>
                    <a:lnTo>
                      <a:pt x="191" y="509"/>
                    </a:lnTo>
                    <a:lnTo>
                      <a:pt x="190" y="515"/>
                    </a:lnTo>
                    <a:lnTo>
                      <a:pt x="187" y="518"/>
                    </a:lnTo>
                    <a:lnTo>
                      <a:pt x="186" y="526"/>
                    </a:lnTo>
                    <a:lnTo>
                      <a:pt x="182" y="533"/>
                    </a:lnTo>
                    <a:lnTo>
                      <a:pt x="179" y="544"/>
                    </a:lnTo>
                    <a:lnTo>
                      <a:pt x="170" y="554"/>
                    </a:lnTo>
                    <a:lnTo>
                      <a:pt x="163" y="568"/>
                    </a:lnTo>
                    <a:lnTo>
                      <a:pt x="153" y="581"/>
                    </a:lnTo>
                    <a:lnTo>
                      <a:pt x="146" y="596"/>
                    </a:lnTo>
                    <a:lnTo>
                      <a:pt x="137" y="607"/>
                    </a:lnTo>
                    <a:lnTo>
                      <a:pt x="131" y="619"/>
                    </a:lnTo>
                    <a:lnTo>
                      <a:pt x="125" y="629"/>
                    </a:lnTo>
                    <a:lnTo>
                      <a:pt x="124" y="636"/>
                    </a:lnTo>
                    <a:lnTo>
                      <a:pt x="119" y="646"/>
                    </a:lnTo>
                    <a:lnTo>
                      <a:pt x="111" y="658"/>
                    </a:lnTo>
                    <a:lnTo>
                      <a:pt x="106" y="666"/>
                    </a:lnTo>
                    <a:lnTo>
                      <a:pt x="103" y="673"/>
                    </a:lnTo>
                    <a:lnTo>
                      <a:pt x="100" y="682"/>
                    </a:lnTo>
                    <a:lnTo>
                      <a:pt x="99" y="691"/>
                    </a:lnTo>
                    <a:lnTo>
                      <a:pt x="97" y="699"/>
                    </a:lnTo>
                    <a:lnTo>
                      <a:pt x="95" y="704"/>
                    </a:lnTo>
                    <a:lnTo>
                      <a:pt x="94" y="707"/>
                    </a:lnTo>
                    <a:lnTo>
                      <a:pt x="93" y="712"/>
                    </a:lnTo>
                    <a:lnTo>
                      <a:pt x="90" y="716"/>
                    </a:lnTo>
                    <a:lnTo>
                      <a:pt x="88" y="722"/>
                    </a:lnTo>
                    <a:lnTo>
                      <a:pt x="84" y="731"/>
                    </a:lnTo>
                    <a:lnTo>
                      <a:pt x="82" y="745"/>
                    </a:lnTo>
                    <a:lnTo>
                      <a:pt x="78" y="759"/>
                    </a:lnTo>
                    <a:lnTo>
                      <a:pt x="76" y="772"/>
                    </a:lnTo>
                    <a:lnTo>
                      <a:pt x="73" y="783"/>
                    </a:lnTo>
                    <a:lnTo>
                      <a:pt x="72" y="794"/>
                    </a:lnTo>
                    <a:lnTo>
                      <a:pt x="68" y="802"/>
                    </a:lnTo>
                    <a:lnTo>
                      <a:pt x="67" y="810"/>
                    </a:lnTo>
                    <a:lnTo>
                      <a:pt x="64" y="816"/>
                    </a:lnTo>
                    <a:lnTo>
                      <a:pt x="62" y="823"/>
                    </a:lnTo>
                    <a:lnTo>
                      <a:pt x="59" y="828"/>
                    </a:lnTo>
                    <a:lnTo>
                      <a:pt x="56" y="836"/>
                    </a:lnTo>
                    <a:lnTo>
                      <a:pt x="54" y="845"/>
                    </a:lnTo>
                    <a:lnTo>
                      <a:pt x="51" y="856"/>
                    </a:lnTo>
                    <a:lnTo>
                      <a:pt x="49" y="866"/>
                    </a:lnTo>
                    <a:lnTo>
                      <a:pt x="48" y="877"/>
                    </a:lnTo>
                    <a:lnTo>
                      <a:pt x="45" y="885"/>
                    </a:lnTo>
                    <a:lnTo>
                      <a:pt x="45" y="893"/>
                    </a:lnTo>
                    <a:lnTo>
                      <a:pt x="43" y="900"/>
                    </a:lnTo>
                    <a:lnTo>
                      <a:pt x="40" y="915"/>
                    </a:lnTo>
                    <a:lnTo>
                      <a:pt x="35" y="934"/>
                    </a:lnTo>
                    <a:lnTo>
                      <a:pt x="32" y="956"/>
                    </a:lnTo>
                    <a:lnTo>
                      <a:pt x="27" y="977"/>
                    </a:lnTo>
                    <a:lnTo>
                      <a:pt x="23" y="996"/>
                    </a:lnTo>
                    <a:lnTo>
                      <a:pt x="21" y="1008"/>
                    </a:lnTo>
                    <a:lnTo>
                      <a:pt x="21" y="1014"/>
                    </a:lnTo>
                    <a:lnTo>
                      <a:pt x="16" y="1064"/>
                    </a:lnTo>
                    <a:lnTo>
                      <a:pt x="16" y="1113"/>
                    </a:lnTo>
                    <a:lnTo>
                      <a:pt x="8" y="1154"/>
                    </a:lnTo>
                    <a:lnTo>
                      <a:pt x="7" y="1205"/>
                    </a:lnTo>
                    <a:lnTo>
                      <a:pt x="0" y="1292"/>
                    </a:lnTo>
                    <a:lnTo>
                      <a:pt x="8" y="1308"/>
                    </a:lnTo>
                    <a:lnTo>
                      <a:pt x="18" y="1297"/>
                    </a:lnTo>
                    <a:lnTo>
                      <a:pt x="29" y="1219"/>
                    </a:lnTo>
                    <a:lnTo>
                      <a:pt x="32" y="1180"/>
                    </a:lnTo>
                    <a:lnTo>
                      <a:pt x="45" y="1129"/>
                    </a:lnTo>
                    <a:lnTo>
                      <a:pt x="52" y="1077"/>
                    </a:lnTo>
                    <a:lnTo>
                      <a:pt x="57" y="1021"/>
                    </a:lnTo>
                    <a:lnTo>
                      <a:pt x="73" y="951"/>
                    </a:lnTo>
                    <a:lnTo>
                      <a:pt x="81" y="894"/>
                    </a:lnTo>
                    <a:lnTo>
                      <a:pt x="108" y="814"/>
                    </a:lnTo>
                    <a:lnTo>
                      <a:pt x="131" y="717"/>
                    </a:lnTo>
                    <a:lnTo>
                      <a:pt x="163" y="639"/>
                    </a:lnTo>
                    <a:lnTo>
                      <a:pt x="186" y="581"/>
                    </a:lnTo>
                    <a:lnTo>
                      <a:pt x="223" y="525"/>
                    </a:lnTo>
                    <a:lnTo>
                      <a:pt x="250" y="452"/>
                    </a:lnTo>
                    <a:lnTo>
                      <a:pt x="250" y="450"/>
                    </a:lnTo>
                    <a:lnTo>
                      <a:pt x="252" y="446"/>
                    </a:lnTo>
                    <a:lnTo>
                      <a:pt x="256" y="439"/>
                    </a:lnTo>
                    <a:lnTo>
                      <a:pt x="261" y="433"/>
                    </a:lnTo>
                    <a:lnTo>
                      <a:pt x="266" y="423"/>
                    </a:lnTo>
                    <a:lnTo>
                      <a:pt x="272" y="415"/>
                    </a:lnTo>
                    <a:lnTo>
                      <a:pt x="277" y="408"/>
                    </a:lnTo>
                    <a:lnTo>
                      <a:pt x="283" y="402"/>
                    </a:lnTo>
                    <a:lnTo>
                      <a:pt x="287" y="392"/>
                    </a:lnTo>
                    <a:lnTo>
                      <a:pt x="295" y="379"/>
                    </a:lnTo>
                    <a:lnTo>
                      <a:pt x="305" y="363"/>
                    </a:lnTo>
                    <a:lnTo>
                      <a:pt x="317" y="347"/>
                    </a:lnTo>
                    <a:lnTo>
                      <a:pt x="327" y="330"/>
                    </a:lnTo>
                    <a:lnTo>
                      <a:pt x="337" y="317"/>
                    </a:lnTo>
                    <a:lnTo>
                      <a:pt x="343" y="307"/>
                    </a:lnTo>
                    <a:lnTo>
                      <a:pt x="347" y="305"/>
                    </a:lnTo>
                    <a:lnTo>
                      <a:pt x="430" y="216"/>
                    </a:lnTo>
                    <a:lnTo>
                      <a:pt x="459" y="193"/>
                    </a:lnTo>
                    <a:lnTo>
                      <a:pt x="462" y="189"/>
                    </a:lnTo>
                    <a:lnTo>
                      <a:pt x="470" y="179"/>
                    </a:lnTo>
                    <a:lnTo>
                      <a:pt x="475" y="170"/>
                    </a:lnTo>
                    <a:lnTo>
                      <a:pt x="481" y="163"/>
                    </a:lnTo>
                    <a:lnTo>
                      <a:pt x="489" y="154"/>
                    </a:lnTo>
                    <a:lnTo>
                      <a:pt x="496" y="147"/>
                    </a:lnTo>
                    <a:lnTo>
                      <a:pt x="502" y="136"/>
                    </a:lnTo>
                    <a:lnTo>
                      <a:pt x="510" y="128"/>
                    </a:lnTo>
                    <a:lnTo>
                      <a:pt x="517" y="120"/>
                    </a:lnTo>
                    <a:lnTo>
                      <a:pt x="526" y="115"/>
                    </a:lnTo>
                    <a:lnTo>
                      <a:pt x="532" y="108"/>
                    </a:lnTo>
                    <a:lnTo>
                      <a:pt x="538" y="104"/>
                    </a:lnTo>
                    <a:lnTo>
                      <a:pt x="542" y="101"/>
                    </a:lnTo>
                    <a:lnTo>
                      <a:pt x="546" y="101"/>
                    </a:lnTo>
                    <a:lnTo>
                      <a:pt x="553" y="98"/>
                    </a:lnTo>
                    <a:lnTo>
                      <a:pt x="560" y="92"/>
                    </a:lnTo>
                    <a:lnTo>
                      <a:pt x="567" y="84"/>
                    </a:lnTo>
                    <a:lnTo>
                      <a:pt x="577" y="78"/>
                    </a:lnTo>
                    <a:lnTo>
                      <a:pt x="584" y="71"/>
                    </a:lnTo>
                    <a:lnTo>
                      <a:pt x="592" y="63"/>
                    </a:lnTo>
                    <a:lnTo>
                      <a:pt x="595" y="59"/>
                    </a:lnTo>
                    <a:lnTo>
                      <a:pt x="599" y="57"/>
                    </a:lnTo>
                    <a:lnTo>
                      <a:pt x="611" y="23"/>
                    </a:lnTo>
                    <a:lnTo>
                      <a:pt x="604" y="2"/>
                    </a:lnTo>
                    <a:lnTo>
                      <a:pt x="567" y="0"/>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grpSp>
      <p:sp>
        <p:nvSpPr>
          <p:cNvPr id="178" name="Text Box 269"/>
          <p:cNvSpPr/>
          <p:nvPr/>
        </p:nvSpPr>
        <p:spPr>
          <a:xfrm>
            <a:off x="338040" y="2406600"/>
            <a:ext cx="159084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Humanst521 BT"/>
              </a:rPr>
              <a:t>This is what we do:</a:t>
            </a:r>
            <a:endParaRPr b="0" lang="en-US" sz="3200" spc="-1" strike="noStrike">
              <a:solidFill>
                <a:srgbClr val="000000"/>
              </a:solidFill>
              <a:latin typeface="Humanst521 BT"/>
            </a:endParaRPr>
          </a:p>
        </p:txBody>
      </p:sp>
    </p:spTree>
  </p:cSld>
  <p:transition spd="med">
    <p:fade/>
  </p:transition>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2" presetSubtype="8">
                                  <p:stCondLst>
                                    <p:cond delay="0"/>
                                  </p:stCondLst>
                                  <p:childTnLst>
                                    <p:set>
                                      <p:cBhvr>
                                        <p:cTn id="41" dur="1" fill="hold">
                                          <p:stCondLst>
                                            <p:cond delay="0"/>
                                          </p:stCondLst>
                                        </p:cTn>
                                        <p:tgtEl>
                                          <p:spTgt spid="134"/>
                                        </p:tgtEl>
                                        <p:attrNameLst>
                                          <p:attrName>style.visibility</p:attrName>
                                        </p:attrNameLst>
                                      </p:cBhvr>
                                      <p:to>
                                        <p:strVal val="visible"/>
                                      </p:to>
                                    </p:set>
                                    <p:animEffect filter="wipe(left)" transition="in">
                                      <p:cBhvr additive="repl">
                                        <p:cTn id="42" dur="2000"/>
                                        <p:tgtEl>
                                          <p:spTgt spid="134"/>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2" presetSubtype="8">
                                  <p:stCondLst>
                                    <p:cond delay="0"/>
                                  </p:stCondLst>
                                  <p:childTnLst>
                                    <p:set>
                                      <p:cBhvr>
                                        <p:cTn id="46" dur="1" fill="hold">
                                          <p:stCondLst>
                                            <p:cond delay="0"/>
                                          </p:stCondLst>
                                        </p:cTn>
                                        <p:tgtEl>
                                          <p:spTgt spid="128"/>
                                        </p:tgtEl>
                                        <p:attrNameLst>
                                          <p:attrName>style.visibility</p:attrName>
                                        </p:attrNameLst>
                                      </p:cBhvr>
                                      <p:to>
                                        <p:strVal val="visible"/>
                                      </p:to>
                                    </p:set>
                                    <p:animEffect filter="wipe(left)" transition="in">
                                      <p:cBhvr additive="repl">
                                        <p:cTn id="47" dur="20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B605BF90-00BD-460B-8391-A62EA26AE3EE}"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80" name="Rectangle 61"/>
          <p:cNvSpPr/>
          <p:nvPr/>
        </p:nvSpPr>
        <p:spPr>
          <a:xfrm>
            <a:off x="4317840" y="1217520"/>
            <a:ext cx="1122480" cy="538200"/>
          </a:xfrm>
          <a:prstGeom prst="rect">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81"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Response of Children</a:t>
            </a:r>
            <a:endParaRPr b="0" lang="en-US" sz="3800" spc="-1" strike="noStrike">
              <a:solidFill>
                <a:srgbClr val="ffffff"/>
              </a:solidFill>
              <a:latin typeface="Humanst521 BT"/>
            </a:endParaRPr>
          </a:p>
        </p:txBody>
      </p:sp>
      <p:sp>
        <p:nvSpPr>
          <p:cNvPr id="182" name="AutoShape 3"/>
          <p:cNvSpPr/>
          <p:nvPr/>
        </p:nvSpPr>
        <p:spPr>
          <a:xfrm>
            <a:off x="2487600" y="2406600"/>
            <a:ext cx="6372360" cy="3505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83" name="Text Box 5"/>
          <p:cNvSpPr/>
          <p:nvPr/>
        </p:nvSpPr>
        <p:spPr>
          <a:xfrm>
            <a:off x="135000" y="1157400"/>
            <a:ext cx="588780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t>
            </a:r>
            <a:r>
              <a:rPr b="0" lang="en-US" sz="3600" spc="-1" strike="noStrike">
                <a:solidFill>
                  <a:srgbClr val="000000"/>
                </a:solidFill>
                <a:latin typeface="Humanst521 BT"/>
              </a:rPr>
              <a:t>Let the little children </a:t>
            </a:r>
            <a:r>
              <a:rPr b="0" lang="en-US" sz="3600" spc="-1" strike="noStrike">
                <a:solidFill>
                  <a:srgbClr val="ffffff"/>
                </a:solidFill>
                <a:latin typeface="Humanst521 BT"/>
              </a:rPr>
              <a:t>come</a:t>
            </a:r>
            <a:r>
              <a:rPr b="0" lang="en-US" sz="3600" spc="-1" strike="noStrike">
                <a:solidFill>
                  <a:srgbClr val="000000"/>
                </a:solidFill>
                <a:latin typeface="Humanst521 BT"/>
              </a:rPr>
              <a:t>”</a:t>
            </a:r>
            <a:endParaRPr b="0" lang="en-US" sz="3600" spc="-1" strike="noStrike">
              <a:solidFill>
                <a:srgbClr val="000000"/>
              </a:solidFill>
              <a:latin typeface="Humanst521 BT"/>
            </a:endParaRPr>
          </a:p>
        </p:txBody>
      </p:sp>
      <p:grpSp>
        <p:nvGrpSpPr>
          <p:cNvPr id="184" name="Group 60"/>
          <p:cNvGrpSpPr/>
          <p:nvPr/>
        </p:nvGrpSpPr>
        <p:grpSpPr>
          <a:xfrm>
            <a:off x="1573200" y="4152960"/>
            <a:ext cx="7286760" cy="1752480"/>
            <a:chOff x="1573200" y="4152960"/>
            <a:chExt cx="7286760" cy="1752480"/>
          </a:xfrm>
        </p:grpSpPr>
        <p:grpSp>
          <p:nvGrpSpPr>
            <p:cNvPr id="185" name="Group 57"/>
            <p:cNvGrpSpPr/>
            <p:nvPr/>
          </p:nvGrpSpPr>
          <p:grpSpPr>
            <a:xfrm>
              <a:off x="5497560" y="4152960"/>
              <a:ext cx="3362400" cy="1752480"/>
              <a:chOff x="5497560" y="4152960"/>
              <a:chExt cx="3362400" cy="1752480"/>
            </a:xfrm>
          </p:grpSpPr>
          <p:sp>
            <p:nvSpPr>
              <p:cNvPr id="186" name="Oval 8"/>
              <p:cNvSpPr/>
              <p:nvPr/>
            </p:nvSpPr>
            <p:spPr>
              <a:xfrm>
                <a:off x="5497560" y="4152960"/>
                <a:ext cx="3362400" cy="17524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ore</a:t>
                </a:r>
                <a:endParaRPr b="0" lang="en-US" sz="24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fruit</a:t>
                </a:r>
                <a:endParaRPr b="0" lang="en-US" sz="2400" spc="-1" strike="noStrike">
                  <a:solidFill>
                    <a:srgbClr val="000000"/>
                  </a:solidFill>
                  <a:latin typeface="Humanst521 BT"/>
                </a:endParaRPr>
              </a:p>
            </p:txBody>
          </p:sp>
          <p:pic>
            <p:nvPicPr>
              <p:cNvPr id="187" name="Picture 10" descr="j0203050"/>
              <p:cNvPicPr/>
              <p:nvPr/>
            </p:nvPicPr>
            <p:blipFill>
              <a:blip r:embed="rId1"/>
              <a:stretch/>
            </p:blipFill>
            <p:spPr>
              <a:xfrm>
                <a:off x="7043760" y="4213080"/>
                <a:ext cx="1476360" cy="1579320"/>
              </a:xfrm>
              <a:prstGeom prst="rect">
                <a:avLst/>
              </a:prstGeom>
              <a:ln w="0">
                <a:noFill/>
              </a:ln>
            </p:spPr>
          </p:pic>
          <p:pic>
            <p:nvPicPr>
              <p:cNvPr id="188" name="Picture 11" descr="j0203050"/>
              <p:cNvPicPr/>
              <p:nvPr/>
            </p:nvPicPr>
            <p:blipFill>
              <a:blip r:embed="rId2"/>
              <a:stretch/>
            </p:blipFill>
            <p:spPr>
              <a:xfrm flipH="1">
                <a:off x="6887880" y="4255920"/>
                <a:ext cx="1476360" cy="1579320"/>
              </a:xfrm>
              <a:prstGeom prst="rect">
                <a:avLst/>
              </a:prstGeom>
              <a:ln w="0">
                <a:noFill/>
              </a:ln>
            </p:spPr>
          </p:pic>
        </p:grpSp>
        <p:sp>
          <p:nvSpPr>
            <p:cNvPr id="189" name="AutoShape 13"/>
            <p:cNvSpPr/>
            <p:nvPr/>
          </p:nvSpPr>
          <p:spPr>
            <a:xfrm>
              <a:off x="4083120" y="4660920"/>
              <a:ext cx="1415880" cy="736560"/>
            </a:xfrm>
            <a:prstGeom prst="rightArrow">
              <a:avLst>
                <a:gd name="adj1" fmla="val 50000"/>
                <a:gd name="adj2" fmla="val 48057"/>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90" name="Oval 14"/>
            <p:cNvSpPr/>
            <p:nvPr/>
          </p:nvSpPr>
          <p:spPr>
            <a:xfrm>
              <a:off x="1573200" y="4152960"/>
              <a:ext cx="3363840" cy="17524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ore</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resources</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oney, time, staff)</a:t>
              </a:r>
              <a:endParaRPr b="0" lang="en-US" sz="2400" spc="-1" strike="noStrike">
                <a:solidFill>
                  <a:srgbClr val="000000"/>
                </a:solidFill>
                <a:latin typeface="Humanst521 BT"/>
              </a:endParaRPr>
            </a:p>
          </p:txBody>
        </p:sp>
      </p:grpSp>
      <p:grpSp>
        <p:nvGrpSpPr>
          <p:cNvPr id="191" name="Group 59"/>
          <p:cNvGrpSpPr/>
          <p:nvPr/>
        </p:nvGrpSpPr>
        <p:grpSpPr>
          <a:xfrm>
            <a:off x="3360600" y="2776680"/>
            <a:ext cx="5499360" cy="1015920"/>
            <a:chOff x="3360600" y="2776680"/>
            <a:chExt cx="5499360" cy="1015920"/>
          </a:xfrm>
        </p:grpSpPr>
        <p:sp>
          <p:nvSpPr>
            <p:cNvPr id="192" name="AutoShape 7"/>
            <p:cNvSpPr/>
            <p:nvPr/>
          </p:nvSpPr>
          <p:spPr>
            <a:xfrm>
              <a:off x="4954680" y="2916360"/>
              <a:ext cx="1415880" cy="736560"/>
            </a:xfrm>
            <a:prstGeom prst="rightArrow">
              <a:avLst>
                <a:gd name="adj1" fmla="val 50000"/>
                <a:gd name="adj2" fmla="val 48057"/>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93" name="Oval 9"/>
            <p:cNvSpPr/>
            <p:nvPr/>
          </p:nvSpPr>
          <p:spPr>
            <a:xfrm>
              <a:off x="3360600" y="2776680"/>
              <a:ext cx="2502000" cy="1015920"/>
            </a:xfrm>
            <a:prstGeom prst="ellipse">
              <a:avLst/>
            </a:prstGeom>
            <a:solidFill>
              <a:srgbClr val="3399ff"/>
            </a:solidFill>
            <a:ln w="0">
              <a:noFill/>
            </a:ln>
            <a:effectLst>
              <a:outerShdw dist="17819" dir="2700000" blurRad="0" rotWithShape="0">
                <a:srgbClr val="1f5c99"/>
              </a:outerShdw>
            </a:effectLst>
          </p:spPr>
          <p:style>
            <a:lnRef idx="0"/>
            <a:fillRef idx="0"/>
            <a:effectRef idx="0"/>
            <a:fontRef idx="minor"/>
          </p:style>
          <p:txBody>
            <a:bodyPr lIns="0" rIns="0" tIns="9144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Less</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resources</a:t>
              </a:r>
              <a:endParaRPr b="0" lang="en-US" sz="2400" spc="-1" strike="noStrike">
                <a:solidFill>
                  <a:srgbClr val="000000"/>
                </a:solidFill>
                <a:latin typeface="Humanst521 BT"/>
              </a:endParaRPr>
            </a:p>
          </p:txBody>
        </p:sp>
        <p:grpSp>
          <p:nvGrpSpPr>
            <p:cNvPr id="194" name="Group 58"/>
            <p:cNvGrpSpPr/>
            <p:nvPr/>
          </p:nvGrpSpPr>
          <p:grpSpPr>
            <a:xfrm>
              <a:off x="6396120" y="2776680"/>
              <a:ext cx="2463840" cy="1015920"/>
              <a:chOff x="6396120" y="2776680"/>
              <a:chExt cx="2463840" cy="1015920"/>
            </a:xfrm>
          </p:grpSpPr>
          <p:sp>
            <p:nvSpPr>
              <p:cNvPr id="195" name="Oval 15"/>
              <p:cNvSpPr/>
              <p:nvPr/>
            </p:nvSpPr>
            <p:spPr>
              <a:xfrm>
                <a:off x="6396120" y="2776680"/>
                <a:ext cx="2463840" cy="1015920"/>
              </a:xfrm>
              <a:prstGeom prst="ellipse">
                <a:avLst/>
              </a:prstGeom>
              <a:solidFill>
                <a:srgbClr val="3399ff"/>
              </a:solidFill>
              <a:ln w="0">
                <a:noFill/>
              </a:ln>
              <a:effectLst>
                <a:outerShdw dist="17819" dir="2700000" blurRad="0" rotWithShape="0">
                  <a:srgbClr val="1f5c99"/>
                </a:outerShdw>
              </a:effectLst>
            </p:spPr>
            <p:style>
              <a:lnRef idx="0"/>
              <a:fillRef idx="0"/>
              <a:effectRef idx="0"/>
              <a:fontRef idx="minor"/>
            </p:style>
            <p:txBody>
              <a:bodyPr lIns="90000" rIns="90000" tIns="9144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Less</a:t>
                </a:r>
                <a:endParaRPr b="0" lang="en-US" sz="24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fruit </a:t>
                </a:r>
                <a:endParaRPr b="0" lang="en-US" sz="2400" spc="-1" strike="noStrike">
                  <a:solidFill>
                    <a:srgbClr val="000000"/>
                  </a:solidFill>
                  <a:latin typeface="Humanst521 BT"/>
                </a:endParaRPr>
              </a:p>
            </p:txBody>
          </p:sp>
          <p:grpSp>
            <p:nvGrpSpPr>
              <p:cNvPr id="196" name="Group 16"/>
              <p:cNvGrpSpPr/>
              <p:nvPr/>
            </p:nvGrpSpPr>
            <p:grpSpPr>
              <a:xfrm>
                <a:off x="6896160" y="2859480"/>
                <a:ext cx="674640" cy="863280"/>
                <a:chOff x="6896160" y="2859480"/>
                <a:chExt cx="674640" cy="863280"/>
              </a:xfrm>
            </p:grpSpPr>
            <p:sp>
              <p:nvSpPr>
                <p:cNvPr id="197" name="Freeform 17"/>
                <p:cNvSpPr/>
                <p:nvPr/>
              </p:nvSpPr>
              <p:spPr>
                <a:xfrm flipH="1">
                  <a:off x="6896160" y="2859480"/>
                  <a:ext cx="674640" cy="863280"/>
                </a:xfrm>
                <a:custGeom>
                  <a:avLst/>
                  <a:gdLst>
                    <a:gd name="textAreaLeft" fmla="*/ 360 w 674640"/>
                    <a:gd name="textAreaRight" fmla="*/ 675360 w 674640"/>
                    <a:gd name="textAreaTop" fmla="*/ 0 h 863280"/>
                    <a:gd name="textAreaBottom" fmla="*/ 863640 h 863280"/>
                  </a:gdLst>
                  <a:ahLst/>
                  <a:rect l="textAreaLeft" t="textAreaTop" r="textAreaRight" b="textAreaBottom"/>
                  <a:pathLst>
                    <a:path w="2404" h="3049">
                      <a:moveTo>
                        <a:pt x="1156" y="31"/>
                      </a:moveTo>
                      <a:lnTo>
                        <a:pt x="1142" y="44"/>
                      </a:lnTo>
                      <a:lnTo>
                        <a:pt x="1130" y="59"/>
                      </a:lnTo>
                      <a:lnTo>
                        <a:pt x="1118" y="74"/>
                      </a:lnTo>
                      <a:lnTo>
                        <a:pt x="1107" y="88"/>
                      </a:lnTo>
                      <a:lnTo>
                        <a:pt x="1096" y="103"/>
                      </a:lnTo>
                      <a:lnTo>
                        <a:pt x="1088" y="120"/>
                      </a:lnTo>
                      <a:lnTo>
                        <a:pt x="1083" y="139"/>
                      </a:lnTo>
                      <a:lnTo>
                        <a:pt x="1082" y="159"/>
                      </a:lnTo>
                      <a:lnTo>
                        <a:pt x="1076" y="163"/>
                      </a:lnTo>
                      <a:lnTo>
                        <a:pt x="1070" y="168"/>
                      </a:lnTo>
                      <a:lnTo>
                        <a:pt x="1065" y="172"/>
                      </a:lnTo>
                      <a:lnTo>
                        <a:pt x="1066" y="178"/>
                      </a:lnTo>
                      <a:lnTo>
                        <a:pt x="1075" y="178"/>
                      </a:lnTo>
                      <a:lnTo>
                        <a:pt x="1090" y="164"/>
                      </a:lnTo>
                      <a:lnTo>
                        <a:pt x="1108" y="151"/>
                      </a:lnTo>
                      <a:lnTo>
                        <a:pt x="1125" y="137"/>
                      </a:lnTo>
                      <a:lnTo>
                        <a:pt x="1142" y="125"/>
                      </a:lnTo>
                      <a:lnTo>
                        <a:pt x="1157" y="110"/>
                      </a:lnTo>
                      <a:lnTo>
                        <a:pt x="1172" y="96"/>
                      </a:lnTo>
                      <a:lnTo>
                        <a:pt x="1183" y="80"/>
                      </a:lnTo>
                      <a:lnTo>
                        <a:pt x="1193" y="63"/>
                      </a:lnTo>
                      <a:lnTo>
                        <a:pt x="1211" y="49"/>
                      </a:lnTo>
                      <a:lnTo>
                        <a:pt x="1204" y="61"/>
                      </a:lnTo>
                      <a:lnTo>
                        <a:pt x="1196" y="76"/>
                      </a:lnTo>
                      <a:lnTo>
                        <a:pt x="1189" y="88"/>
                      </a:lnTo>
                      <a:lnTo>
                        <a:pt x="1183" y="103"/>
                      </a:lnTo>
                      <a:lnTo>
                        <a:pt x="1175" y="116"/>
                      </a:lnTo>
                      <a:lnTo>
                        <a:pt x="1169" y="130"/>
                      </a:lnTo>
                      <a:lnTo>
                        <a:pt x="1162" y="145"/>
                      </a:lnTo>
                      <a:lnTo>
                        <a:pt x="1158" y="159"/>
                      </a:lnTo>
                      <a:lnTo>
                        <a:pt x="1163" y="166"/>
                      </a:lnTo>
                      <a:lnTo>
                        <a:pt x="1172" y="170"/>
                      </a:lnTo>
                      <a:lnTo>
                        <a:pt x="1178" y="164"/>
                      </a:lnTo>
                      <a:lnTo>
                        <a:pt x="1185" y="158"/>
                      </a:lnTo>
                      <a:lnTo>
                        <a:pt x="1190" y="151"/>
                      </a:lnTo>
                      <a:lnTo>
                        <a:pt x="1195" y="145"/>
                      </a:lnTo>
                      <a:lnTo>
                        <a:pt x="1199" y="137"/>
                      </a:lnTo>
                      <a:lnTo>
                        <a:pt x="1202" y="130"/>
                      </a:lnTo>
                      <a:lnTo>
                        <a:pt x="1206" y="123"/>
                      </a:lnTo>
                      <a:lnTo>
                        <a:pt x="1213" y="118"/>
                      </a:lnTo>
                      <a:lnTo>
                        <a:pt x="1212" y="126"/>
                      </a:lnTo>
                      <a:lnTo>
                        <a:pt x="1207" y="136"/>
                      </a:lnTo>
                      <a:lnTo>
                        <a:pt x="1200" y="145"/>
                      </a:lnTo>
                      <a:lnTo>
                        <a:pt x="1195" y="154"/>
                      </a:lnTo>
                      <a:lnTo>
                        <a:pt x="1193" y="162"/>
                      </a:lnTo>
                      <a:lnTo>
                        <a:pt x="1190" y="169"/>
                      </a:lnTo>
                      <a:lnTo>
                        <a:pt x="1189" y="175"/>
                      </a:lnTo>
                      <a:lnTo>
                        <a:pt x="1195" y="184"/>
                      </a:lnTo>
                      <a:lnTo>
                        <a:pt x="1202" y="183"/>
                      </a:lnTo>
                      <a:lnTo>
                        <a:pt x="1210" y="180"/>
                      </a:lnTo>
                      <a:lnTo>
                        <a:pt x="1215" y="174"/>
                      </a:lnTo>
                      <a:lnTo>
                        <a:pt x="1221" y="168"/>
                      </a:lnTo>
                      <a:lnTo>
                        <a:pt x="1224" y="159"/>
                      </a:lnTo>
                      <a:lnTo>
                        <a:pt x="1231" y="152"/>
                      </a:lnTo>
                      <a:lnTo>
                        <a:pt x="1237" y="145"/>
                      </a:lnTo>
                      <a:lnTo>
                        <a:pt x="1245" y="141"/>
                      </a:lnTo>
                      <a:lnTo>
                        <a:pt x="1266" y="147"/>
                      </a:lnTo>
                      <a:lnTo>
                        <a:pt x="1259" y="156"/>
                      </a:lnTo>
                      <a:lnTo>
                        <a:pt x="1253" y="164"/>
                      </a:lnTo>
                      <a:lnTo>
                        <a:pt x="1245" y="173"/>
                      </a:lnTo>
                      <a:lnTo>
                        <a:pt x="1239" y="183"/>
                      </a:lnTo>
                      <a:lnTo>
                        <a:pt x="1232" y="191"/>
                      </a:lnTo>
                      <a:lnTo>
                        <a:pt x="1224" y="201"/>
                      </a:lnTo>
                      <a:lnTo>
                        <a:pt x="1217" y="210"/>
                      </a:lnTo>
                      <a:lnTo>
                        <a:pt x="1213" y="221"/>
                      </a:lnTo>
                      <a:lnTo>
                        <a:pt x="1215" y="224"/>
                      </a:lnTo>
                      <a:lnTo>
                        <a:pt x="1218" y="228"/>
                      </a:lnTo>
                      <a:lnTo>
                        <a:pt x="1222" y="231"/>
                      </a:lnTo>
                      <a:lnTo>
                        <a:pt x="1229" y="233"/>
                      </a:lnTo>
                      <a:lnTo>
                        <a:pt x="1269" y="200"/>
                      </a:lnTo>
                      <a:lnTo>
                        <a:pt x="1264" y="212"/>
                      </a:lnTo>
                      <a:lnTo>
                        <a:pt x="1256" y="223"/>
                      </a:lnTo>
                      <a:lnTo>
                        <a:pt x="1245" y="233"/>
                      </a:lnTo>
                      <a:lnTo>
                        <a:pt x="1235" y="243"/>
                      </a:lnTo>
                      <a:lnTo>
                        <a:pt x="1222" y="250"/>
                      </a:lnTo>
                      <a:lnTo>
                        <a:pt x="1210" y="259"/>
                      </a:lnTo>
                      <a:lnTo>
                        <a:pt x="1196" y="267"/>
                      </a:lnTo>
                      <a:lnTo>
                        <a:pt x="1185" y="276"/>
                      </a:lnTo>
                      <a:lnTo>
                        <a:pt x="1075" y="350"/>
                      </a:lnTo>
                      <a:lnTo>
                        <a:pt x="1077" y="357"/>
                      </a:lnTo>
                      <a:lnTo>
                        <a:pt x="1085" y="362"/>
                      </a:lnTo>
                      <a:lnTo>
                        <a:pt x="1096" y="362"/>
                      </a:lnTo>
                      <a:lnTo>
                        <a:pt x="1107" y="359"/>
                      </a:lnTo>
                      <a:lnTo>
                        <a:pt x="1117" y="354"/>
                      </a:lnTo>
                      <a:lnTo>
                        <a:pt x="1128" y="350"/>
                      </a:lnTo>
                      <a:lnTo>
                        <a:pt x="1139" y="343"/>
                      </a:lnTo>
                      <a:lnTo>
                        <a:pt x="1150" y="338"/>
                      </a:lnTo>
                      <a:lnTo>
                        <a:pt x="1161" y="334"/>
                      </a:lnTo>
                      <a:lnTo>
                        <a:pt x="1173" y="329"/>
                      </a:lnTo>
                      <a:lnTo>
                        <a:pt x="1184" y="323"/>
                      </a:lnTo>
                      <a:lnTo>
                        <a:pt x="1195" y="319"/>
                      </a:lnTo>
                      <a:lnTo>
                        <a:pt x="1206" y="314"/>
                      </a:lnTo>
                      <a:lnTo>
                        <a:pt x="1217" y="313"/>
                      </a:lnTo>
                      <a:lnTo>
                        <a:pt x="1208" y="323"/>
                      </a:lnTo>
                      <a:lnTo>
                        <a:pt x="1200" y="332"/>
                      </a:lnTo>
                      <a:lnTo>
                        <a:pt x="1188" y="340"/>
                      </a:lnTo>
                      <a:lnTo>
                        <a:pt x="1177" y="348"/>
                      </a:lnTo>
                      <a:lnTo>
                        <a:pt x="1163" y="353"/>
                      </a:lnTo>
                      <a:lnTo>
                        <a:pt x="1150" y="359"/>
                      </a:lnTo>
                      <a:lnTo>
                        <a:pt x="1136" y="364"/>
                      </a:lnTo>
                      <a:lnTo>
                        <a:pt x="1125" y="370"/>
                      </a:lnTo>
                      <a:lnTo>
                        <a:pt x="1119" y="381"/>
                      </a:lnTo>
                      <a:lnTo>
                        <a:pt x="1112" y="391"/>
                      </a:lnTo>
                      <a:lnTo>
                        <a:pt x="1102" y="399"/>
                      </a:lnTo>
                      <a:lnTo>
                        <a:pt x="1092" y="406"/>
                      </a:lnTo>
                      <a:lnTo>
                        <a:pt x="1079" y="411"/>
                      </a:lnTo>
                      <a:lnTo>
                        <a:pt x="1068" y="417"/>
                      </a:lnTo>
                      <a:lnTo>
                        <a:pt x="1055" y="422"/>
                      </a:lnTo>
                      <a:lnTo>
                        <a:pt x="1045" y="428"/>
                      </a:lnTo>
                      <a:lnTo>
                        <a:pt x="1037" y="435"/>
                      </a:lnTo>
                      <a:lnTo>
                        <a:pt x="1030" y="440"/>
                      </a:lnTo>
                      <a:lnTo>
                        <a:pt x="1020" y="444"/>
                      </a:lnTo>
                      <a:lnTo>
                        <a:pt x="1011" y="448"/>
                      </a:lnTo>
                      <a:lnTo>
                        <a:pt x="1001" y="450"/>
                      </a:lnTo>
                      <a:lnTo>
                        <a:pt x="994" y="455"/>
                      </a:lnTo>
                      <a:lnTo>
                        <a:pt x="987" y="461"/>
                      </a:lnTo>
                      <a:lnTo>
                        <a:pt x="983" y="472"/>
                      </a:lnTo>
                      <a:lnTo>
                        <a:pt x="984" y="477"/>
                      </a:lnTo>
                      <a:lnTo>
                        <a:pt x="989" y="481"/>
                      </a:lnTo>
                      <a:lnTo>
                        <a:pt x="994" y="481"/>
                      </a:lnTo>
                      <a:lnTo>
                        <a:pt x="1000" y="482"/>
                      </a:lnTo>
                      <a:lnTo>
                        <a:pt x="1005" y="482"/>
                      </a:lnTo>
                      <a:lnTo>
                        <a:pt x="1010" y="483"/>
                      </a:lnTo>
                      <a:lnTo>
                        <a:pt x="1011" y="488"/>
                      </a:lnTo>
                      <a:lnTo>
                        <a:pt x="1011" y="497"/>
                      </a:lnTo>
                      <a:lnTo>
                        <a:pt x="993" y="503"/>
                      </a:lnTo>
                      <a:lnTo>
                        <a:pt x="974" y="511"/>
                      </a:lnTo>
                      <a:lnTo>
                        <a:pt x="956" y="521"/>
                      </a:lnTo>
                      <a:lnTo>
                        <a:pt x="940" y="535"/>
                      </a:lnTo>
                      <a:lnTo>
                        <a:pt x="924" y="548"/>
                      </a:lnTo>
                      <a:lnTo>
                        <a:pt x="909" y="563"/>
                      </a:lnTo>
                      <a:lnTo>
                        <a:pt x="896" y="579"/>
                      </a:lnTo>
                      <a:lnTo>
                        <a:pt x="886" y="596"/>
                      </a:lnTo>
                      <a:lnTo>
                        <a:pt x="893" y="602"/>
                      </a:lnTo>
                      <a:lnTo>
                        <a:pt x="893" y="610"/>
                      </a:lnTo>
                      <a:lnTo>
                        <a:pt x="889" y="616"/>
                      </a:lnTo>
                      <a:lnTo>
                        <a:pt x="884" y="623"/>
                      </a:lnTo>
                      <a:lnTo>
                        <a:pt x="878" y="628"/>
                      </a:lnTo>
                      <a:lnTo>
                        <a:pt x="875" y="634"/>
                      </a:lnTo>
                      <a:lnTo>
                        <a:pt x="879" y="639"/>
                      </a:lnTo>
                      <a:lnTo>
                        <a:pt x="893" y="644"/>
                      </a:lnTo>
                      <a:lnTo>
                        <a:pt x="901" y="639"/>
                      </a:lnTo>
                      <a:lnTo>
                        <a:pt x="909" y="637"/>
                      </a:lnTo>
                      <a:lnTo>
                        <a:pt x="917" y="633"/>
                      </a:lnTo>
                      <a:lnTo>
                        <a:pt x="925" y="630"/>
                      </a:lnTo>
                      <a:lnTo>
                        <a:pt x="917" y="641"/>
                      </a:lnTo>
                      <a:lnTo>
                        <a:pt x="908" y="654"/>
                      </a:lnTo>
                      <a:lnTo>
                        <a:pt x="900" y="666"/>
                      </a:lnTo>
                      <a:lnTo>
                        <a:pt x="892" y="678"/>
                      </a:lnTo>
                      <a:lnTo>
                        <a:pt x="881" y="689"/>
                      </a:lnTo>
                      <a:lnTo>
                        <a:pt x="871" y="700"/>
                      </a:lnTo>
                      <a:lnTo>
                        <a:pt x="860" y="710"/>
                      </a:lnTo>
                      <a:lnTo>
                        <a:pt x="848" y="720"/>
                      </a:lnTo>
                      <a:lnTo>
                        <a:pt x="846" y="728"/>
                      </a:lnTo>
                      <a:lnTo>
                        <a:pt x="852" y="738"/>
                      </a:lnTo>
                      <a:lnTo>
                        <a:pt x="858" y="738"/>
                      </a:lnTo>
                      <a:lnTo>
                        <a:pt x="864" y="738"/>
                      </a:lnTo>
                      <a:lnTo>
                        <a:pt x="870" y="738"/>
                      </a:lnTo>
                      <a:lnTo>
                        <a:pt x="878" y="741"/>
                      </a:lnTo>
                      <a:lnTo>
                        <a:pt x="868" y="754"/>
                      </a:lnTo>
                      <a:lnTo>
                        <a:pt x="858" y="768"/>
                      </a:lnTo>
                      <a:lnTo>
                        <a:pt x="846" y="780"/>
                      </a:lnTo>
                      <a:lnTo>
                        <a:pt x="835" y="792"/>
                      </a:lnTo>
                      <a:lnTo>
                        <a:pt x="820" y="802"/>
                      </a:lnTo>
                      <a:lnTo>
                        <a:pt x="806" y="813"/>
                      </a:lnTo>
                      <a:lnTo>
                        <a:pt x="792" y="824"/>
                      </a:lnTo>
                      <a:lnTo>
                        <a:pt x="778" y="835"/>
                      </a:lnTo>
                      <a:lnTo>
                        <a:pt x="748" y="859"/>
                      </a:lnTo>
                      <a:lnTo>
                        <a:pt x="719" y="884"/>
                      </a:lnTo>
                      <a:lnTo>
                        <a:pt x="691" y="910"/>
                      </a:lnTo>
                      <a:lnTo>
                        <a:pt x="665" y="938"/>
                      </a:lnTo>
                      <a:lnTo>
                        <a:pt x="637" y="964"/>
                      </a:lnTo>
                      <a:lnTo>
                        <a:pt x="610" y="990"/>
                      </a:lnTo>
                      <a:lnTo>
                        <a:pt x="581" y="1014"/>
                      </a:lnTo>
                      <a:lnTo>
                        <a:pt x="551" y="1038"/>
                      </a:lnTo>
                      <a:lnTo>
                        <a:pt x="538" y="1050"/>
                      </a:lnTo>
                      <a:lnTo>
                        <a:pt x="527" y="1066"/>
                      </a:lnTo>
                      <a:lnTo>
                        <a:pt x="517" y="1081"/>
                      </a:lnTo>
                      <a:lnTo>
                        <a:pt x="509" y="1099"/>
                      </a:lnTo>
                      <a:lnTo>
                        <a:pt x="500" y="1115"/>
                      </a:lnTo>
                      <a:lnTo>
                        <a:pt x="491" y="1132"/>
                      </a:lnTo>
                      <a:lnTo>
                        <a:pt x="480" y="1148"/>
                      </a:lnTo>
                      <a:lnTo>
                        <a:pt x="471" y="1164"/>
                      </a:lnTo>
                      <a:lnTo>
                        <a:pt x="458" y="1190"/>
                      </a:lnTo>
                      <a:lnTo>
                        <a:pt x="446" y="1215"/>
                      </a:lnTo>
                      <a:lnTo>
                        <a:pt x="435" y="1241"/>
                      </a:lnTo>
                      <a:lnTo>
                        <a:pt x="424" y="1267"/>
                      </a:lnTo>
                      <a:lnTo>
                        <a:pt x="413" y="1293"/>
                      </a:lnTo>
                      <a:lnTo>
                        <a:pt x="402" y="1320"/>
                      </a:lnTo>
                      <a:lnTo>
                        <a:pt x="391" y="1347"/>
                      </a:lnTo>
                      <a:lnTo>
                        <a:pt x="381" y="1374"/>
                      </a:lnTo>
                      <a:lnTo>
                        <a:pt x="376" y="1383"/>
                      </a:lnTo>
                      <a:lnTo>
                        <a:pt x="373" y="1394"/>
                      </a:lnTo>
                      <a:lnTo>
                        <a:pt x="368" y="1406"/>
                      </a:lnTo>
                      <a:lnTo>
                        <a:pt x="364" y="1417"/>
                      </a:lnTo>
                      <a:lnTo>
                        <a:pt x="359" y="1428"/>
                      </a:lnTo>
                      <a:lnTo>
                        <a:pt x="354" y="1439"/>
                      </a:lnTo>
                      <a:lnTo>
                        <a:pt x="350" y="1450"/>
                      </a:lnTo>
                      <a:lnTo>
                        <a:pt x="347" y="1461"/>
                      </a:lnTo>
                      <a:lnTo>
                        <a:pt x="347" y="1473"/>
                      </a:lnTo>
                      <a:lnTo>
                        <a:pt x="346" y="1485"/>
                      </a:lnTo>
                      <a:lnTo>
                        <a:pt x="342" y="1498"/>
                      </a:lnTo>
                      <a:lnTo>
                        <a:pt x="339" y="1511"/>
                      </a:lnTo>
                      <a:lnTo>
                        <a:pt x="333" y="1522"/>
                      </a:lnTo>
                      <a:lnTo>
                        <a:pt x="328" y="1533"/>
                      </a:lnTo>
                      <a:lnTo>
                        <a:pt x="322" y="1544"/>
                      </a:lnTo>
                      <a:lnTo>
                        <a:pt x="316" y="1555"/>
                      </a:lnTo>
                      <a:lnTo>
                        <a:pt x="305" y="1581"/>
                      </a:lnTo>
                      <a:lnTo>
                        <a:pt x="297" y="1607"/>
                      </a:lnTo>
                      <a:lnTo>
                        <a:pt x="288" y="1632"/>
                      </a:lnTo>
                      <a:lnTo>
                        <a:pt x="281" y="1658"/>
                      </a:lnTo>
                      <a:lnTo>
                        <a:pt x="272" y="1684"/>
                      </a:lnTo>
                      <a:lnTo>
                        <a:pt x="265" y="1711"/>
                      </a:lnTo>
                      <a:lnTo>
                        <a:pt x="257" y="1738"/>
                      </a:lnTo>
                      <a:lnTo>
                        <a:pt x="250" y="1766"/>
                      </a:lnTo>
                      <a:lnTo>
                        <a:pt x="244" y="1772"/>
                      </a:lnTo>
                      <a:lnTo>
                        <a:pt x="241" y="1781"/>
                      </a:lnTo>
                      <a:lnTo>
                        <a:pt x="238" y="1788"/>
                      </a:lnTo>
                      <a:lnTo>
                        <a:pt x="238" y="1798"/>
                      </a:lnTo>
                      <a:lnTo>
                        <a:pt x="236" y="1807"/>
                      </a:lnTo>
                      <a:lnTo>
                        <a:pt x="236" y="1815"/>
                      </a:lnTo>
                      <a:lnTo>
                        <a:pt x="236" y="1824"/>
                      </a:lnTo>
                      <a:lnTo>
                        <a:pt x="236" y="1834"/>
                      </a:lnTo>
                      <a:lnTo>
                        <a:pt x="228" y="1850"/>
                      </a:lnTo>
                      <a:lnTo>
                        <a:pt x="223" y="1867"/>
                      </a:lnTo>
                      <a:lnTo>
                        <a:pt x="219" y="1885"/>
                      </a:lnTo>
                      <a:lnTo>
                        <a:pt x="216" y="1905"/>
                      </a:lnTo>
                      <a:lnTo>
                        <a:pt x="211" y="1923"/>
                      </a:lnTo>
                      <a:lnTo>
                        <a:pt x="206" y="1942"/>
                      </a:lnTo>
                      <a:lnTo>
                        <a:pt x="201" y="1959"/>
                      </a:lnTo>
                      <a:lnTo>
                        <a:pt x="195" y="1976"/>
                      </a:lnTo>
                      <a:lnTo>
                        <a:pt x="197" y="1984"/>
                      </a:lnTo>
                      <a:lnTo>
                        <a:pt x="187" y="2014"/>
                      </a:lnTo>
                      <a:lnTo>
                        <a:pt x="180" y="2043"/>
                      </a:lnTo>
                      <a:lnTo>
                        <a:pt x="174" y="2073"/>
                      </a:lnTo>
                      <a:lnTo>
                        <a:pt x="169" y="2102"/>
                      </a:lnTo>
                      <a:lnTo>
                        <a:pt x="164" y="2132"/>
                      </a:lnTo>
                      <a:lnTo>
                        <a:pt x="159" y="2161"/>
                      </a:lnTo>
                      <a:lnTo>
                        <a:pt x="154" y="2190"/>
                      </a:lnTo>
                      <a:lnTo>
                        <a:pt x="149" y="2220"/>
                      </a:lnTo>
                      <a:lnTo>
                        <a:pt x="148" y="2230"/>
                      </a:lnTo>
                      <a:lnTo>
                        <a:pt x="146" y="2242"/>
                      </a:lnTo>
                      <a:lnTo>
                        <a:pt x="145" y="2252"/>
                      </a:lnTo>
                      <a:lnTo>
                        <a:pt x="151" y="2260"/>
                      </a:lnTo>
                      <a:lnTo>
                        <a:pt x="162" y="2233"/>
                      </a:lnTo>
                      <a:lnTo>
                        <a:pt x="175" y="2208"/>
                      </a:lnTo>
                      <a:lnTo>
                        <a:pt x="189" y="2182"/>
                      </a:lnTo>
                      <a:lnTo>
                        <a:pt x="203" y="2156"/>
                      </a:lnTo>
                      <a:lnTo>
                        <a:pt x="217" y="2129"/>
                      </a:lnTo>
                      <a:lnTo>
                        <a:pt x="230" y="2103"/>
                      </a:lnTo>
                      <a:lnTo>
                        <a:pt x="244" y="2078"/>
                      </a:lnTo>
                      <a:lnTo>
                        <a:pt x="257" y="2052"/>
                      </a:lnTo>
                      <a:lnTo>
                        <a:pt x="261" y="2042"/>
                      </a:lnTo>
                      <a:lnTo>
                        <a:pt x="267" y="2033"/>
                      </a:lnTo>
                      <a:lnTo>
                        <a:pt x="271" y="2025"/>
                      </a:lnTo>
                      <a:lnTo>
                        <a:pt x="277" y="2018"/>
                      </a:lnTo>
                      <a:lnTo>
                        <a:pt x="281" y="2009"/>
                      </a:lnTo>
                      <a:lnTo>
                        <a:pt x="286" y="2000"/>
                      </a:lnTo>
                      <a:lnTo>
                        <a:pt x="289" y="1992"/>
                      </a:lnTo>
                      <a:lnTo>
                        <a:pt x="294" y="1984"/>
                      </a:lnTo>
                      <a:lnTo>
                        <a:pt x="301" y="1971"/>
                      </a:lnTo>
                      <a:lnTo>
                        <a:pt x="310" y="1959"/>
                      </a:lnTo>
                      <a:lnTo>
                        <a:pt x="319" y="1945"/>
                      </a:lnTo>
                      <a:lnTo>
                        <a:pt x="327" y="1933"/>
                      </a:lnTo>
                      <a:lnTo>
                        <a:pt x="336" y="1921"/>
                      </a:lnTo>
                      <a:lnTo>
                        <a:pt x="347" y="1908"/>
                      </a:lnTo>
                      <a:lnTo>
                        <a:pt x="358" y="1897"/>
                      </a:lnTo>
                      <a:lnTo>
                        <a:pt x="371" y="1889"/>
                      </a:lnTo>
                      <a:lnTo>
                        <a:pt x="374" y="1881"/>
                      </a:lnTo>
                      <a:lnTo>
                        <a:pt x="377" y="1874"/>
                      </a:lnTo>
                      <a:lnTo>
                        <a:pt x="381" y="1868"/>
                      </a:lnTo>
                      <a:lnTo>
                        <a:pt x="386" y="1863"/>
                      </a:lnTo>
                      <a:lnTo>
                        <a:pt x="395" y="1850"/>
                      </a:lnTo>
                      <a:lnTo>
                        <a:pt x="404" y="1837"/>
                      </a:lnTo>
                      <a:lnTo>
                        <a:pt x="412" y="1831"/>
                      </a:lnTo>
                      <a:lnTo>
                        <a:pt x="418" y="1825"/>
                      </a:lnTo>
                      <a:lnTo>
                        <a:pt x="423" y="1818"/>
                      </a:lnTo>
                      <a:lnTo>
                        <a:pt x="429" y="1811"/>
                      </a:lnTo>
                      <a:lnTo>
                        <a:pt x="433" y="1804"/>
                      </a:lnTo>
                      <a:lnTo>
                        <a:pt x="439" y="1797"/>
                      </a:lnTo>
                      <a:lnTo>
                        <a:pt x="445" y="1789"/>
                      </a:lnTo>
                      <a:lnTo>
                        <a:pt x="455" y="1785"/>
                      </a:lnTo>
                      <a:lnTo>
                        <a:pt x="462" y="1770"/>
                      </a:lnTo>
                      <a:lnTo>
                        <a:pt x="471" y="1755"/>
                      </a:lnTo>
                      <a:lnTo>
                        <a:pt x="478" y="1742"/>
                      </a:lnTo>
                      <a:lnTo>
                        <a:pt x="488" y="1728"/>
                      </a:lnTo>
                      <a:lnTo>
                        <a:pt x="495" y="1713"/>
                      </a:lnTo>
                      <a:lnTo>
                        <a:pt x="502" y="1700"/>
                      </a:lnTo>
                      <a:lnTo>
                        <a:pt x="509" y="1685"/>
                      </a:lnTo>
                      <a:lnTo>
                        <a:pt x="515" y="1670"/>
                      </a:lnTo>
                      <a:lnTo>
                        <a:pt x="523" y="1643"/>
                      </a:lnTo>
                      <a:lnTo>
                        <a:pt x="529" y="1616"/>
                      </a:lnTo>
                      <a:lnTo>
                        <a:pt x="531" y="1590"/>
                      </a:lnTo>
                      <a:lnTo>
                        <a:pt x="532" y="1563"/>
                      </a:lnTo>
                      <a:lnTo>
                        <a:pt x="529" y="1534"/>
                      </a:lnTo>
                      <a:lnTo>
                        <a:pt x="529" y="1507"/>
                      </a:lnTo>
                      <a:lnTo>
                        <a:pt x="529" y="1480"/>
                      </a:lnTo>
                      <a:lnTo>
                        <a:pt x="533" y="1453"/>
                      </a:lnTo>
                      <a:lnTo>
                        <a:pt x="529" y="1437"/>
                      </a:lnTo>
                      <a:lnTo>
                        <a:pt x="531" y="1421"/>
                      </a:lnTo>
                      <a:lnTo>
                        <a:pt x="532" y="1406"/>
                      </a:lnTo>
                      <a:lnTo>
                        <a:pt x="536" y="1390"/>
                      </a:lnTo>
                      <a:lnTo>
                        <a:pt x="538" y="1372"/>
                      </a:lnTo>
                      <a:lnTo>
                        <a:pt x="542" y="1356"/>
                      </a:lnTo>
                      <a:lnTo>
                        <a:pt x="542" y="1339"/>
                      </a:lnTo>
                      <a:lnTo>
                        <a:pt x="542" y="1325"/>
                      </a:lnTo>
                      <a:lnTo>
                        <a:pt x="544" y="1307"/>
                      </a:lnTo>
                      <a:lnTo>
                        <a:pt x="548" y="1290"/>
                      </a:lnTo>
                      <a:lnTo>
                        <a:pt x="551" y="1272"/>
                      </a:lnTo>
                      <a:lnTo>
                        <a:pt x="558" y="1255"/>
                      </a:lnTo>
                      <a:lnTo>
                        <a:pt x="561" y="1236"/>
                      </a:lnTo>
                      <a:lnTo>
                        <a:pt x="569" y="1220"/>
                      </a:lnTo>
                      <a:lnTo>
                        <a:pt x="576" y="1204"/>
                      </a:lnTo>
                      <a:lnTo>
                        <a:pt x="586" y="1190"/>
                      </a:lnTo>
                      <a:lnTo>
                        <a:pt x="585" y="1181"/>
                      </a:lnTo>
                      <a:lnTo>
                        <a:pt x="587" y="1175"/>
                      </a:lnTo>
                      <a:lnTo>
                        <a:pt x="589" y="1170"/>
                      </a:lnTo>
                      <a:lnTo>
                        <a:pt x="593" y="1166"/>
                      </a:lnTo>
                      <a:lnTo>
                        <a:pt x="602" y="1158"/>
                      </a:lnTo>
                      <a:lnTo>
                        <a:pt x="610" y="1150"/>
                      </a:lnTo>
                      <a:lnTo>
                        <a:pt x="618" y="1147"/>
                      </a:lnTo>
                      <a:lnTo>
                        <a:pt x="626" y="1146"/>
                      </a:lnTo>
                      <a:lnTo>
                        <a:pt x="635" y="1146"/>
                      </a:lnTo>
                      <a:lnTo>
                        <a:pt x="643" y="1150"/>
                      </a:lnTo>
                      <a:lnTo>
                        <a:pt x="647" y="1142"/>
                      </a:lnTo>
                      <a:lnTo>
                        <a:pt x="651" y="1133"/>
                      </a:lnTo>
                      <a:lnTo>
                        <a:pt x="653" y="1123"/>
                      </a:lnTo>
                      <a:lnTo>
                        <a:pt x="656" y="1115"/>
                      </a:lnTo>
                      <a:lnTo>
                        <a:pt x="657" y="1105"/>
                      </a:lnTo>
                      <a:lnTo>
                        <a:pt x="659" y="1095"/>
                      </a:lnTo>
                      <a:lnTo>
                        <a:pt x="663" y="1087"/>
                      </a:lnTo>
                      <a:lnTo>
                        <a:pt x="668" y="1079"/>
                      </a:lnTo>
                      <a:lnTo>
                        <a:pt x="665" y="1077"/>
                      </a:lnTo>
                      <a:lnTo>
                        <a:pt x="675" y="1072"/>
                      </a:lnTo>
                      <a:lnTo>
                        <a:pt x="686" y="1066"/>
                      </a:lnTo>
                      <a:lnTo>
                        <a:pt x="692" y="1057"/>
                      </a:lnTo>
                      <a:lnTo>
                        <a:pt x="696" y="1046"/>
                      </a:lnTo>
                      <a:lnTo>
                        <a:pt x="680" y="1028"/>
                      </a:lnTo>
                      <a:lnTo>
                        <a:pt x="684" y="1020"/>
                      </a:lnTo>
                      <a:lnTo>
                        <a:pt x="690" y="1017"/>
                      </a:lnTo>
                      <a:lnTo>
                        <a:pt x="697" y="1012"/>
                      </a:lnTo>
                      <a:lnTo>
                        <a:pt x="705" y="1009"/>
                      </a:lnTo>
                      <a:lnTo>
                        <a:pt x="712" y="1006"/>
                      </a:lnTo>
                      <a:lnTo>
                        <a:pt x="719" y="1006"/>
                      </a:lnTo>
                      <a:lnTo>
                        <a:pt x="727" y="1004"/>
                      </a:lnTo>
                      <a:lnTo>
                        <a:pt x="735" y="1006"/>
                      </a:lnTo>
                      <a:lnTo>
                        <a:pt x="730" y="1013"/>
                      </a:lnTo>
                      <a:lnTo>
                        <a:pt x="726" y="1022"/>
                      </a:lnTo>
                      <a:lnTo>
                        <a:pt x="719" y="1029"/>
                      </a:lnTo>
                      <a:lnTo>
                        <a:pt x="719" y="1038"/>
                      </a:lnTo>
                      <a:lnTo>
                        <a:pt x="728" y="1034"/>
                      </a:lnTo>
                      <a:lnTo>
                        <a:pt x="737" y="1031"/>
                      </a:lnTo>
                      <a:lnTo>
                        <a:pt x="743" y="1025"/>
                      </a:lnTo>
                      <a:lnTo>
                        <a:pt x="750" y="1020"/>
                      </a:lnTo>
                      <a:lnTo>
                        <a:pt x="756" y="1014"/>
                      </a:lnTo>
                      <a:lnTo>
                        <a:pt x="764" y="1008"/>
                      </a:lnTo>
                      <a:lnTo>
                        <a:pt x="771" y="1003"/>
                      </a:lnTo>
                      <a:lnTo>
                        <a:pt x="781" y="1001"/>
                      </a:lnTo>
                      <a:lnTo>
                        <a:pt x="782" y="990"/>
                      </a:lnTo>
                      <a:lnTo>
                        <a:pt x="781" y="980"/>
                      </a:lnTo>
                      <a:lnTo>
                        <a:pt x="760" y="991"/>
                      </a:lnTo>
                      <a:lnTo>
                        <a:pt x="757" y="979"/>
                      </a:lnTo>
                      <a:lnTo>
                        <a:pt x="760" y="970"/>
                      </a:lnTo>
                      <a:lnTo>
                        <a:pt x="765" y="963"/>
                      </a:lnTo>
                      <a:lnTo>
                        <a:pt x="772" y="957"/>
                      </a:lnTo>
                      <a:lnTo>
                        <a:pt x="779" y="950"/>
                      </a:lnTo>
                      <a:lnTo>
                        <a:pt x="787" y="944"/>
                      </a:lnTo>
                      <a:lnTo>
                        <a:pt x="793" y="938"/>
                      </a:lnTo>
                      <a:lnTo>
                        <a:pt x="799" y="932"/>
                      </a:lnTo>
                      <a:lnTo>
                        <a:pt x="810" y="928"/>
                      </a:lnTo>
                      <a:lnTo>
                        <a:pt x="821" y="921"/>
                      </a:lnTo>
                      <a:lnTo>
                        <a:pt x="825" y="917"/>
                      </a:lnTo>
                      <a:lnTo>
                        <a:pt x="830" y="916"/>
                      </a:lnTo>
                      <a:lnTo>
                        <a:pt x="833" y="919"/>
                      </a:lnTo>
                      <a:lnTo>
                        <a:pt x="838" y="927"/>
                      </a:lnTo>
                      <a:lnTo>
                        <a:pt x="840" y="931"/>
                      </a:lnTo>
                      <a:lnTo>
                        <a:pt x="843" y="935"/>
                      </a:lnTo>
                      <a:lnTo>
                        <a:pt x="847" y="935"/>
                      </a:lnTo>
                      <a:lnTo>
                        <a:pt x="852" y="936"/>
                      </a:lnTo>
                      <a:lnTo>
                        <a:pt x="860" y="930"/>
                      </a:lnTo>
                      <a:lnTo>
                        <a:pt x="865" y="922"/>
                      </a:lnTo>
                      <a:lnTo>
                        <a:pt x="868" y="912"/>
                      </a:lnTo>
                      <a:lnTo>
                        <a:pt x="875" y="906"/>
                      </a:lnTo>
                      <a:lnTo>
                        <a:pt x="878" y="932"/>
                      </a:lnTo>
                      <a:lnTo>
                        <a:pt x="885" y="928"/>
                      </a:lnTo>
                      <a:lnTo>
                        <a:pt x="895" y="926"/>
                      </a:lnTo>
                      <a:lnTo>
                        <a:pt x="902" y="922"/>
                      </a:lnTo>
                      <a:lnTo>
                        <a:pt x="904" y="914"/>
                      </a:lnTo>
                      <a:lnTo>
                        <a:pt x="912" y="904"/>
                      </a:lnTo>
                      <a:lnTo>
                        <a:pt x="919" y="895"/>
                      </a:lnTo>
                      <a:lnTo>
                        <a:pt x="925" y="884"/>
                      </a:lnTo>
                      <a:lnTo>
                        <a:pt x="931" y="874"/>
                      </a:lnTo>
                      <a:lnTo>
                        <a:pt x="936" y="862"/>
                      </a:lnTo>
                      <a:lnTo>
                        <a:pt x="941" y="851"/>
                      </a:lnTo>
                      <a:lnTo>
                        <a:pt x="946" y="840"/>
                      </a:lnTo>
                      <a:lnTo>
                        <a:pt x="954" y="830"/>
                      </a:lnTo>
                      <a:lnTo>
                        <a:pt x="962" y="833"/>
                      </a:lnTo>
                      <a:lnTo>
                        <a:pt x="960" y="840"/>
                      </a:lnTo>
                      <a:lnTo>
                        <a:pt x="960" y="847"/>
                      </a:lnTo>
                      <a:lnTo>
                        <a:pt x="961" y="854"/>
                      </a:lnTo>
                      <a:lnTo>
                        <a:pt x="965" y="861"/>
                      </a:lnTo>
                      <a:lnTo>
                        <a:pt x="971" y="862"/>
                      </a:lnTo>
                      <a:lnTo>
                        <a:pt x="978" y="861"/>
                      </a:lnTo>
                      <a:lnTo>
                        <a:pt x="983" y="860"/>
                      </a:lnTo>
                      <a:lnTo>
                        <a:pt x="988" y="867"/>
                      </a:lnTo>
                      <a:lnTo>
                        <a:pt x="993" y="859"/>
                      </a:lnTo>
                      <a:lnTo>
                        <a:pt x="995" y="847"/>
                      </a:lnTo>
                      <a:lnTo>
                        <a:pt x="995" y="835"/>
                      </a:lnTo>
                      <a:lnTo>
                        <a:pt x="999" y="824"/>
                      </a:lnTo>
                      <a:lnTo>
                        <a:pt x="1020" y="757"/>
                      </a:lnTo>
                      <a:lnTo>
                        <a:pt x="1027" y="749"/>
                      </a:lnTo>
                      <a:lnTo>
                        <a:pt x="1034" y="747"/>
                      </a:lnTo>
                      <a:lnTo>
                        <a:pt x="1043" y="744"/>
                      </a:lnTo>
                      <a:lnTo>
                        <a:pt x="1052" y="746"/>
                      </a:lnTo>
                      <a:lnTo>
                        <a:pt x="1054" y="748"/>
                      </a:lnTo>
                      <a:lnTo>
                        <a:pt x="1053" y="757"/>
                      </a:lnTo>
                      <a:lnTo>
                        <a:pt x="1052" y="768"/>
                      </a:lnTo>
                      <a:lnTo>
                        <a:pt x="1048" y="779"/>
                      </a:lnTo>
                      <a:lnTo>
                        <a:pt x="1047" y="790"/>
                      </a:lnTo>
                      <a:lnTo>
                        <a:pt x="1043" y="801"/>
                      </a:lnTo>
                      <a:lnTo>
                        <a:pt x="1043" y="812"/>
                      </a:lnTo>
                      <a:lnTo>
                        <a:pt x="1044" y="822"/>
                      </a:lnTo>
                      <a:lnTo>
                        <a:pt x="1050" y="833"/>
                      </a:lnTo>
                      <a:lnTo>
                        <a:pt x="1058" y="834"/>
                      </a:lnTo>
                      <a:lnTo>
                        <a:pt x="1064" y="832"/>
                      </a:lnTo>
                      <a:lnTo>
                        <a:pt x="1066" y="827"/>
                      </a:lnTo>
                      <a:lnTo>
                        <a:pt x="1069" y="822"/>
                      </a:lnTo>
                      <a:lnTo>
                        <a:pt x="1070" y="814"/>
                      </a:lnTo>
                      <a:lnTo>
                        <a:pt x="1071" y="807"/>
                      </a:lnTo>
                      <a:lnTo>
                        <a:pt x="1072" y="800"/>
                      </a:lnTo>
                      <a:lnTo>
                        <a:pt x="1077" y="796"/>
                      </a:lnTo>
                      <a:lnTo>
                        <a:pt x="1083" y="792"/>
                      </a:lnTo>
                      <a:lnTo>
                        <a:pt x="1088" y="787"/>
                      </a:lnTo>
                      <a:lnTo>
                        <a:pt x="1091" y="780"/>
                      </a:lnTo>
                      <a:lnTo>
                        <a:pt x="1098" y="775"/>
                      </a:lnTo>
                      <a:lnTo>
                        <a:pt x="1103" y="774"/>
                      </a:lnTo>
                      <a:lnTo>
                        <a:pt x="1110" y="773"/>
                      </a:lnTo>
                      <a:lnTo>
                        <a:pt x="1117" y="770"/>
                      </a:lnTo>
                      <a:lnTo>
                        <a:pt x="1124" y="773"/>
                      </a:lnTo>
                      <a:lnTo>
                        <a:pt x="1124" y="779"/>
                      </a:lnTo>
                      <a:lnTo>
                        <a:pt x="1125" y="786"/>
                      </a:lnTo>
                      <a:lnTo>
                        <a:pt x="1129" y="791"/>
                      </a:lnTo>
                      <a:lnTo>
                        <a:pt x="1135" y="796"/>
                      </a:lnTo>
                      <a:lnTo>
                        <a:pt x="1145" y="787"/>
                      </a:lnTo>
                      <a:lnTo>
                        <a:pt x="1152" y="778"/>
                      </a:lnTo>
                      <a:lnTo>
                        <a:pt x="1157" y="765"/>
                      </a:lnTo>
                      <a:lnTo>
                        <a:pt x="1162" y="754"/>
                      </a:lnTo>
                      <a:lnTo>
                        <a:pt x="1164" y="741"/>
                      </a:lnTo>
                      <a:lnTo>
                        <a:pt x="1168" y="727"/>
                      </a:lnTo>
                      <a:lnTo>
                        <a:pt x="1173" y="715"/>
                      </a:lnTo>
                      <a:lnTo>
                        <a:pt x="1179" y="704"/>
                      </a:lnTo>
                      <a:lnTo>
                        <a:pt x="1183" y="693"/>
                      </a:lnTo>
                      <a:lnTo>
                        <a:pt x="1186" y="682"/>
                      </a:lnTo>
                      <a:lnTo>
                        <a:pt x="1191" y="671"/>
                      </a:lnTo>
                      <a:lnTo>
                        <a:pt x="1201" y="665"/>
                      </a:lnTo>
                      <a:lnTo>
                        <a:pt x="1216" y="667"/>
                      </a:lnTo>
                      <a:lnTo>
                        <a:pt x="1215" y="678"/>
                      </a:lnTo>
                      <a:lnTo>
                        <a:pt x="1212" y="689"/>
                      </a:lnTo>
                      <a:lnTo>
                        <a:pt x="1210" y="700"/>
                      </a:lnTo>
                      <a:lnTo>
                        <a:pt x="1208" y="713"/>
                      </a:lnTo>
                      <a:lnTo>
                        <a:pt x="1205" y="724"/>
                      </a:lnTo>
                      <a:lnTo>
                        <a:pt x="1205" y="735"/>
                      </a:lnTo>
                      <a:lnTo>
                        <a:pt x="1205" y="746"/>
                      </a:lnTo>
                      <a:lnTo>
                        <a:pt x="1208" y="757"/>
                      </a:lnTo>
                      <a:lnTo>
                        <a:pt x="1218" y="757"/>
                      </a:lnTo>
                      <a:lnTo>
                        <a:pt x="1229" y="752"/>
                      </a:lnTo>
                      <a:lnTo>
                        <a:pt x="1235" y="736"/>
                      </a:lnTo>
                      <a:lnTo>
                        <a:pt x="1234" y="744"/>
                      </a:lnTo>
                      <a:lnTo>
                        <a:pt x="1234" y="754"/>
                      </a:lnTo>
                      <a:lnTo>
                        <a:pt x="1235" y="763"/>
                      </a:lnTo>
                      <a:lnTo>
                        <a:pt x="1238" y="773"/>
                      </a:lnTo>
                      <a:lnTo>
                        <a:pt x="1246" y="764"/>
                      </a:lnTo>
                      <a:lnTo>
                        <a:pt x="1254" y="755"/>
                      </a:lnTo>
                      <a:lnTo>
                        <a:pt x="1259" y="744"/>
                      </a:lnTo>
                      <a:lnTo>
                        <a:pt x="1266" y="736"/>
                      </a:lnTo>
                      <a:lnTo>
                        <a:pt x="1270" y="728"/>
                      </a:lnTo>
                      <a:lnTo>
                        <a:pt x="1273" y="722"/>
                      </a:lnTo>
                      <a:lnTo>
                        <a:pt x="1277" y="715"/>
                      </a:lnTo>
                      <a:lnTo>
                        <a:pt x="1282" y="709"/>
                      </a:lnTo>
                      <a:lnTo>
                        <a:pt x="1284" y="702"/>
                      </a:lnTo>
                      <a:lnTo>
                        <a:pt x="1288" y="694"/>
                      </a:lnTo>
                      <a:lnTo>
                        <a:pt x="1292" y="687"/>
                      </a:lnTo>
                      <a:lnTo>
                        <a:pt x="1295" y="681"/>
                      </a:lnTo>
                      <a:lnTo>
                        <a:pt x="1297" y="688"/>
                      </a:lnTo>
                      <a:lnTo>
                        <a:pt x="1295" y="695"/>
                      </a:lnTo>
                      <a:lnTo>
                        <a:pt x="1295" y="702"/>
                      </a:lnTo>
                      <a:lnTo>
                        <a:pt x="1303" y="706"/>
                      </a:lnTo>
                      <a:lnTo>
                        <a:pt x="1311" y="703"/>
                      </a:lnTo>
                      <a:lnTo>
                        <a:pt x="1319" y="698"/>
                      </a:lnTo>
                      <a:lnTo>
                        <a:pt x="1324" y="689"/>
                      </a:lnTo>
                      <a:lnTo>
                        <a:pt x="1329" y="681"/>
                      </a:lnTo>
                      <a:lnTo>
                        <a:pt x="1332" y="670"/>
                      </a:lnTo>
                      <a:lnTo>
                        <a:pt x="1336" y="660"/>
                      </a:lnTo>
                      <a:lnTo>
                        <a:pt x="1341" y="650"/>
                      </a:lnTo>
                      <a:lnTo>
                        <a:pt x="1348" y="644"/>
                      </a:lnTo>
                      <a:lnTo>
                        <a:pt x="1349" y="638"/>
                      </a:lnTo>
                      <a:lnTo>
                        <a:pt x="1353" y="633"/>
                      </a:lnTo>
                      <a:lnTo>
                        <a:pt x="1358" y="633"/>
                      </a:lnTo>
                      <a:lnTo>
                        <a:pt x="1363" y="637"/>
                      </a:lnTo>
                      <a:lnTo>
                        <a:pt x="1365" y="643"/>
                      </a:lnTo>
                      <a:lnTo>
                        <a:pt x="1369" y="649"/>
                      </a:lnTo>
                      <a:lnTo>
                        <a:pt x="1364" y="659"/>
                      </a:lnTo>
                      <a:lnTo>
                        <a:pt x="1360" y="668"/>
                      </a:lnTo>
                      <a:lnTo>
                        <a:pt x="1356" y="679"/>
                      </a:lnTo>
                      <a:lnTo>
                        <a:pt x="1352" y="690"/>
                      </a:lnTo>
                      <a:lnTo>
                        <a:pt x="1347" y="702"/>
                      </a:lnTo>
                      <a:lnTo>
                        <a:pt x="1343" y="713"/>
                      </a:lnTo>
                      <a:lnTo>
                        <a:pt x="1340" y="724"/>
                      </a:lnTo>
                      <a:lnTo>
                        <a:pt x="1337" y="736"/>
                      </a:lnTo>
                      <a:lnTo>
                        <a:pt x="1341" y="741"/>
                      </a:lnTo>
                      <a:lnTo>
                        <a:pt x="1346" y="746"/>
                      </a:lnTo>
                      <a:lnTo>
                        <a:pt x="1348" y="751"/>
                      </a:lnTo>
                      <a:lnTo>
                        <a:pt x="1345" y="757"/>
                      </a:lnTo>
                      <a:lnTo>
                        <a:pt x="1342" y="762"/>
                      </a:lnTo>
                      <a:lnTo>
                        <a:pt x="1345" y="769"/>
                      </a:lnTo>
                      <a:lnTo>
                        <a:pt x="1353" y="758"/>
                      </a:lnTo>
                      <a:lnTo>
                        <a:pt x="1364" y="749"/>
                      </a:lnTo>
                      <a:lnTo>
                        <a:pt x="1374" y="742"/>
                      </a:lnTo>
                      <a:lnTo>
                        <a:pt x="1385" y="735"/>
                      </a:lnTo>
                      <a:lnTo>
                        <a:pt x="1395" y="726"/>
                      </a:lnTo>
                      <a:lnTo>
                        <a:pt x="1406" y="719"/>
                      </a:lnTo>
                      <a:lnTo>
                        <a:pt x="1416" y="710"/>
                      </a:lnTo>
                      <a:lnTo>
                        <a:pt x="1427" y="702"/>
                      </a:lnTo>
                      <a:lnTo>
                        <a:pt x="1429" y="702"/>
                      </a:lnTo>
                      <a:lnTo>
                        <a:pt x="1423" y="713"/>
                      </a:lnTo>
                      <a:lnTo>
                        <a:pt x="1417" y="726"/>
                      </a:lnTo>
                      <a:lnTo>
                        <a:pt x="1414" y="732"/>
                      </a:lnTo>
                      <a:lnTo>
                        <a:pt x="1414" y="738"/>
                      </a:lnTo>
                      <a:lnTo>
                        <a:pt x="1417" y="744"/>
                      </a:lnTo>
                      <a:lnTo>
                        <a:pt x="1424" y="751"/>
                      </a:lnTo>
                      <a:lnTo>
                        <a:pt x="1432" y="746"/>
                      </a:lnTo>
                      <a:lnTo>
                        <a:pt x="1439" y="741"/>
                      </a:lnTo>
                      <a:lnTo>
                        <a:pt x="1444" y="733"/>
                      </a:lnTo>
                      <a:lnTo>
                        <a:pt x="1450" y="726"/>
                      </a:lnTo>
                      <a:lnTo>
                        <a:pt x="1454" y="716"/>
                      </a:lnTo>
                      <a:lnTo>
                        <a:pt x="1460" y="709"/>
                      </a:lnTo>
                      <a:lnTo>
                        <a:pt x="1465" y="702"/>
                      </a:lnTo>
                      <a:lnTo>
                        <a:pt x="1473" y="695"/>
                      </a:lnTo>
                      <a:lnTo>
                        <a:pt x="1474" y="686"/>
                      </a:lnTo>
                      <a:lnTo>
                        <a:pt x="1478" y="677"/>
                      </a:lnTo>
                      <a:lnTo>
                        <a:pt x="1483" y="670"/>
                      </a:lnTo>
                      <a:lnTo>
                        <a:pt x="1492" y="662"/>
                      </a:lnTo>
                      <a:lnTo>
                        <a:pt x="1489" y="667"/>
                      </a:lnTo>
                      <a:lnTo>
                        <a:pt x="1487" y="673"/>
                      </a:lnTo>
                      <a:lnTo>
                        <a:pt x="1484" y="681"/>
                      </a:lnTo>
                      <a:lnTo>
                        <a:pt x="1483" y="688"/>
                      </a:lnTo>
                      <a:lnTo>
                        <a:pt x="1481" y="694"/>
                      </a:lnTo>
                      <a:lnTo>
                        <a:pt x="1481" y="702"/>
                      </a:lnTo>
                      <a:lnTo>
                        <a:pt x="1482" y="708"/>
                      </a:lnTo>
                      <a:lnTo>
                        <a:pt x="1487" y="715"/>
                      </a:lnTo>
                      <a:lnTo>
                        <a:pt x="1493" y="716"/>
                      </a:lnTo>
                      <a:lnTo>
                        <a:pt x="1499" y="714"/>
                      </a:lnTo>
                      <a:lnTo>
                        <a:pt x="1505" y="710"/>
                      </a:lnTo>
                      <a:lnTo>
                        <a:pt x="1510" y="706"/>
                      </a:lnTo>
                      <a:lnTo>
                        <a:pt x="1511" y="695"/>
                      </a:lnTo>
                      <a:lnTo>
                        <a:pt x="1509" y="704"/>
                      </a:lnTo>
                      <a:lnTo>
                        <a:pt x="1506" y="714"/>
                      </a:lnTo>
                      <a:lnTo>
                        <a:pt x="1501" y="722"/>
                      </a:lnTo>
                      <a:lnTo>
                        <a:pt x="1495" y="732"/>
                      </a:lnTo>
                      <a:lnTo>
                        <a:pt x="1490" y="741"/>
                      </a:lnTo>
                      <a:lnTo>
                        <a:pt x="1485" y="751"/>
                      </a:lnTo>
                      <a:lnTo>
                        <a:pt x="1484" y="759"/>
                      </a:lnTo>
                      <a:lnTo>
                        <a:pt x="1492" y="770"/>
                      </a:lnTo>
                      <a:lnTo>
                        <a:pt x="1499" y="769"/>
                      </a:lnTo>
                      <a:lnTo>
                        <a:pt x="1506" y="765"/>
                      </a:lnTo>
                      <a:lnTo>
                        <a:pt x="1511" y="759"/>
                      </a:lnTo>
                      <a:lnTo>
                        <a:pt x="1517" y="753"/>
                      </a:lnTo>
                      <a:lnTo>
                        <a:pt x="1521" y="744"/>
                      </a:lnTo>
                      <a:lnTo>
                        <a:pt x="1525" y="738"/>
                      </a:lnTo>
                      <a:lnTo>
                        <a:pt x="1530" y="731"/>
                      </a:lnTo>
                      <a:lnTo>
                        <a:pt x="1537" y="727"/>
                      </a:lnTo>
                      <a:lnTo>
                        <a:pt x="1526" y="744"/>
                      </a:lnTo>
                      <a:lnTo>
                        <a:pt x="1517" y="763"/>
                      </a:lnTo>
                      <a:lnTo>
                        <a:pt x="1506" y="781"/>
                      </a:lnTo>
                      <a:lnTo>
                        <a:pt x="1498" y="800"/>
                      </a:lnTo>
                      <a:lnTo>
                        <a:pt x="1487" y="817"/>
                      </a:lnTo>
                      <a:lnTo>
                        <a:pt x="1477" y="835"/>
                      </a:lnTo>
                      <a:lnTo>
                        <a:pt x="1466" y="854"/>
                      </a:lnTo>
                      <a:lnTo>
                        <a:pt x="1456" y="872"/>
                      </a:lnTo>
                      <a:lnTo>
                        <a:pt x="1447" y="884"/>
                      </a:lnTo>
                      <a:lnTo>
                        <a:pt x="1436" y="898"/>
                      </a:lnTo>
                      <a:lnTo>
                        <a:pt x="1430" y="904"/>
                      </a:lnTo>
                      <a:lnTo>
                        <a:pt x="1428" y="910"/>
                      </a:lnTo>
                      <a:lnTo>
                        <a:pt x="1427" y="917"/>
                      </a:lnTo>
                      <a:lnTo>
                        <a:pt x="1429" y="927"/>
                      </a:lnTo>
                      <a:lnTo>
                        <a:pt x="1438" y="927"/>
                      </a:lnTo>
                      <a:lnTo>
                        <a:pt x="1447" y="926"/>
                      </a:lnTo>
                      <a:lnTo>
                        <a:pt x="1456" y="926"/>
                      </a:lnTo>
                      <a:lnTo>
                        <a:pt x="1466" y="932"/>
                      </a:lnTo>
                      <a:lnTo>
                        <a:pt x="1461" y="938"/>
                      </a:lnTo>
                      <a:lnTo>
                        <a:pt x="1455" y="944"/>
                      </a:lnTo>
                      <a:lnTo>
                        <a:pt x="1445" y="950"/>
                      </a:lnTo>
                      <a:lnTo>
                        <a:pt x="1438" y="958"/>
                      </a:lnTo>
                      <a:lnTo>
                        <a:pt x="1430" y="963"/>
                      </a:lnTo>
                      <a:lnTo>
                        <a:pt x="1427" y="970"/>
                      </a:lnTo>
                      <a:lnTo>
                        <a:pt x="1427" y="977"/>
                      </a:lnTo>
                      <a:lnTo>
                        <a:pt x="1434" y="987"/>
                      </a:lnTo>
                      <a:lnTo>
                        <a:pt x="1444" y="985"/>
                      </a:lnTo>
                      <a:lnTo>
                        <a:pt x="1454" y="979"/>
                      </a:lnTo>
                      <a:lnTo>
                        <a:pt x="1463" y="971"/>
                      </a:lnTo>
                      <a:lnTo>
                        <a:pt x="1473" y="964"/>
                      </a:lnTo>
                      <a:lnTo>
                        <a:pt x="1482" y="958"/>
                      </a:lnTo>
                      <a:lnTo>
                        <a:pt x="1492" y="957"/>
                      </a:lnTo>
                      <a:lnTo>
                        <a:pt x="1500" y="959"/>
                      </a:lnTo>
                      <a:lnTo>
                        <a:pt x="1510" y="971"/>
                      </a:lnTo>
                      <a:lnTo>
                        <a:pt x="1499" y="979"/>
                      </a:lnTo>
                      <a:lnTo>
                        <a:pt x="1488" y="986"/>
                      </a:lnTo>
                      <a:lnTo>
                        <a:pt x="1477" y="993"/>
                      </a:lnTo>
                      <a:lnTo>
                        <a:pt x="1467" y="1002"/>
                      </a:lnTo>
                      <a:lnTo>
                        <a:pt x="1455" y="1009"/>
                      </a:lnTo>
                      <a:lnTo>
                        <a:pt x="1444" y="1017"/>
                      </a:lnTo>
                      <a:lnTo>
                        <a:pt x="1433" y="1024"/>
                      </a:lnTo>
                      <a:lnTo>
                        <a:pt x="1422" y="1033"/>
                      </a:lnTo>
                      <a:lnTo>
                        <a:pt x="1422" y="1041"/>
                      </a:lnTo>
                      <a:lnTo>
                        <a:pt x="1424" y="1051"/>
                      </a:lnTo>
                      <a:lnTo>
                        <a:pt x="1433" y="1052"/>
                      </a:lnTo>
                      <a:lnTo>
                        <a:pt x="1441" y="1051"/>
                      </a:lnTo>
                      <a:lnTo>
                        <a:pt x="1449" y="1046"/>
                      </a:lnTo>
                      <a:lnTo>
                        <a:pt x="1456" y="1045"/>
                      </a:lnTo>
                      <a:lnTo>
                        <a:pt x="1449" y="1051"/>
                      </a:lnTo>
                      <a:lnTo>
                        <a:pt x="1440" y="1058"/>
                      </a:lnTo>
                      <a:lnTo>
                        <a:pt x="1429" y="1063"/>
                      </a:lnTo>
                      <a:lnTo>
                        <a:pt x="1418" y="1069"/>
                      </a:lnTo>
                      <a:lnTo>
                        <a:pt x="1405" y="1073"/>
                      </a:lnTo>
                      <a:lnTo>
                        <a:pt x="1392" y="1078"/>
                      </a:lnTo>
                      <a:lnTo>
                        <a:pt x="1380" y="1083"/>
                      </a:lnTo>
                      <a:lnTo>
                        <a:pt x="1369" y="1088"/>
                      </a:lnTo>
                      <a:lnTo>
                        <a:pt x="1368" y="1093"/>
                      </a:lnTo>
                      <a:lnTo>
                        <a:pt x="1370" y="1099"/>
                      </a:lnTo>
                      <a:lnTo>
                        <a:pt x="1374" y="1103"/>
                      </a:lnTo>
                      <a:lnTo>
                        <a:pt x="1379" y="1106"/>
                      </a:lnTo>
                      <a:lnTo>
                        <a:pt x="1383" y="1107"/>
                      </a:lnTo>
                      <a:lnTo>
                        <a:pt x="1390" y="1107"/>
                      </a:lnTo>
                      <a:lnTo>
                        <a:pt x="1395" y="1106"/>
                      </a:lnTo>
                      <a:lnTo>
                        <a:pt x="1401" y="1109"/>
                      </a:lnTo>
                      <a:lnTo>
                        <a:pt x="1392" y="1119"/>
                      </a:lnTo>
                      <a:lnTo>
                        <a:pt x="1383" y="1127"/>
                      </a:lnTo>
                      <a:lnTo>
                        <a:pt x="1371" y="1136"/>
                      </a:lnTo>
                      <a:lnTo>
                        <a:pt x="1360" y="1144"/>
                      </a:lnTo>
                      <a:lnTo>
                        <a:pt x="1348" y="1152"/>
                      </a:lnTo>
                      <a:lnTo>
                        <a:pt x="1338" y="1161"/>
                      </a:lnTo>
                      <a:lnTo>
                        <a:pt x="1331" y="1172"/>
                      </a:lnTo>
                      <a:lnTo>
                        <a:pt x="1327" y="1185"/>
                      </a:lnTo>
                      <a:lnTo>
                        <a:pt x="1315" y="1190"/>
                      </a:lnTo>
                      <a:lnTo>
                        <a:pt x="1307" y="1198"/>
                      </a:lnTo>
                      <a:lnTo>
                        <a:pt x="1303" y="1203"/>
                      </a:lnTo>
                      <a:lnTo>
                        <a:pt x="1302" y="1209"/>
                      </a:lnTo>
                      <a:lnTo>
                        <a:pt x="1300" y="1215"/>
                      </a:lnTo>
                      <a:lnTo>
                        <a:pt x="1303" y="1224"/>
                      </a:lnTo>
                      <a:lnTo>
                        <a:pt x="1308" y="1231"/>
                      </a:lnTo>
                      <a:lnTo>
                        <a:pt x="1315" y="1237"/>
                      </a:lnTo>
                      <a:lnTo>
                        <a:pt x="1324" y="1241"/>
                      </a:lnTo>
                      <a:lnTo>
                        <a:pt x="1335" y="1242"/>
                      </a:lnTo>
                      <a:lnTo>
                        <a:pt x="1335" y="1247"/>
                      </a:lnTo>
                      <a:lnTo>
                        <a:pt x="1340" y="1251"/>
                      </a:lnTo>
                      <a:lnTo>
                        <a:pt x="1343" y="1249"/>
                      </a:lnTo>
                      <a:lnTo>
                        <a:pt x="1348" y="1246"/>
                      </a:lnTo>
                      <a:lnTo>
                        <a:pt x="1351" y="1241"/>
                      </a:lnTo>
                      <a:lnTo>
                        <a:pt x="1353" y="1235"/>
                      </a:lnTo>
                      <a:lnTo>
                        <a:pt x="1362" y="1229"/>
                      </a:lnTo>
                      <a:lnTo>
                        <a:pt x="1369" y="1222"/>
                      </a:lnTo>
                      <a:lnTo>
                        <a:pt x="1375" y="1214"/>
                      </a:lnTo>
                      <a:lnTo>
                        <a:pt x="1385" y="1217"/>
                      </a:lnTo>
                      <a:lnTo>
                        <a:pt x="1391" y="1206"/>
                      </a:lnTo>
                      <a:lnTo>
                        <a:pt x="1398" y="1196"/>
                      </a:lnTo>
                      <a:lnTo>
                        <a:pt x="1406" y="1186"/>
                      </a:lnTo>
                      <a:lnTo>
                        <a:pt x="1416" y="1177"/>
                      </a:lnTo>
                      <a:lnTo>
                        <a:pt x="1423" y="1176"/>
                      </a:lnTo>
                      <a:lnTo>
                        <a:pt x="1429" y="1174"/>
                      </a:lnTo>
                      <a:lnTo>
                        <a:pt x="1433" y="1168"/>
                      </a:lnTo>
                      <a:lnTo>
                        <a:pt x="1438" y="1161"/>
                      </a:lnTo>
                      <a:lnTo>
                        <a:pt x="1441" y="1153"/>
                      </a:lnTo>
                      <a:lnTo>
                        <a:pt x="1446" y="1147"/>
                      </a:lnTo>
                      <a:lnTo>
                        <a:pt x="1452" y="1141"/>
                      </a:lnTo>
                      <a:lnTo>
                        <a:pt x="1461" y="1138"/>
                      </a:lnTo>
                      <a:lnTo>
                        <a:pt x="1465" y="1132"/>
                      </a:lnTo>
                      <a:lnTo>
                        <a:pt x="1472" y="1127"/>
                      </a:lnTo>
                      <a:lnTo>
                        <a:pt x="1479" y="1123"/>
                      </a:lnTo>
                      <a:lnTo>
                        <a:pt x="1489" y="1125"/>
                      </a:lnTo>
                      <a:lnTo>
                        <a:pt x="1489" y="1130"/>
                      </a:lnTo>
                      <a:lnTo>
                        <a:pt x="1493" y="1132"/>
                      </a:lnTo>
                      <a:lnTo>
                        <a:pt x="1497" y="1132"/>
                      </a:lnTo>
                      <a:lnTo>
                        <a:pt x="1503" y="1132"/>
                      </a:lnTo>
                      <a:lnTo>
                        <a:pt x="1514" y="1128"/>
                      </a:lnTo>
                      <a:lnTo>
                        <a:pt x="1526" y="1132"/>
                      </a:lnTo>
                      <a:lnTo>
                        <a:pt x="1531" y="1126"/>
                      </a:lnTo>
                      <a:lnTo>
                        <a:pt x="1534" y="1120"/>
                      </a:lnTo>
                      <a:lnTo>
                        <a:pt x="1527" y="1116"/>
                      </a:lnTo>
                      <a:lnTo>
                        <a:pt x="1520" y="1116"/>
                      </a:lnTo>
                      <a:lnTo>
                        <a:pt x="1512" y="1115"/>
                      </a:lnTo>
                      <a:lnTo>
                        <a:pt x="1511" y="1109"/>
                      </a:lnTo>
                      <a:lnTo>
                        <a:pt x="1519" y="1099"/>
                      </a:lnTo>
                      <a:lnTo>
                        <a:pt x="1530" y="1092"/>
                      </a:lnTo>
                      <a:lnTo>
                        <a:pt x="1539" y="1083"/>
                      </a:lnTo>
                      <a:lnTo>
                        <a:pt x="1548" y="1074"/>
                      </a:lnTo>
                      <a:lnTo>
                        <a:pt x="1554" y="1067"/>
                      </a:lnTo>
                      <a:lnTo>
                        <a:pt x="1560" y="1061"/>
                      </a:lnTo>
                      <a:lnTo>
                        <a:pt x="1566" y="1054"/>
                      </a:lnTo>
                      <a:lnTo>
                        <a:pt x="1574" y="1046"/>
                      </a:lnTo>
                      <a:lnTo>
                        <a:pt x="1577" y="1036"/>
                      </a:lnTo>
                      <a:lnTo>
                        <a:pt x="1581" y="1028"/>
                      </a:lnTo>
                      <a:lnTo>
                        <a:pt x="1582" y="1018"/>
                      </a:lnTo>
                      <a:lnTo>
                        <a:pt x="1584" y="1009"/>
                      </a:lnTo>
                      <a:lnTo>
                        <a:pt x="1585" y="1000"/>
                      </a:lnTo>
                      <a:lnTo>
                        <a:pt x="1590" y="991"/>
                      </a:lnTo>
                      <a:lnTo>
                        <a:pt x="1593" y="982"/>
                      </a:lnTo>
                      <a:lnTo>
                        <a:pt x="1601" y="975"/>
                      </a:lnTo>
                      <a:lnTo>
                        <a:pt x="1608" y="968"/>
                      </a:lnTo>
                      <a:lnTo>
                        <a:pt x="1617" y="963"/>
                      </a:lnTo>
                      <a:lnTo>
                        <a:pt x="1625" y="958"/>
                      </a:lnTo>
                      <a:lnTo>
                        <a:pt x="1636" y="957"/>
                      </a:lnTo>
                      <a:lnTo>
                        <a:pt x="1644" y="953"/>
                      </a:lnTo>
                      <a:lnTo>
                        <a:pt x="1652" y="953"/>
                      </a:lnTo>
                      <a:lnTo>
                        <a:pt x="1660" y="955"/>
                      </a:lnTo>
                      <a:lnTo>
                        <a:pt x="1668" y="958"/>
                      </a:lnTo>
                      <a:lnTo>
                        <a:pt x="1675" y="959"/>
                      </a:lnTo>
                      <a:lnTo>
                        <a:pt x="1683" y="958"/>
                      </a:lnTo>
                      <a:lnTo>
                        <a:pt x="1689" y="953"/>
                      </a:lnTo>
                      <a:lnTo>
                        <a:pt x="1694" y="943"/>
                      </a:lnTo>
                      <a:lnTo>
                        <a:pt x="1695" y="932"/>
                      </a:lnTo>
                      <a:lnTo>
                        <a:pt x="1698" y="922"/>
                      </a:lnTo>
                      <a:lnTo>
                        <a:pt x="1699" y="911"/>
                      </a:lnTo>
                      <a:lnTo>
                        <a:pt x="1701" y="900"/>
                      </a:lnTo>
                      <a:lnTo>
                        <a:pt x="1702" y="889"/>
                      </a:lnTo>
                      <a:lnTo>
                        <a:pt x="1707" y="879"/>
                      </a:lnTo>
                      <a:lnTo>
                        <a:pt x="1712" y="871"/>
                      </a:lnTo>
                      <a:lnTo>
                        <a:pt x="1721" y="865"/>
                      </a:lnTo>
                      <a:lnTo>
                        <a:pt x="1728" y="857"/>
                      </a:lnTo>
                      <a:lnTo>
                        <a:pt x="1738" y="854"/>
                      </a:lnTo>
                      <a:lnTo>
                        <a:pt x="1748" y="851"/>
                      </a:lnTo>
                      <a:lnTo>
                        <a:pt x="1759" y="851"/>
                      </a:lnTo>
                      <a:lnTo>
                        <a:pt x="1767" y="851"/>
                      </a:lnTo>
                      <a:lnTo>
                        <a:pt x="1777" y="854"/>
                      </a:lnTo>
                      <a:lnTo>
                        <a:pt x="1787" y="856"/>
                      </a:lnTo>
                      <a:lnTo>
                        <a:pt x="1797" y="861"/>
                      </a:lnTo>
                      <a:lnTo>
                        <a:pt x="1800" y="862"/>
                      </a:lnTo>
                      <a:lnTo>
                        <a:pt x="1804" y="866"/>
                      </a:lnTo>
                      <a:lnTo>
                        <a:pt x="1807" y="870"/>
                      </a:lnTo>
                      <a:lnTo>
                        <a:pt x="1813" y="872"/>
                      </a:lnTo>
                      <a:lnTo>
                        <a:pt x="1818" y="860"/>
                      </a:lnTo>
                      <a:lnTo>
                        <a:pt x="1819" y="850"/>
                      </a:lnTo>
                      <a:lnTo>
                        <a:pt x="1820" y="839"/>
                      </a:lnTo>
                      <a:lnTo>
                        <a:pt x="1826" y="828"/>
                      </a:lnTo>
                      <a:lnTo>
                        <a:pt x="1830" y="817"/>
                      </a:lnTo>
                      <a:lnTo>
                        <a:pt x="1837" y="806"/>
                      </a:lnTo>
                      <a:lnTo>
                        <a:pt x="1845" y="795"/>
                      </a:lnTo>
                      <a:lnTo>
                        <a:pt x="1854" y="786"/>
                      </a:lnTo>
                      <a:lnTo>
                        <a:pt x="1863" y="778"/>
                      </a:lnTo>
                      <a:lnTo>
                        <a:pt x="1875" y="771"/>
                      </a:lnTo>
                      <a:lnTo>
                        <a:pt x="1886" y="767"/>
                      </a:lnTo>
                      <a:lnTo>
                        <a:pt x="1900" y="764"/>
                      </a:lnTo>
                      <a:lnTo>
                        <a:pt x="1907" y="765"/>
                      </a:lnTo>
                      <a:lnTo>
                        <a:pt x="1916" y="767"/>
                      </a:lnTo>
                      <a:lnTo>
                        <a:pt x="1923" y="767"/>
                      </a:lnTo>
                      <a:lnTo>
                        <a:pt x="1930" y="770"/>
                      </a:lnTo>
                      <a:lnTo>
                        <a:pt x="1934" y="764"/>
                      </a:lnTo>
                      <a:lnTo>
                        <a:pt x="1937" y="758"/>
                      </a:lnTo>
                      <a:lnTo>
                        <a:pt x="1938" y="751"/>
                      </a:lnTo>
                      <a:lnTo>
                        <a:pt x="1940" y="743"/>
                      </a:lnTo>
                      <a:lnTo>
                        <a:pt x="1941" y="736"/>
                      </a:lnTo>
                      <a:lnTo>
                        <a:pt x="1945" y="730"/>
                      </a:lnTo>
                      <a:lnTo>
                        <a:pt x="1949" y="725"/>
                      </a:lnTo>
                      <a:lnTo>
                        <a:pt x="1957" y="722"/>
                      </a:lnTo>
                      <a:lnTo>
                        <a:pt x="1960" y="708"/>
                      </a:lnTo>
                      <a:lnTo>
                        <a:pt x="1965" y="693"/>
                      </a:lnTo>
                      <a:lnTo>
                        <a:pt x="1970" y="679"/>
                      </a:lnTo>
                      <a:lnTo>
                        <a:pt x="1977" y="668"/>
                      </a:lnTo>
                      <a:lnTo>
                        <a:pt x="1984" y="656"/>
                      </a:lnTo>
                      <a:lnTo>
                        <a:pt x="1995" y="646"/>
                      </a:lnTo>
                      <a:lnTo>
                        <a:pt x="2008" y="639"/>
                      </a:lnTo>
                      <a:lnTo>
                        <a:pt x="2022" y="633"/>
                      </a:lnTo>
                      <a:lnTo>
                        <a:pt x="2030" y="629"/>
                      </a:lnTo>
                      <a:lnTo>
                        <a:pt x="2039" y="630"/>
                      </a:lnTo>
                      <a:lnTo>
                        <a:pt x="2049" y="634"/>
                      </a:lnTo>
                      <a:lnTo>
                        <a:pt x="2059" y="638"/>
                      </a:lnTo>
                      <a:lnTo>
                        <a:pt x="2066" y="640"/>
                      </a:lnTo>
                      <a:lnTo>
                        <a:pt x="2075" y="639"/>
                      </a:lnTo>
                      <a:lnTo>
                        <a:pt x="2082" y="633"/>
                      </a:lnTo>
                      <a:lnTo>
                        <a:pt x="2089" y="622"/>
                      </a:lnTo>
                      <a:lnTo>
                        <a:pt x="2095" y="618"/>
                      </a:lnTo>
                      <a:lnTo>
                        <a:pt x="2102" y="619"/>
                      </a:lnTo>
                      <a:lnTo>
                        <a:pt x="2109" y="634"/>
                      </a:lnTo>
                      <a:lnTo>
                        <a:pt x="2112" y="650"/>
                      </a:lnTo>
                      <a:lnTo>
                        <a:pt x="2111" y="667"/>
                      </a:lnTo>
                      <a:lnTo>
                        <a:pt x="2108" y="686"/>
                      </a:lnTo>
                      <a:lnTo>
                        <a:pt x="2104" y="703"/>
                      </a:lnTo>
                      <a:lnTo>
                        <a:pt x="2103" y="720"/>
                      </a:lnTo>
                      <a:lnTo>
                        <a:pt x="2107" y="735"/>
                      </a:lnTo>
                      <a:lnTo>
                        <a:pt x="2118" y="751"/>
                      </a:lnTo>
                      <a:lnTo>
                        <a:pt x="2124" y="758"/>
                      </a:lnTo>
                      <a:lnTo>
                        <a:pt x="2131" y="768"/>
                      </a:lnTo>
                      <a:lnTo>
                        <a:pt x="2135" y="770"/>
                      </a:lnTo>
                      <a:lnTo>
                        <a:pt x="2140" y="774"/>
                      </a:lnTo>
                      <a:lnTo>
                        <a:pt x="2145" y="775"/>
                      </a:lnTo>
                      <a:lnTo>
                        <a:pt x="2153" y="775"/>
                      </a:lnTo>
                      <a:lnTo>
                        <a:pt x="2167" y="764"/>
                      </a:lnTo>
                      <a:lnTo>
                        <a:pt x="2180" y="753"/>
                      </a:lnTo>
                      <a:lnTo>
                        <a:pt x="2191" y="741"/>
                      </a:lnTo>
                      <a:lnTo>
                        <a:pt x="2204" y="728"/>
                      </a:lnTo>
                      <a:lnTo>
                        <a:pt x="2212" y="714"/>
                      </a:lnTo>
                      <a:lnTo>
                        <a:pt x="2223" y="700"/>
                      </a:lnTo>
                      <a:lnTo>
                        <a:pt x="2233" y="687"/>
                      </a:lnTo>
                      <a:lnTo>
                        <a:pt x="2245" y="675"/>
                      </a:lnTo>
                      <a:lnTo>
                        <a:pt x="2248" y="665"/>
                      </a:lnTo>
                      <a:lnTo>
                        <a:pt x="2252" y="656"/>
                      </a:lnTo>
                      <a:lnTo>
                        <a:pt x="2256" y="649"/>
                      </a:lnTo>
                      <a:lnTo>
                        <a:pt x="2265" y="646"/>
                      </a:lnTo>
                      <a:lnTo>
                        <a:pt x="2269" y="657"/>
                      </a:lnTo>
                      <a:lnTo>
                        <a:pt x="2265" y="670"/>
                      </a:lnTo>
                      <a:lnTo>
                        <a:pt x="2260" y="673"/>
                      </a:lnTo>
                      <a:lnTo>
                        <a:pt x="2258" y="679"/>
                      </a:lnTo>
                      <a:lnTo>
                        <a:pt x="2254" y="686"/>
                      </a:lnTo>
                      <a:lnTo>
                        <a:pt x="2254" y="693"/>
                      </a:lnTo>
                      <a:lnTo>
                        <a:pt x="2249" y="700"/>
                      </a:lnTo>
                      <a:lnTo>
                        <a:pt x="2244" y="708"/>
                      </a:lnTo>
                      <a:lnTo>
                        <a:pt x="2238" y="716"/>
                      </a:lnTo>
                      <a:lnTo>
                        <a:pt x="2234" y="726"/>
                      </a:lnTo>
                      <a:lnTo>
                        <a:pt x="2229" y="735"/>
                      </a:lnTo>
                      <a:lnTo>
                        <a:pt x="2228" y="744"/>
                      </a:lnTo>
                      <a:lnTo>
                        <a:pt x="2229" y="753"/>
                      </a:lnTo>
                      <a:lnTo>
                        <a:pt x="2236" y="764"/>
                      </a:lnTo>
                      <a:lnTo>
                        <a:pt x="2233" y="773"/>
                      </a:lnTo>
                      <a:lnTo>
                        <a:pt x="2229" y="781"/>
                      </a:lnTo>
                      <a:lnTo>
                        <a:pt x="2226" y="790"/>
                      </a:lnTo>
                      <a:lnTo>
                        <a:pt x="2227" y="798"/>
                      </a:lnTo>
                      <a:lnTo>
                        <a:pt x="2238" y="792"/>
                      </a:lnTo>
                      <a:lnTo>
                        <a:pt x="2250" y="787"/>
                      </a:lnTo>
                      <a:lnTo>
                        <a:pt x="2263" y="781"/>
                      </a:lnTo>
                      <a:lnTo>
                        <a:pt x="2275" y="775"/>
                      </a:lnTo>
                      <a:lnTo>
                        <a:pt x="2285" y="767"/>
                      </a:lnTo>
                      <a:lnTo>
                        <a:pt x="2296" y="758"/>
                      </a:lnTo>
                      <a:lnTo>
                        <a:pt x="2305" y="749"/>
                      </a:lnTo>
                      <a:lnTo>
                        <a:pt x="2316" y="741"/>
                      </a:lnTo>
                      <a:lnTo>
                        <a:pt x="2326" y="733"/>
                      </a:lnTo>
                      <a:lnTo>
                        <a:pt x="2336" y="726"/>
                      </a:lnTo>
                      <a:lnTo>
                        <a:pt x="2347" y="717"/>
                      </a:lnTo>
                      <a:lnTo>
                        <a:pt x="2358" y="711"/>
                      </a:lnTo>
                      <a:lnTo>
                        <a:pt x="2368" y="705"/>
                      </a:lnTo>
                      <a:lnTo>
                        <a:pt x="2379" y="703"/>
                      </a:lnTo>
                      <a:lnTo>
                        <a:pt x="2391" y="704"/>
                      </a:lnTo>
                      <a:lnTo>
                        <a:pt x="2404" y="711"/>
                      </a:lnTo>
                      <a:lnTo>
                        <a:pt x="2384" y="731"/>
                      </a:lnTo>
                      <a:lnTo>
                        <a:pt x="2366" y="752"/>
                      </a:lnTo>
                      <a:lnTo>
                        <a:pt x="2346" y="771"/>
                      </a:lnTo>
                      <a:lnTo>
                        <a:pt x="2328" y="792"/>
                      </a:lnTo>
                      <a:lnTo>
                        <a:pt x="2308" y="812"/>
                      </a:lnTo>
                      <a:lnTo>
                        <a:pt x="2290" y="832"/>
                      </a:lnTo>
                      <a:lnTo>
                        <a:pt x="2270" y="851"/>
                      </a:lnTo>
                      <a:lnTo>
                        <a:pt x="2252" y="872"/>
                      </a:lnTo>
                      <a:lnTo>
                        <a:pt x="2245" y="882"/>
                      </a:lnTo>
                      <a:lnTo>
                        <a:pt x="2239" y="892"/>
                      </a:lnTo>
                      <a:lnTo>
                        <a:pt x="2232" y="900"/>
                      </a:lnTo>
                      <a:lnTo>
                        <a:pt x="2225" y="910"/>
                      </a:lnTo>
                      <a:lnTo>
                        <a:pt x="2216" y="919"/>
                      </a:lnTo>
                      <a:lnTo>
                        <a:pt x="2209" y="928"/>
                      </a:lnTo>
                      <a:lnTo>
                        <a:pt x="2201" y="938"/>
                      </a:lnTo>
                      <a:lnTo>
                        <a:pt x="2196" y="950"/>
                      </a:lnTo>
                      <a:lnTo>
                        <a:pt x="2199" y="954"/>
                      </a:lnTo>
                      <a:lnTo>
                        <a:pt x="2214" y="942"/>
                      </a:lnTo>
                      <a:lnTo>
                        <a:pt x="2228" y="931"/>
                      </a:lnTo>
                      <a:lnTo>
                        <a:pt x="2242" y="917"/>
                      </a:lnTo>
                      <a:lnTo>
                        <a:pt x="2256" y="905"/>
                      </a:lnTo>
                      <a:lnTo>
                        <a:pt x="2271" y="892"/>
                      </a:lnTo>
                      <a:lnTo>
                        <a:pt x="2287" y="879"/>
                      </a:lnTo>
                      <a:lnTo>
                        <a:pt x="2303" y="868"/>
                      </a:lnTo>
                      <a:lnTo>
                        <a:pt x="2323" y="859"/>
                      </a:lnTo>
                      <a:lnTo>
                        <a:pt x="2307" y="871"/>
                      </a:lnTo>
                      <a:lnTo>
                        <a:pt x="2292" y="884"/>
                      </a:lnTo>
                      <a:lnTo>
                        <a:pt x="2277" y="897"/>
                      </a:lnTo>
                      <a:lnTo>
                        <a:pt x="2265" y="911"/>
                      </a:lnTo>
                      <a:lnTo>
                        <a:pt x="2250" y="925"/>
                      </a:lnTo>
                      <a:lnTo>
                        <a:pt x="2239" y="941"/>
                      </a:lnTo>
                      <a:lnTo>
                        <a:pt x="2229" y="957"/>
                      </a:lnTo>
                      <a:lnTo>
                        <a:pt x="2222" y="975"/>
                      </a:lnTo>
                      <a:lnTo>
                        <a:pt x="2233" y="990"/>
                      </a:lnTo>
                      <a:lnTo>
                        <a:pt x="2228" y="991"/>
                      </a:lnTo>
                      <a:lnTo>
                        <a:pt x="2227" y="996"/>
                      </a:lnTo>
                      <a:lnTo>
                        <a:pt x="2237" y="997"/>
                      </a:lnTo>
                      <a:lnTo>
                        <a:pt x="2245" y="991"/>
                      </a:lnTo>
                      <a:lnTo>
                        <a:pt x="2254" y="984"/>
                      </a:lnTo>
                      <a:lnTo>
                        <a:pt x="2265" y="980"/>
                      </a:lnTo>
                      <a:lnTo>
                        <a:pt x="2274" y="975"/>
                      </a:lnTo>
                      <a:lnTo>
                        <a:pt x="2282" y="975"/>
                      </a:lnTo>
                      <a:lnTo>
                        <a:pt x="2275" y="981"/>
                      </a:lnTo>
                      <a:lnTo>
                        <a:pt x="2269" y="987"/>
                      </a:lnTo>
                      <a:lnTo>
                        <a:pt x="2261" y="995"/>
                      </a:lnTo>
                      <a:lnTo>
                        <a:pt x="2256" y="1002"/>
                      </a:lnTo>
                      <a:lnTo>
                        <a:pt x="2250" y="1008"/>
                      </a:lnTo>
                      <a:lnTo>
                        <a:pt x="2248" y="1015"/>
                      </a:lnTo>
                      <a:lnTo>
                        <a:pt x="2247" y="1023"/>
                      </a:lnTo>
                      <a:lnTo>
                        <a:pt x="2249" y="1033"/>
                      </a:lnTo>
                      <a:lnTo>
                        <a:pt x="2254" y="1040"/>
                      </a:lnTo>
                      <a:lnTo>
                        <a:pt x="2265" y="1042"/>
                      </a:lnTo>
                      <a:lnTo>
                        <a:pt x="2271" y="1036"/>
                      </a:lnTo>
                      <a:lnTo>
                        <a:pt x="2278" y="1031"/>
                      </a:lnTo>
                      <a:lnTo>
                        <a:pt x="2286" y="1028"/>
                      </a:lnTo>
                      <a:lnTo>
                        <a:pt x="2296" y="1027"/>
                      </a:lnTo>
                      <a:lnTo>
                        <a:pt x="2249" y="1077"/>
                      </a:lnTo>
                      <a:lnTo>
                        <a:pt x="2247" y="1084"/>
                      </a:lnTo>
                      <a:lnTo>
                        <a:pt x="2252" y="1090"/>
                      </a:lnTo>
                      <a:lnTo>
                        <a:pt x="2258" y="1095"/>
                      </a:lnTo>
                      <a:lnTo>
                        <a:pt x="2265" y="1101"/>
                      </a:lnTo>
                      <a:lnTo>
                        <a:pt x="2277" y="1101"/>
                      </a:lnTo>
                      <a:lnTo>
                        <a:pt x="2271" y="1107"/>
                      </a:lnTo>
                      <a:lnTo>
                        <a:pt x="2265" y="1115"/>
                      </a:lnTo>
                      <a:lnTo>
                        <a:pt x="2259" y="1122"/>
                      </a:lnTo>
                      <a:lnTo>
                        <a:pt x="2253" y="1130"/>
                      </a:lnTo>
                      <a:lnTo>
                        <a:pt x="2245" y="1137"/>
                      </a:lnTo>
                      <a:lnTo>
                        <a:pt x="2242" y="1144"/>
                      </a:lnTo>
                      <a:lnTo>
                        <a:pt x="2237" y="1153"/>
                      </a:lnTo>
                      <a:lnTo>
                        <a:pt x="2236" y="1164"/>
                      </a:lnTo>
                      <a:lnTo>
                        <a:pt x="2242" y="1164"/>
                      </a:lnTo>
                      <a:lnTo>
                        <a:pt x="2245" y="1169"/>
                      </a:lnTo>
                      <a:lnTo>
                        <a:pt x="2247" y="1174"/>
                      </a:lnTo>
                      <a:lnTo>
                        <a:pt x="2248" y="1180"/>
                      </a:lnTo>
                      <a:lnTo>
                        <a:pt x="2247" y="1185"/>
                      </a:lnTo>
                      <a:lnTo>
                        <a:pt x="2248" y="1190"/>
                      </a:lnTo>
                      <a:lnTo>
                        <a:pt x="2252" y="1191"/>
                      </a:lnTo>
                      <a:lnTo>
                        <a:pt x="2259" y="1190"/>
                      </a:lnTo>
                      <a:lnTo>
                        <a:pt x="2245" y="1198"/>
                      </a:lnTo>
                      <a:lnTo>
                        <a:pt x="2234" y="1209"/>
                      </a:lnTo>
                      <a:lnTo>
                        <a:pt x="2222" y="1219"/>
                      </a:lnTo>
                      <a:lnTo>
                        <a:pt x="2212" y="1230"/>
                      </a:lnTo>
                      <a:lnTo>
                        <a:pt x="2201" y="1241"/>
                      </a:lnTo>
                      <a:lnTo>
                        <a:pt x="2191" y="1252"/>
                      </a:lnTo>
                      <a:lnTo>
                        <a:pt x="2184" y="1264"/>
                      </a:lnTo>
                      <a:lnTo>
                        <a:pt x="2178" y="1279"/>
                      </a:lnTo>
                      <a:lnTo>
                        <a:pt x="2185" y="1287"/>
                      </a:lnTo>
                      <a:lnTo>
                        <a:pt x="2196" y="1288"/>
                      </a:lnTo>
                      <a:lnTo>
                        <a:pt x="2205" y="1280"/>
                      </a:lnTo>
                      <a:lnTo>
                        <a:pt x="2214" y="1272"/>
                      </a:lnTo>
                      <a:lnTo>
                        <a:pt x="2221" y="1263"/>
                      </a:lnTo>
                      <a:lnTo>
                        <a:pt x="2233" y="1258"/>
                      </a:lnTo>
                      <a:lnTo>
                        <a:pt x="2225" y="1268"/>
                      </a:lnTo>
                      <a:lnTo>
                        <a:pt x="2216" y="1278"/>
                      </a:lnTo>
                      <a:lnTo>
                        <a:pt x="2207" y="1289"/>
                      </a:lnTo>
                      <a:lnTo>
                        <a:pt x="2204" y="1302"/>
                      </a:lnTo>
                      <a:lnTo>
                        <a:pt x="2211" y="1298"/>
                      </a:lnTo>
                      <a:lnTo>
                        <a:pt x="2220" y="1294"/>
                      </a:lnTo>
                      <a:lnTo>
                        <a:pt x="2227" y="1291"/>
                      </a:lnTo>
                      <a:lnTo>
                        <a:pt x="2236" y="1298"/>
                      </a:lnTo>
                      <a:lnTo>
                        <a:pt x="2218" y="1307"/>
                      </a:lnTo>
                      <a:lnTo>
                        <a:pt x="2201" y="1318"/>
                      </a:lnTo>
                      <a:lnTo>
                        <a:pt x="2183" y="1327"/>
                      </a:lnTo>
                      <a:lnTo>
                        <a:pt x="2166" y="1337"/>
                      </a:lnTo>
                      <a:lnTo>
                        <a:pt x="2147" y="1345"/>
                      </a:lnTo>
                      <a:lnTo>
                        <a:pt x="2129" y="1355"/>
                      </a:lnTo>
                      <a:lnTo>
                        <a:pt x="2111" y="1365"/>
                      </a:lnTo>
                      <a:lnTo>
                        <a:pt x="2093" y="1377"/>
                      </a:lnTo>
                      <a:lnTo>
                        <a:pt x="2092" y="1387"/>
                      </a:lnTo>
                      <a:lnTo>
                        <a:pt x="2098" y="1396"/>
                      </a:lnTo>
                      <a:lnTo>
                        <a:pt x="2109" y="1393"/>
                      </a:lnTo>
                      <a:lnTo>
                        <a:pt x="2120" y="1391"/>
                      </a:lnTo>
                      <a:lnTo>
                        <a:pt x="2130" y="1387"/>
                      </a:lnTo>
                      <a:lnTo>
                        <a:pt x="2141" y="1387"/>
                      </a:lnTo>
                      <a:lnTo>
                        <a:pt x="2120" y="1402"/>
                      </a:lnTo>
                      <a:lnTo>
                        <a:pt x="2101" y="1419"/>
                      </a:lnTo>
                      <a:lnTo>
                        <a:pt x="2080" y="1436"/>
                      </a:lnTo>
                      <a:lnTo>
                        <a:pt x="2060" y="1453"/>
                      </a:lnTo>
                      <a:lnTo>
                        <a:pt x="2038" y="1469"/>
                      </a:lnTo>
                      <a:lnTo>
                        <a:pt x="2017" y="1485"/>
                      </a:lnTo>
                      <a:lnTo>
                        <a:pt x="1995" y="1499"/>
                      </a:lnTo>
                      <a:lnTo>
                        <a:pt x="1973" y="1513"/>
                      </a:lnTo>
                      <a:lnTo>
                        <a:pt x="1972" y="1523"/>
                      </a:lnTo>
                      <a:lnTo>
                        <a:pt x="1981" y="1532"/>
                      </a:lnTo>
                      <a:lnTo>
                        <a:pt x="1987" y="1529"/>
                      </a:lnTo>
                      <a:lnTo>
                        <a:pt x="1994" y="1528"/>
                      </a:lnTo>
                      <a:lnTo>
                        <a:pt x="2000" y="1526"/>
                      </a:lnTo>
                      <a:lnTo>
                        <a:pt x="2008" y="1523"/>
                      </a:lnTo>
                      <a:lnTo>
                        <a:pt x="2014" y="1520"/>
                      </a:lnTo>
                      <a:lnTo>
                        <a:pt x="2021" y="1518"/>
                      </a:lnTo>
                      <a:lnTo>
                        <a:pt x="2028" y="1516"/>
                      </a:lnTo>
                      <a:lnTo>
                        <a:pt x="2036" y="1516"/>
                      </a:lnTo>
                      <a:lnTo>
                        <a:pt x="2037" y="1522"/>
                      </a:lnTo>
                      <a:lnTo>
                        <a:pt x="2037" y="1529"/>
                      </a:lnTo>
                      <a:lnTo>
                        <a:pt x="2033" y="1536"/>
                      </a:lnTo>
                      <a:lnTo>
                        <a:pt x="2031" y="1543"/>
                      </a:lnTo>
                      <a:lnTo>
                        <a:pt x="2025" y="1547"/>
                      </a:lnTo>
                      <a:lnTo>
                        <a:pt x="2020" y="1551"/>
                      </a:lnTo>
                      <a:lnTo>
                        <a:pt x="2015" y="1556"/>
                      </a:lnTo>
                      <a:lnTo>
                        <a:pt x="2013" y="1561"/>
                      </a:lnTo>
                      <a:lnTo>
                        <a:pt x="2015" y="1565"/>
                      </a:lnTo>
                      <a:lnTo>
                        <a:pt x="2019" y="1570"/>
                      </a:lnTo>
                      <a:lnTo>
                        <a:pt x="2021" y="1575"/>
                      </a:lnTo>
                      <a:lnTo>
                        <a:pt x="2020" y="1580"/>
                      </a:lnTo>
                      <a:lnTo>
                        <a:pt x="2003" y="1586"/>
                      </a:lnTo>
                      <a:lnTo>
                        <a:pt x="1987" y="1592"/>
                      </a:lnTo>
                      <a:lnTo>
                        <a:pt x="1971" y="1597"/>
                      </a:lnTo>
                      <a:lnTo>
                        <a:pt x="1955" y="1603"/>
                      </a:lnTo>
                      <a:lnTo>
                        <a:pt x="1938" y="1608"/>
                      </a:lnTo>
                      <a:lnTo>
                        <a:pt x="1922" y="1615"/>
                      </a:lnTo>
                      <a:lnTo>
                        <a:pt x="1905" y="1623"/>
                      </a:lnTo>
                      <a:lnTo>
                        <a:pt x="1889" y="1634"/>
                      </a:lnTo>
                      <a:lnTo>
                        <a:pt x="1889" y="1641"/>
                      </a:lnTo>
                      <a:lnTo>
                        <a:pt x="1896" y="1650"/>
                      </a:lnTo>
                      <a:lnTo>
                        <a:pt x="1908" y="1650"/>
                      </a:lnTo>
                      <a:lnTo>
                        <a:pt x="1922" y="1646"/>
                      </a:lnTo>
                      <a:lnTo>
                        <a:pt x="1928" y="1643"/>
                      </a:lnTo>
                      <a:lnTo>
                        <a:pt x="1934" y="1642"/>
                      </a:lnTo>
                      <a:lnTo>
                        <a:pt x="1941" y="1640"/>
                      </a:lnTo>
                      <a:lnTo>
                        <a:pt x="1949" y="1640"/>
                      </a:lnTo>
                      <a:lnTo>
                        <a:pt x="2004" y="1631"/>
                      </a:lnTo>
                      <a:lnTo>
                        <a:pt x="2004" y="1637"/>
                      </a:lnTo>
                      <a:lnTo>
                        <a:pt x="1987" y="1645"/>
                      </a:lnTo>
                      <a:lnTo>
                        <a:pt x="1971" y="1652"/>
                      </a:lnTo>
                      <a:lnTo>
                        <a:pt x="1954" y="1658"/>
                      </a:lnTo>
                      <a:lnTo>
                        <a:pt x="1938" y="1666"/>
                      </a:lnTo>
                      <a:lnTo>
                        <a:pt x="1921" y="1670"/>
                      </a:lnTo>
                      <a:lnTo>
                        <a:pt x="1905" y="1678"/>
                      </a:lnTo>
                      <a:lnTo>
                        <a:pt x="1888" y="1683"/>
                      </a:lnTo>
                      <a:lnTo>
                        <a:pt x="1873" y="1690"/>
                      </a:lnTo>
                      <a:lnTo>
                        <a:pt x="1872" y="1697"/>
                      </a:lnTo>
                      <a:lnTo>
                        <a:pt x="1878" y="1707"/>
                      </a:lnTo>
                      <a:lnTo>
                        <a:pt x="1916" y="1707"/>
                      </a:lnTo>
                      <a:lnTo>
                        <a:pt x="1918" y="1711"/>
                      </a:lnTo>
                      <a:lnTo>
                        <a:pt x="1917" y="1717"/>
                      </a:lnTo>
                      <a:lnTo>
                        <a:pt x="1912" y="1721"/>
                      </a:lnTo>
                      <a:lnTo>
                        <a:pt x="1907" y="1723"/>
                      </a:lnTo>
                      <a:lnTo>
                        <a:pt x="1885" y="1726"/>
                      </a:lnTo>
                      <a:lnTo>
                        <a:pt x="1863" y="1729"/>
                      </a:lnTo>
                      <a:lnTo>
                        <a:pt x="1841" y="1733"/>
                      </a:lnTo>
                      <a:lnTo>
                        <a:pt x="1820" y="1737"/>
                      </a:lnTo>
                      <a:lnTo>
                        <a:pt x="1798" y="1740"/>
                      </a:lnTo>
                      <a:lnTo>
                        <a:pt x="1776" y="1746"/>
                      </a:lnTo>
                      <a:lnTo>
                        <a:pt x="1755" y="1753"/>
                      </a:lnTo>
                      <a:lnTo>
                        <a:pt x="1737" y="1764"/>
                      </a:lnTo>
                      <a:lnTo>
                        <a:pt x="1724" y="1769"/>
                      </a:lnTo>
                      <a:lnTo>
                        <a:pt x="1712" y="1775"/>
                      </a:lnTo>
                      <a:lnTo>
                        <a:pt x="1700" y="1781"/>
                      </a:lnTo>
                      <a:lnTo>
                        <a:pt x="1689" y="1789"/>
                      </a:lnTo>
                      <a:lnTo>
                        <a:pt x="1679" y="1778"/>
                      </a:lnTo>
                      <a:lnTo>
                        <a:pt x="1646" y="1792"/>
                      </a:lnTo>
                      <a:lnTo>
                        <a:pt x="1614" y="1804"/>
                      </a:lnTo>
                      <a:lnTo>
                        <a:pt x="1581" y="1813"/>
                      </a:lnTo>
                      <a:lnTo>
                        <a:pt x="1548" y="1820"/>
                      </a:lnTo>
                      <a:lnTo>
                        <a:pt x="1514" y="1821"/>
                      </a:lnTo>
                      <a:lnTo>
                        <a:pt x="1481" y="1820"/>
                      </a:lnTo>
                      <a:lnTo>
                        <a:pt x="1446" y="1811"/>
                      </a:lnTo>
                      <a:lnTo>
                        <a:pt x="1413" y="1799"/>
                      </a:lnTo>
                      <a:lnTo>
                        <a:pt x="1400" y="1802"/>
                      </a:lnTo>
                      <a:lnTo>
                        <a:pt x="1387" y="1807"/>
                      </a:lnTo>
                      <a:lnTo>
                        <a:pt x="1374" y="1813"/>
                      </a:lnTo>
                      <a:lnTo>
                        <a:pt x="1363" y="1820"/>
                      </a:lnTo>
                      <a:lnTo>
                        <a:pt x="1349" y="1825"/>
                      </a:lnTo>
                      <a:lnTo>
                        <a:pt x="1337" y="1830"/>
                      </a:lnTo>
                      <a:lnTo>
                        <a:pt x="1324" y="1834"/>
                      </a:lnTo>
                      <a:lnTo>
                        <a:pt x="1311" y="1834"/>
                      </a:lnTo>
                      <a:lnTo>
                        <a:pt x="1276" y="1823"/>
                      </a:lnTo>
                      <a:lnTo>
                        <a:pt x="1244" y="1819"/>
                      </a:lnTo>
                      <a:lnTo>
                        <a:pt x="1211" y="1821"/>
                      </a:lnTo>
                      <a:lnTo>
                        <a:pt x="1181" y="1829"/>
                      </a:lnTo>
                      <a:lnTo>
                        <a:pt x="1151" y="1838"/>
                      </a:lnTo>
                      <a:lnTo>
                        <a:pt x="1121" y="1852"/>
                      </a:lnTo>
                      <a:lnTo>
                        <a:pt x="1093" y="1868"/>
                      </a:lnTo>
                      <a:lnTo>
                        <a:pt x="1066" y="1886"/>
                      </a:lnTo>
                      <a:lnTo>
                        <a:pt x="1026" y="1907"/>
                      </a:lnTo>
                      <a:lnTo>
                        <a:pt x="989" y="1933"/>
                      </a:lnTo>
                      <a:lnTo>
                        <a:pt x="954" y="1960"/>
                      </a:lnTo>
                      <a:lnTo>
                        <a:pt x="922" y="1992"/>
                      </a:lnTo>
                      <a:lnTo>
                        <a:pt x="889" y="2022"/>
                      </a:lnTo>
                      <a:lnTo>
                        <a:pt x="857" y="2054"/>
                      </a:lnTo>
                      <a:lnTo>
                        <a:pt x="825" y="2085"/>
                      </a:lnTo>
                      <a:lnTo>
                        <a:pt x="793" y="2116"/>
                      </a:lnTo>
                      <a:lnTo>
                        <a:pt x="781" y="2125"/>
                      </a:lnTo>
                      <a:lnTo>
                        <a:pt x="773" y="2138"/>
                      </a:lnTo>
                      <a:lnTo>
                        <a:pt x="765" y="2150"/>
                      </a:lnTo>
                      <a:lnTo>
                        <a:pt x="757" y="2164"/>
                      </a:lnTo>
                      <a:lnTo>
                        <a:pt x="748" y="2175"/>
                      </a:lnTo>
                      <a:lnTo>
                        <a:pt x="738" y="2186"/>
                      </a:lnTo>
                      <a:lnTo>
                        <a:pt x="727" y="2194"/>
                      </a:lnTo>
                      <a:lnTo>
                        <a:pt x="712" y="2202"/>
                      </a:lnTo>
                      <a:lnTo>
                        <a:pt x="697" y="2216"/>
                      </a:lnTo>
                      <a:lnTo>
                        <a:pt x="683" y="2231"/>
                      </a:lnTo>
                      <a:lnTo>
                        <a:pt x="668" y="2246"/>
                      </a:lnTo>
                      <a:lnTo>
                        <a:pt x="654" y="2260"/>
                      </a:lnTo>
                      <a:lnTo>
                        <a:pt x="639" y="2274"/>
                      </a:lnTo>
                      <a:lnTo>
                        <a:pt x="624" y="2287"/>
                      </a:lnTo>
                      <a:lnTo>
                        <a:pt x="608" y="2301"/>
                      </a:lnTo>
                      <a:lnTo>
                        <a:pt x="592" y="2316"/>
                      </a:lnTo>
                      <a:lnTo>
                        <a:pt x="583" y="2329"/>
                      </a:lnTo>
                      <a:lnTo>
                        <a:pt x="575" y="2343"/>
                      </a:lnTo>
                      <a:lnTo>
                        <a:pt x="564" y="2355"/>
                      </a:lnTo>
                      <a:lnTo>
                        <a:pt x="554" y="2367"/>
                      </a:lnTo>
                      <a:lnTo>
                        <a:pt x="543" y="2378"/>
                      </a:lnTo>
                      <a:lnTo>
                        <a:pt x="533" y="2392"/>
                      </a:lnTo>
                      <a:lnTo>
                        <a:pt x="525" y="2405"/>
                      </a:lnTo>
                      <a:lnTo>
                        <a:pt x="517" y="2420"/>
                      </a:lnTo>
                      <a:lnTo>
                        <a:pt x="507" y="2426"/>
                      </a:lnTo>
                      <a:lnTo>
                        <a:pt x="501" y="2437"/>
                      </a:lnTo>
                      <a:lnTo>
                        <a:pt x="496" y="2448"/>
                      </a:lnTo>
                      <a:lnTo>
                        <a:pt x="491" y="2462"/>
                      </a:lnTo>
                      <a:lnTo>
                        <a:pt x="478" y="2475"/>
                      </a:lnTo>
                      <a:lnTo>
                        <a:pt x="467" y="2489"/>
                      </a:lnTo>
                      <a:lnTo>
                        <a:pt x="453" y="2503"/>
                      </a:lnTo>
                      <a:lnTo>
                        <a:pt x="442" y="2518"/>
                      </a:lnTo>
                      <a:lnTo>
                        <a:pt x="431" y="2533"/>
                      </a:lnTo>
                      <a:lnTo>
                        <a:pt x="420" y="2549"/>
                      </a:lnTo>
                      <a:lnTo>
                        <a:pt x="409" y="2565"/>
                      </a:lnTo>
                      <a:lnTo>
                        <a:pt x="402" y="2583"/>
                      </a:lnTo>
                      <a:lnTo>
                        <a:pt x="387" y="2603"/>
                      </a:lnTo>
                      <a:lnTo>
                        <a:pt x="374" y="2623"/>
                      </a:lnTo>
                      <a:lnTo>
                        <a:pt x="360" y="2644"/>
                      </a:lnTo>
                      <a:lnTo>
                        <a:pt x="349" y="2666"/>
                      </a:lnTo>
                      <a:lnTo>
                        <a:pt x="337" y="2688"/>
                      </a:lnTo>
                      <a:lnTo>
                        <a:pt x="327" y="2712"/>
                      </a:lnTo>
                      <a:lnTo>
                        <a:pt x="317" y="2736"/>
                      </a:lnTo>
                      <a:lnTo>
                        <a:pt x="310" y="2762"/>
                      </a:lnTo>
                      <a:lnTo>
                        <a:pt x="303" y="2766"/>
                      </a:lnTo>
                      <a:lnTo>
                        <a:pt x="300" y="2773"/>
                      </a:lnTo>
                      <a:lnTo>
                        <a:pt x="298" y="2780"/>
                      </a:lnTo>
                      <a:lnTo>
                        <a:pt x="297" y="2788"/>
                      </a:lnTo>
                      <a:lnTo>
                        <a:pt x="288" y="2794"/>
                      </a:lnTo>
                      <a:lnTo>
                        <a:pt x="282" y="2804"/>
                      </a:lnTo>
                      <a:lnTo>
                        <a:pt x="277" y="2812"/>
                      </a:lnTo>
                      <a:lnTo>
                        <a:pt x="273" y="2823"/>
                      </a:lnTo>
                      <a:lnTo>
                        <a:pt x="268" y="2832"/>
                      </a:lnTo>
                      <a:lnTo>
                        <a:pt x="263" y="2842"/>
                      </a:lnTo>
                      <a:lnTo>
                        <a:pt x="259" y="2850"/>
                      </a:lnTo>
                      <a:lnTo>
                        <a:pt x="252" y="2859"/>
                      </a:lnTo>
                      <a:lnTo>
                        <a:pt x="249" y="2872"/>
                      </a:lnTo>
                      <a:lnTo>
                        <a:pt x="245" y="2886"/>
                      </a:lnTo>
                      <a:lnTo>
                        <a:pt x="239" y="2898"/>
                      </a:lnTo>
                      <a:lnTo>
                        <a:pt x="233" y="2910"/>
                      </a:lnTo>
                      <a:lnTo>
                        <a:pt x="225" y="2921"/>
                      </a:lnTo>
                      <a:lnTo>
                        <a:pt x="219" y="2933"/>
                      </a:lnTo>
                      <a:lnTo>
                        <a:pt x="213" y="2945"/>
                      </a:lnTo>
                      <a:lnTo>
                        <a:pt x="211" y="2960"/>
                      </a:lnTo>
                      <a:lnTo>
                        <a:pt x="214" y="2935"/>
                      </a:lnTo>
                      <a:lnTo>
                        <a:pt x="218" y="2913"/>
                      </a:lnTo>
                      <a:lnTo>
                        <a:pt x="222" y="2890"/>
                      </a:lnTo>
                      <a:lnTo>
                        <a:pt x="229" y="2868"/>
                      </a:lnTo>
                      <a:lnTo>
                        <a:pt x="235" y="2845"/>
                      </a:lnTo>
                      <a:lnTo>
                        <a:pt x="244" y="2825"/>
                      </a:lnTo>
                      <a:lnTo>
                        <a:pt x="252" y="2804"/>
                      </a:lnTo>
                      <a:lnTo>
                        <a:pt x="263" y="2785"/>
                      </a:lnTo>
                      <a:lnTo>
                        <a:pt x="272" y="2756"/>
                      </a:lnTo>
                      <a:lnTo>
                        <a:pt x="284" y="2729"/>
                      </a:lnTo>
                      <a:lnTo>
                        <a:pt x="295" y="2702"/>
                      </a:lnTo>
                      <a:lnTo>
                        <a:pt x="309" y="2676"/>
                      </a:lnTo>
                      <a:lnTo>
                        <a:pt x="321" y="2650"/>
                      </a:lnTo>
                      <a:lnTo>
                        <a:pt x="335" y="2625"/>
                      </a:lnTo>
                      <a:lnTo>
                        <a:pt x="348" y="2600"/>
                      </a:lnTo>
                      <a:lnTo>
                        <a:pt x="363" y="2576"/>
                      </a:lnTo>
                      <a:lnTo>
                        <a:pt x="374" y="2554"/>
                      </a:lnTo>
                      <a:lnTo>
                        <a:pt x="386" y="2534"/>
                      </a:lnTo>
                      <a:lnTo>
                        <a:pt x="398" y="2514"/>
                      </a:lnTo>
                      <a:lnTo>
                        <a:pt x="412" y="2496"/>
                      </a:lnTo>
                      <a:lnTo>
                        <a:pt x="425" y="2476"/>
                      </a:lnTo>
                      <a:lnTo>
                        <a:pt x="439" y="2458"/>
                      </a:lnTo>
                      <a:lnTo>
                        <a:pt x="452" y="2438"/>
                      </a:lnTo>
                      <a:lnTo>
                        <a:pt x="466" y="2420"/>
                      </a:lnTo>
                      <a:lnTo>
                        <a:pt x="478" y="2411"/>
                      </a:lnTo>
                      <a:lnTo>
                        <a:pt x="488" y="2401"/>
                      </a:lnTo>
                      <a:lnTo>
                        <a:pt x="494" y="2389"/>
                      </a:lnTo>
                      <a:lnTo>
                        <a:pt x="500" y="2378"/>
                      </a:lnTo>
                      <a:lnTo>
                        <a:pt x="505" y="2365"/>
                      </a:lnTo>
                      <a:lnTo>
                        <a:pt x="513" y="2354"/>
                      </a:lnTo>
                      <a:lnTo>
                        <a:pt x="523" y="2344"/>
                      </a:lnTo>
                      <a:lnTo>
                        <a:pt x="539" y="2339"/>
                      </a:lnTo>
                      <a:lnTo>
                        <a:pt x="548" y="2316"/>
                      </a:lnTo>
                      <a:lnTo>
                        <a:pt x="560" y="2294"/>
                      </a:lnTo>
                      <a:lnTo>
                        <a:pt x="571" y="2271"/>
                      </a:lnTo>
                      <a:lnTo>
                        <a:pt x="586" y="2251"/>
                      </a:lnTo>
                      <a:lnTo>
                        <a:pt x="599" y="2230"/>
                      </a:lnTo>
                      <a:lnTo>
                        <a:pt x="614" y="2210"/>
                      </a:lnTo>
                      <a:lnTo>
                        <a:pt x="630" y="2192"/>
                      </a:lnTo>
                      <a:lnTo>
                        <a:pt x="647" y="2173"/>
                      </a:lnTo>
                      <a:lnTo>
                        <a:pt x="663" y="2156"/>
                      </a:lnTo>
                      <a:lnTo>
                        <a:pt x="680" y="2139"/>
                      </a:lnTo>
                      <a:lnTo>
                        <a:pt x="696" y="2122"/>
                      </a:lnTo>
                      <a:lnTo>
                        <a:pt x="713" y="2105"/>
                      </a:lnTo>
                      <a:lnTo>
                        <a:pt x="729" y="2087"/>
                      </a:lnTo>
                      <a:lnTo>
                        <a:pt x="748" y="2072"/>
                      </a:lnTo>
                      <a:lnTo>
                        <a:pt x="765" y="2056"/>
                      </a:lnTo>
                      <a:lnTo>
                        <a:pt x="786" y="2042"/>
                      </a:lnTo>
                      <a:lnTo>
                        <a:pt x="786" y="2036"/>
                      </a:lnTo>
                      <a:lnTo>
                        <a:pt x="817" y="2010"/>
                      </a:lnTo>
                      <a:lnTo>
                        <a:pt x="849" y="1984"/>
                      </a:lnTo>
                      <a:lnTo>
                        <a:pt x="880" y="1959"/>
                      </a:lnTo>
                      <a:lnTo>
                        <a:pt x="912" y="1933"/>
                      </a:lnTo>
                      <a:lnTo>
                        <a:pt x="941" y="1906"/>
                      </a:lnTo>
                      <a:lnTo>
                        <a:pt x="973" y="1880"/>
                      </a:lnTo>
                      <a:lnTo>
                        <a:pt x="1004" y="1854"/>
                      </a:lnTo>
                      <a:lnTo>
                        <a:pt x="1038" y="1831"/>
                      </a:lnTo>
                      <a:lnTo>
                        <a:pt x="1063" y="1825"/>
                      </a:lnTo>
                      <a:lnTo>
                        <a:pt x="1086" y="1815"/>
                      </a:lnTo>
                      <a:lnTo>
                        <a:pt x="1107" y="1802"/>
                      </a:lnTo>
                      <a:lnTo>
                        <a:pt x="1128" y="1787"/>
                      </a:lnTo>
                      <a:lnTo>
                        <a:pt x="1146" y="1769"/>
                      </a:lnTo>
                      <a:lnTo>
                        <a:pt x="1164" y="1751"/>
                      </a:lnTo>
                      <a:lnTo>
                        <a:pt x="1181" y="1733"/>
                      </a:lnTo>
                      <a:lnTo>
                        <a:pt x="1199" y="1716"/>
                      </a:lnTo>
                      <a:lnTo>
                        <a:pt x="1208" y="1723"/>
                      </a:lnTo>
                      <a:lnTo>
                        <a:pt x="1212" y="1716"/>
                      </a:lnTo>
                      <a:lnTo>
                        <a:pt x="1215" y="1710"/>
                      </a:lnTo>
                      <a:lnTo>
                        <a:pt x="1215" y="1702"/>
                      </a:lnTo>
                      <a:lnTo>
                        <a:pt x="1216" y="1697"/>
                      </a:lnTo>
                      <a:lnTo>
                        <a:pt x="1217" y="1683"/>
                      </a:lnTo>
                      <a:lnTo>
                        <a:pt x="1218" y="1668"/>
                      </a:lnTo>
                      <a:lnTo>
                        <a:pt x="1219" y="1653"/>
                      </a:lnTo>
                      <a:lnTo>
                        <a:pt x="1222" y="1639"/>
                      </a:lnTo>
                      <a:lnTo>
                        <a:pt x="1223" y="1624"/>
                      </a:lnTo>
                      <a:lnTo>
                        <a:pt x="1228" y="1609"/>
                      </a:lnTo>
                      <a:lnTo>
                        <a:pt x="1233" y="1596"/>
                      </a:lnTo>
                      <a:lnTo>
                        <a:pt x="1243" y="1585"/>
                      </a:lnTo>
                      <a:lnTo>
                        <a:pt x="1246" y="1574"/>
                      </a:lnTo>
                      <a:lnTo>
                        <a:pt x="1250" y="1564"/>
                      </a:lnTo>
                      <a:lnTo>
                        <a:pt x="1254" y="1553"/>
                      </a:lnTo>
                      <a:lnTo>
                        <a:pt x="1259" y="1542"/>
                      </a:lnTo>
                      <a:lnTo>
                        <a:pt x="1261" y="1529"/>
                      </a:lnTo>
                      <a:lnTo>
                        <a:pt x="1265" y="1517"/>
                      </a:lnTo>
                      <a:lnTo>
                        <a:pt x="1269" y="1506"/>
                      </a:lnTo>
                      <a:lnTo>
                        <a:pt x="1272" y="1495"/>
                      </a:lnTo>
                      <a:lnTo>
                        <a:pt x="1282" y="1495"/>
                      </a:lnTo>
                      <a:lnTo>
                        <a:pt x="1288" y="1502"/>
                      </a:lnTo>
                      <a:lnTo>
                        <a:pt x="1293" y="1507"/>
                      </a:lnTo>
                      <a:lnTo>
                        <a:pt x="1303" y="1505"/>
                      </a:lnTo>
                      <a:lnTo>
                        <a:pt x="1319" y="1348"/>
                      </a:lnTo>
                      <a:lnTo>
                        <a:pt x="1314" y="1341"/>
                      </a:lnTo>
                      <a:lnTo>
                        <a:pt x="1305" y="1347"/>
                      </a:lnTo>
                      <a:lnTo>
                        <a:pt x="1299" y="1355"/>
                      </a:lnTo>
                      <a:lnTo>
                        <a:pt x="1293" y="1365"/>
                      </a:lnTo>
                      <a:lnTo>
                        <a:pt x="1289" y="1375"/>
                      </a:lnTo>
                      <a:lnTo>
                        <a:pt x="1284" y="1385"/>
                      </a:lnTo>
                      <a:lnTo>
                        <a:pt x="1281" y="1394"/>
                      </a:lnTo>
                      <a:lnTo>
                        <a:pt x="1276" y="1404"/>
                      </a:lnTo>
                      <a:lnTo>
                        <a:pt x="1271" y="1414"/>
                      </a:lnTo>
                      <a:lnTo>
                        <a:pt x="1255" y="1423"/>
                      </a:lnTo>
                      <a:lnTo>
                        <a:pt x="1239" y="1431"/>
                      </a:lnTo>
                      <a:lnTo>
                        <a:pt x="1222" y="1439"/>
                      </a:lnTo>
                      <a:lnTo>
                        <a:pt x="1206" y="1447"/>
                      </a:lnTo>
                      <a:lnTo>
                        <a:pt x="1189" y="1453"/>
                      </a:lnTo>
                      <a:lnTo>
                        <a:pt x="1172" y="1461"/>
                      </a:lnTo>
                      <a:lnTo>
                        <a:pt x="1155" y="1467"/>
                      </a:lnTo>
                      <a:lnTo>
                        <a:pt x="1140" y="1474"/>
                      </a:lnTo>
                      <a:lnTo>
                        <a:pt x="1126" y="1477"/>
                      </a:lnTo>
                      <a:lnTo>
                        <a:pt x="1114" y="1480"/>
                      </a:lnTo>
                      <a:lnTo>
                        <a:pt x="1103" y="1485"/>
                      </a:lnTo>
                      <a:lnTo>
                        <a:pt x="1092" y="1490"/>
                      </a:lnTo>
                      <a:lnTo>
                        <a:pt x="1080" y="1495"/>
                      </a:lnTo>
                      <a:lnTo>
                        <a:pt x="1069" y="1500"/>
                      </a:lnTo>
                      <a:lnTo>
                        <a:pt x="1056" y="1505"/>
                      </a:lnTo>
                      <a:lnTo>
                        <a:pt x="1045" y="1511"/>
                      </a:lnTo>
                      <a:lnTo>
                        <a:pt x="1045" y="1523"/>
                      </a:lnTo>
                      <a:lnTo>
                        <a:pt x="1044" y="1536"/>
                      </a:lnTo>
                      <a:lnTo>
                        <a:pt x="1041" y="1547"/>
                      </a:lnTo>
                      <a:lnTo>
                        <a:pt x="1037" y="1559"/>
                      </a:lnTo>
                      <a:lnTo>
                        <a:pt x="1030" y="1570"/>
                      </a:lnTo>
                      <a:lnTo>
                        <a:pt x="1023" y="1581"/>
                      </a:lnTo>
                      <a:lnTo>
                        <a:pt x="1017" y="1592"/>
                      </a:lnTo>
                      <a:lnTo>
                        <a:pt x="1011" y="1603"/>
                      </a:lnTo>
                      <a:lnTo>
                        <a:pt x="999" y="1608"/>
                      </a:lnTo>
                      <a:lnTo>
                        <a:pt x="988" y="1615"/>
                      </a:lnTo>
                      <a:lnTo>
                        <a:pt x="977" y="1621"/>
                      </a:lnTo>
                      <a:lnTo>
                        <a:pt x="966" y="1628"/>
                      </a:lnTo>
                      <a:lnTo>
                        <a:pt x="954" y="1631"/>
                      </a:lnTo>
                      <a:lnTo>
                        <a:pt x="942" y="1636"/>
                      </a:lnTo>
                      <a:lnTo>
                        <a:pt x="930" y="1640"/>
                      </a:lnTo>
                      <a:lnTo>
                        <a:pt x="919" y="1642"/>
                      </a:lnTo>
                      <a:lnTo>
                        <a:pt x="903" y="1647"/>
                      </a:lnTo>
                      <a:lnTo>
                        <a:pt x="889" y="1653"/>
                      </a:lnTo>
                      <a:lnTo>
                        <a:pt x="873" y="1658"/>
                      </a:lnTo>
                      <a:lnTo>
                        <a:pt x="857" y="1664"/>
                      </a:lnTo>
                      <a:lnTo>
                        <a:pt x="841" y="1669"/>
                      </a:lnTo>
                      <a:lnTo>
                        <a:pt x="825" y="1674"/>
                      </a:lnTo>
                      <a:lnTo>
                        <a:pt x="809" y="1679"/>
                      </a:lnTo>
                      <a:lnTo>
                        <a:pt x="794" y="1684"/>
                      </a:lnTo>
                      <a:lnTo>
                        <a:pt x="777" y="1691"/>
                      </a:lnTo>
                      <a:lnTo>
                        <a:pt x="760" y="1700"/>
                      </a:lnTo>
                      <a:lnTo>
                        <a:pt x="743" y="1705"/>
                      </a:lnTo>
                      <a:lnTo>
                        <a:pt x="726" y="1712"/>
                      </a:lnTo>
                      <a:lnTo>
                        <a:pt x="707" y="1718"/>
                      </a:lnTo>
                      <a:lnTo>
                        <a:pt x="692" y="1728"/>
                      </a:lnTo>
                      <a:lnTo>
                        <a:pt x="679" y="1739"/>
                      </a:lnTo>
                      <a:lnTo>
                        <a:pt x="670" y="1755"/>
                      </a:lnTo>
                      <a:lnTo>
                        <a:pt x="652" y="1762"/>
                      </a:lnTo>
                      <a:lnTo>
                        <a:pt x="636" y="1770"/>
                      </a:lnTo>
                      <a:lnTo>
                        <a:pt x="621" y="1777"/>
                      </a:lnTo>
                      <a:lnTo>
                        <a:pt x="607" y="1786"/>
                      </a:lnTo>
                      <a:lnTo>
                        <a:pt x="592" y="1794"/>
                      </a:lnTo>
                      <a:lnTo>
                        <a:pt x="577" y="1805"/>
                      </a:lnTo>
                      <a:lnTo>
                        <a:pt x="564" y="1815"/>
                      </a:lnTo>
                      <a:lnTo>
                        <a:pt x="551" y="1829"/>
                      </a:lnTo>
                      <a:lnTo>
                        <a:pt x="532" y="1843"/>
                      </a:lnTo>
                      <a:lnTo>
                        <a:pt x="516" y="1859"/>
                      </a:lnTo>
                      <a:lnTo>
                        <a:pt x="500" y="1875"/>
                      </a:lnTo>
                      <a:lnTo>
                        <a:pt x="485" y="1894"/>
                      </a:lnTo>
                      <a:lnTo>
                        <a:pt x="471" y="1911"/>
                      </a:lnTo>
                      <a:lnTo>
                        <a:pt x="456" y="1928"/>
                      </a:lnTo>
                      <a:lnTo>
                        <a:pt x="440" y="1945"/>
                      </a:lnTo>
                      <a:lnTo>
                        <a:pt x="425" y="1962"/>
                      </a:lnTo>
                      <a:lnTo>
                        <a:pt x="422" y="1968"/>
                      </a:lnTo>
                      <a:lnTo>
                        <a:pt x="419" y="1975"/>
                      </a:lnTo>
                      <a:lnTo>
                        <a:pt x="414" y="1980"/>
                      </a:lnTo>
                      <a:lnTo>
                        <a:pt x="409" y="1986"/>
                      </a:lnTo>
                      <a:lnTo>
                        <a:pt x="398" y="1995"/>
                      </a:lnTo>
                      <a:lnTo>
                        <a:pt x="388" y="2005"/>
                      </a:lnTo>
                      <a:lnTo>
                        <a:pt x="382" y="2020"/>
                      </a:lnTo>
                      <a:lnTo>
                        <a:pt x="374" y="2033"/>
                      </a:lnTo>
                      <a:lnTo>
                        <a:pt x="363" y="2045"/>
                      </a:lnTo>
                      <a:lnTo>
                        <a:pt x="352" y="2057"/>
                      </a:lnTo>
                      <a:lnTo>
                        <a:pt x="339" y="2068"/>
                      </a:lnTo>
                      <a:lnTo>
                        <a:pt x="330" y="2081"/>
                      </a:lnTo>
                      <a:lnTo>
                        <a:pt x="321" y="2095"/>
                      </a:lnTo>
                      <a:lnTo>
                        <a:pt x="316" y="2112"/>
                      </a:lnTo>
                      <a:lnTo>
                        <a:pt x="310" y="2119"/>
                      </a:lnTo>
                      <a:lnTo>
                        <a:pt x="305" y="2128"/>
                      </a:lnTo>
                      <a:lnTo>
                        <a:pt x="298" y="2137"/>
                      </a:lnTo>
                      <a:lnTo>
                        <a:pt x="294" y="2146"/>
                      </a:lnTo>
                      <a:lnTo>
                        <a:pt x="289" y="2152"/>
                      </a:lnTo>
                      <a:lnTo>
                        <a:pt x="286" y="2160"/>
                      </a:lnTo>
                      <a:lnTo>
                        <a:pt x="282" y="2167"/>
                      </a:lnTo>
                      <a:lnTo>
                        <a:pt x="278" y="2175"/>
                      </a:lnTo>
                      <a:lnTo>
                        <a:pt x="274" y="2182"/>
                      </a:lnTo>
                      <a:lnTo>
                        <a:pt x="271" y="2189"/>
                      </a:lnTo>
                      <a:lnTo>
                        <a:pt x="267" y="2197"/>
                      </a:lnTo>
                      <a:lnTo>
                        <a:pt x="263" y="2205"/>
                      </a:lnTo>
                      <a:lnTo>
                        <a:pt x="256" y="2214"/>
                      </a:lnTo>
                      <a:lnTo>
                        <a:pt x="251" y="2224"/>
                      </a:lnTo>
                      <a:lnTo>
                        <a:pt x="245" y="2235"/>
                      </a:lnTo>
                      <a:lnTo>
                        <a:pt x="241" y="2247"/>
                      </a:lnTo>
                      <a:lnTo>
                        <a:pt x="232" y="2268"/>
                      </a:lnTo>
                      <a:lnTo>
                        <a:pt x="225" y="2289"/>
                      </a:lnTo>
                      <a:lnTo>
                        <a:pt x="218" y="2311"/>
                      </a:lnTo>
                      <a:lnTo>
                        <a:pt x="213" y="2333"/>
                      </a:lnTo>
                      <a:lnTo>
                        <a:pt x="206" y="2355"/>
                      </a:lnTo>
                      <a:lnTo>
                        <a:pt x="201" y="2377"/>
                      </a:lnTo>
                      <a:lnTo>
                        <a:pt x="196" y="2399"/>
                      </a:lnTo>
                      <a:lnTo>
                        <a:pt x="192" y="2425"/>
                      </a:lnTo>
                      <a:lnTo>
                        <a:pt x="163" y="2554"/>
                      </a:lnTo>
                      <a:lnTo>
                        <a:pt x="153" y="2560"/>
                      </a:lnTo>
                      <a:lnTo>
                        <a:pt x="148" y="2569"/>
                      </a:lnTo>
                      <a:lnTo>
                        <a:pt x="145" y="2581"/>
                      </a:lnTo>
                      <a:lnTo>
                        <a:pt x="143" y="2593"/>
                      </a:lnTo>
                      <a:lnTo>
                        <a:pt x="140" y="2604"/>
                      </a:lnTo>
                      <a:lnTo>
                        <a:pt x="138" y="2616"/>
                      </a:lnTo>
                      <a:lnTo>
                        <a:pt x="135" y="2627"/>
                      </a:lnTo>
                      <a:lnTo>
                        <a:pt x="131" y="2638"/>
                      </a:lnTo>
                      <a:lnTo>
                        <a:pt x="127" y="2665"/>
                      </a:lnTo>
                      <a:lnTo>
                        <a:pt x="122" y="2693"/>
                      </a:lnTo>
                      <a:lnTo>
                        <a:pt x="115" y="2720"/>
                      </a:lnTo>
                      <a:lnTo>
                        <a:pt x="108" y="2747"/>
                      </a:lnTo>
                      <a:lnTo>
                        <a:pt x="99" y="2773"/>
                      </a:lnTo>
                      <a:lnTo>
                        <a:pt x="93" y="2801"/>
                      </a:lnTo>
                      <a:lnTo>
                        <a:pt x="87" y="2829"/>
                      </a:lnTo>
                      <a:lnTo>
                        <a:pt x="84" y="2859"/>
                      </a:lnTo>
                      <a:lnTo>
                        <a:pt x="80" y="2869"/>
                      </a:lnTo>
                      <a:lnTo>
                        <a:pt x="80" y="2880"/>
                      </a:lnTo>
                      <a:lnTo>
                        <a:pt x="80" y="2891"/>
                      </a:lnTo>
                      <a:lnTo>
                        <a:pt x="80" y="2903"/>
                      </a:lnTo>
                      <a:lnTo>
                        <a:pt x="73" y="2920"/>
                      </a:lnTo>
                      <a:lnTo>
                        <a:pt x="70" y="2939"/>
                      </a:lnTo>
                      <a:lnTo>
                        <a:pt x="66" y="2956"/>
                      </a:lnTo>
                      <a:lnTo>
                        <a:pt x="64" y="2974"/>
                      </a:lnTo>
                      <a:lnTo>
                        <a:pt x="59" y="2990"/>
                      </a:lnTo>
                      <a:lnTo>
                        <a:pt x="54" y="3007"/>
                      </a:lnTo>
                      <a:lnTo>
                        <a:pt x="48" y="3023"/>
                      </a:lnTo>
                      <a:lnTo>
                        <a:pt x="40" y="3040"/>
                      </a:lnTo>
                      <a:lnTo>
                        <a:pt x="31" y="3045"/>
                      </a:lnTo>
                      <a:lnTo>
                        <a:pt x="21" y="3049"/>
                      </a:lnTo>
                      <a:lnTo>
                        <a:pt x="10" y="3049"/>
                      </a:lnTo>
                      <a:lnTo>
                        <a:pt x="0" y="3045"/>
                      </a:lnTo>
                      <a:lnTo>
                        <a:pt x="0" y="3037"/>
                      </a:lnTo>
                      <a:lnTo>
                        <a:pt x="5" y="3029"/>
                      </a:lnTo>
                      <a:lnTo>
                        <a:pt x="9" y="3022"/>
                      </a:lnTo>
                      <a:lnTo>
                        <a:pt x="13" y="3015"/>
                      </a:lnTo>
                      <a:lnTo>
                        <a:pt x="13" y="2996"/>
                      </a:lnTo>
                      <a:lnTo>
                        <a:pt x="12" y="2978"/>
                      </a:lnTo>
                      <a:lnTo>
                        <a:pt x="9" y="2961"/>
                      </a:lnTo>
                      <a:lnTo>
                        <a:pt x="7" y="2944"/>
                      </a:lnTo>
                      <a:lnTo>
                        <a:pt x="4" y="2925"/>
                      </a:lnTo>
                      <a:lnTo>
                        <a:pt x="5" y="2907"/>
                      </a:lnTo>
                      <a:lnTo>
                        <a:pt x="6" y="2888"/>
                      </a:lnTo>
                      <a:lnTo>
                        <a:pt x="13" y="2870"/>
                      </a:lnTo>
                      <a:lnTo>
                        <a:pt x="12" y="2852"/>
                      </a:lnTo>
                      <a:lnTo>
                        <a:pt x="13" y="2833"/>
                      </a:lnTo>
                      <a:lnTo>
                        <a:pt x="15" y="2814"/>
                      </a:lnTo>
                      <a:lnTo>
                        <a:pt x="17" y="2795"/>
                      </a:lnTo>
                      <a:lnTo>
                        <a:pt x="18" y="2774"/>
                      </a:lnTo>
                      <a:lnTo>
                        <a:pt x="21" y="2756"/>
                      </a:lnTo>
                      <a:lnTo>
                        <a:pt x="21" y="2736"/>
                      </a:lnTo>
                      <a:lnTo>
                        <a:pt x="22" y="2719"/>
                      </a:lnTo>
                      <a:lnTo>
                        <a:pt x="18" y="2708"/>
                      </a:lnTo>
                      <a:lnTo>
                        <a:pt x="18" y="2698"/>
                      </a:lnTo>
                      <a:lnTo>
                        <a:pt x="21" y="2688"/>
                      </a:lnTo>
                      <a:lnTo>
                        <a:pt x="24" y="2680"/>
                      </a:lnTo>
                      <a:lnTo>
                        <a:pt x="27" y="2670"/>
                      </a:lnTo>
                      <a:lnTo>
                        <a:pt x="31" y="2660"/>
                      </a:lnTo>
                      <a:lnTo>
                        <a:pt x="32" y="2650"/>
                      </a:lnTo>
                      <a:lnTo>
                        <a:pt x="32" y="2641"/>
                      </a:lnTo>
                      <a:lnTo>
                        <a:pt x="32" y="2617"/>
                      </a:lnTo>
                      <a:lnTo>
                        <a:pt x="35" y="2594"/>
                      </a:lnTo>
                      <a:lnTo>
                        <a:pt x="38" y="2571"/>
                      </a:lnTo>
                      <a:lnTo>
                        <a:pt x="43" y="2549"/>
                      </a:lnTo>
                      <a:lnTo>
                        <a:pt x="46" y="2525"/>
                      </a:lnTo>
                      <a:lnTo>
                        <a:pt x="54" y="2503"/>
                      </a:lnTo>
                      <a:lnTo>
                        <a:pt x="60" y="2481"/>
                      </a:lnTo>
                      <a:lnTo>
                        <a:pt x="69" y="2462"/>
                      </a:lnTo>
                      <a:lnTo>
                        <a:pt x="62" y="2447"/>
                      </a:lnTo>
                      <a:lnTo>
                        <a:pt x="64" y="2435"/>
                      </a:lnTo>
                      <a:lnTo>
                        <a:pt x="67" y="2424"/>
                      </a:lnTo>
                      <a:lnTo>
                        <a:pt x="73" y="2412"/>
                      </a:lnTo>
                      <a:lnTo>
                        <a:pt x="78" y="2400"/>
                      </a:lnTo>
                      <a:lnTo>
                        <a:pt x="83" y="2389"/>
                      </a:lnTo>
                      <a:lnTo>
                        <a:pt x="83" y="2377"/>
                      </a:lnTo>
                      <a:lnTo>
                        <a:pt x="80" y="2365"/>
                      </a:lnTo>
                      <a:lnTo>
                        <a:pt x="83" y="2354"/>
                      </a:lnTo>
                      <a:lnTo>
                        <a:pt x="88" y="2345"/>
                      </a:lnTo>
                      <a:lnTo>
                        <a:pt x="91" y="2334"/>
                      </a:lnTo>
                      <a:lnTo>
                        <a:pt x="93" y="2325"/>
                      </a:lnTo>
                      <a:lnTo>
                        <a:pt x="93" y="2316"/>
                      </a:lnTo>
                      <a:lnTo>
                        <a:pt x="96" y="2306"/>
                      </a:lnTo>
                      <a:lnTo>
                        <a:pt x="98" y="2296"/>
                      </a:lnTo>
                      <a:lnTo>
                        <a:pt x="103" y="2286"/>
                      </a:lnTo>
                      <a:lnTo>
                        <a:pt x="107" y="2274"/>
                      </a:lnTo>
                      <a:lnTo>
                        <a:pt x="110" y="2262"/>
                      </a:lnTo>
                      <a:lnTo>
                        <a:pt x="110" y="2254"/>
                      </a:lnTo>
                      <a:lnTo>
                        <a:pt x="111" y="2248"/>
                      </a:lnTo>
                      <a:lnTo>
                        <a:pt x="110" y="2241"/>
                      </a:lnTo>
                      <a:lnTo>
                        <a:pt x="110" y="2236"/>
                      </a:lnTo>
                      <a:lnTo>
                        <a:pt x="142" y="2070"/>
                      </a:lnTo>
                      <a:lnTo>
                        <a:pt x="179" y="1771"/>
                      </a:lnTo>
                      <a:lnTo>
                        <a:pt x="184" y="1759"/>
                      </a:lnTo>
                      <a:lnTo>
                        <a:pt x="185" y="1746"/>
                      </a:lnTo>
                      <a:lnTo>
                        <a:pt x="186" y="1733"/>
                      </a:lnTo>
                      <a:lnTo>
                        <a:pt x="192" y="1723"/>
                      </a:lnTo>
                      <a:lnTo>
                        <a:pt x="190" y="1715"/>
                      </a:lnTo>
                      <a:lnTo>
                        <a:pt x="191" y="1707"/>
                      </a:lnTo>
                      <a:lnTo>
                        <a:pt x="192" y="1700"/>
                      </a:lnTo>
                      <a:lnTo>
                        <a:pt x="196" y="1694"/>
                      </a:lnTo>
                      <a:lnTo>
                        <a:pt x="198" y="1686"/>
                      </a:lnTo>
                      <a:lnTo>
                        <a:pt x="201" y="1679"/>
                      </a:lnTo>
                      <a:lnTo>
                        <a:pt x="201" y="1672"/>
                      </a:lnTo>
                      <a:lnTo>
                        <a:pt x="202" y="1666"/>
                      </a:lnTo>
                      <a:lnTo>
                        <a:pt x="206" y="1656"/>
                      </a:lnTo>
                      <a:lnTo>
                        <a:pt x="206" y="1646"/>
                      </a:lnTo>
                      <a:lnTo>
                        <a:pt x="206" y="1636"/>
                      </a:lnTo>
                      <a:lnTo>
                        <a:pt x="213" y="1631"/>
                      </a:lnTo>
                      <a:lnTo>
                        <a:pt x="228" y="1585"/>
                      </a:lnTo>
                      <a:lnTo>
                        <a:pt x="243" y="1538"/>
                      </a:lnTo>
                      <a:lnTo>
                        <a:pt x="257" y="1491"/>
                      </a:lnTo>
                      <a:lnTo>
                        <a:pt x="273" y="1446"/>
                      </a:lnTo>
                      <a:lnTo>
                        <a:pt x="288" y="1399"/>
                      </a:lnTo>
                      <a:lnTo>
                        <a:pt x="303" y="1354"/>
                      </a:lnTo>
                      <a:lnTo>
                        <a:pt x="319" y="1309"/>
                      </a:lnTo>
                      <a:lnTo>
                        <a:pt x="337" y="1266"/>
                      </a:lnTo>
                      <a:lnTo>
                        <a:pt x="344" y="1245"/>
                      </a:lnTo>
                      <a:lnTo>
                        <a:pt x="352" y="1224"/>
                      </a:lnTo>
                      <a:lnTo>
                        <a:pt x="358" y="1202"/>
                      </a:lnTo>
                      <a:lnTo>
                        <a:pt x="364" y="1181"/>
                      </a:lnTo>
                      <a:lnTo>
                        <a:pt x="368" y="1159"/>
                      </a:lnTo>
                      <a:lnTo>
                        <a:pt x="371" y="1138"/>
                      </a:lnTo>
                      <a:lnTo>
                        <a:pt x="374" y="1116"/>
                      </a:lnTo>
                      <a:lnTo>
                        <a:pt x="376" y="1095"/>
                      </a:lnTo>
                      <a:lnTo>
                        <a:pt x="379" y="1088"/>
                      </a:lnTo>
                      <a:lnTo>
                        <a:pt x="382" y="1082"/>
                      </a:lnTo>
                      <a:lnTo>
                        <a:pt x="385" y="1074"/>
                      </a:lnTo>
                      <a:lnTo>
                        <a:pt x="388" y="1068"/>
                      </a:lnTo>
                      <a:lnTo>
                        <a:pt x="390" y="1060"/>
                      </a:lnTo>
                      <a:lnTo>
                        <a:pt x="391" y="1052"/>
                      </a:lnTo>
                      <a:lnTo>
                        <a:pt x="390" y="1045"/>
                      </a:lnTo>
                      <a:lnTo>
                        <a:pt x="390" y="1038"/>
                      </a:lnTo>
                      <a:lnTo>
                        <a:pt x="395" y="1028"/>
                      </a:lnTo>
                      <a:lnTo>
                        <a:pt x="395" y="1018"/>
                      </a:lnTo>
                      <a:lnTo>
                        <a:pt x="390" y="1008"/>
                      </a:lnTo>
                      <a:lnTo>
                        <a:pt x="388" y="998"/>
                      </a:lnTo>
                      <a:lnTo>
                        <a:pt x="387" y="987"/>
                      </a:lnTo>
                      <a:lnTo>
                        <a:pt x="386" y="976"/>
                      </a:lnTo>
                      <a:lnTo>
                        <a:pt x="382" y="965"/>
                      </a:lnTo>
                      <a:lnTo>
                        <a:pt x="380" y="955"/>
                      </a:lnTo>
                      <a:lnTo>
                        <a:pt x="376" y="944"/>
                      </a:lnTo>
                      <a:lnTo>
                        <a:pt x="375" y="935"/>
                      </a:lnTo>
                      <a:lnTo>
                        <a:pt x="375" y="924"/>
                      </a:lnTo>
                      <a:lnTo>
                        <a:pt x="379" y="914"/>
                      </a:lnTo>
                      <a:lnTo>
                        <a:pt x="376" y="894"/>
                      </a:lnTo>
                      <a:lnTo>
                        <a:pt x="375" y="876"/>
                      </a:lnTo>
                      <a:lnTo>
                        <a:pt x="374" y="857"/>
                      </a:lnTo>
                      <a:lnTo>
                        <a:pt x="374" y="840"/>
                      </a:lnTo>
                      <a:lnTo>
                        <a:pt x="373" y="822"/>
                      </a:lnTo>
                      <a:lnTo>
                        <a:pt x="373" y="805"/>
                      </a:lnTo>
                      <a:lnTo>
                        <a:pt x="374" y="786"/>
                      </a:lnTo>
                      <a:lnTo>
                        <a:pt x="376" y="769"/>
                      </a:lnTo>
                      <a:lnTo>
                        <a:pt x="376" y="762"/>
                      </a:lnTo>
                      <a:lnTo>
                        <a:pt x="376" y="754"/>
                      </a:lnTo>
                      <a:lnTo>
                        <a:pt x="374" y="747"/>
                      </a:lnTo>
                      <a:lnTo>
                        <a:pt x="373" y="740"/>
                      </a:lnTo>
                      <a:lnTo>
                        <a:pt x="371" y="732"/>
                      </a:lnTo>
                      <a:lnTo>
                        <a:pt x="374" y="728"/>
                      </a:lnTo>
                      <a:lnTo>
                        <a:pt x="379" y="727"/>
                      </a:lnTo>
                      <a:lnTo>
                        <a:pt x="390" y="730"/>
                      </a:lnTo>
                      <a:lnTo>
                        <a:pt x="393" y="738"/>
                      </a:lnTo>
                      <a:lnTo>
                        <a:pt x="396" y="748"/>
                      </a:lnTo>
                      <a:lnTo>
                        <a:pt x="397" y="758"/>
                      </a:lnTo>
                      <a:lnTo>
                        <a:pt x="400" y="769"/>
                      </a:lnTo>
                      <a:lnTo>
                        <a:pt x="401" y="778"/>
                      </a:lnTo>
                      <a:lnTo>
                        <a:pt x="403" y="787"/>
                      </a:lnTo>
                      <a:lnTo>
                        <a:pt x="406" y="796"/>
                      </a:lnTo>
                      <a:lnTo>
                        <a:pt x="411" y="806"/>
                      </a:lnTo>
                      <a:lnTo>
                        <a:pt x="413" y="795"/>
                      </a:lnTo>
                      <a:lnTo>
                        <a:pt x="412" y="784"/>
                      </a:lnTo>
                      <a:lnTo>
                        <a:pt x="409" y="773"/>
                      </a:lnTo>
                      <a:lnTo>
                        <a:pt x="411" y="762"/>
                      </a:lnTo>
                      <a:lnTo>
                        <a:pt x="406" y="754"/>
                      </a:lnTo>
                      <a:lnTo>
                        <a:pt x="404" y="747"/>
                      </a:lnTo>
                      <a:lnTo>
                        <a:pt x="403" y="740"/>
                      </a:lnTo>
                      <a:lnTo>
                        <a:pt x="403" y="732"/>
                      </a:lnTo>
                      <a:lnTo>
                        <a:pt x="403" y="724"/>
                      </a:lnTo>
                      <a:lnTo>
                        <a:pt x="403" y="716"/>
                      </a:lnTo>
                      <a:lnTo>
                        <a:pt x="402" y="709"/>
                      </a:lnTo>
                      <a:lnTo>
                        <a:pt x="402" y="702"/>
                      </a:lnTo>
                      <a:lnTo>
                        <a:pt x="397" y="690"/>
                      </a:lnTo>
                      <a:lnTo>
                        <a:pt x="396" y="681"/>
                      </a:lnTo>
                      <a:lnTo>
                        <a:pt x="395" y="671"/>
                      </a:lnTo>
                      <a:lnTo>
                        <a:pt x="396" y="661"/>
                      </a:lnTo>
                      <a:lnTo>
                        <a:pt x="396" y="650"/>
                      </a:lnTo>
                      <a:lnTo>
                        <a:pt x="396" y="639"/>
                      </a:lnTo>
                      <a:lnTo>
                        <a:pt x="396" y="629"/>
                      </a:lnTo>
                      <a:lnTo>
                        <a:pt x="397" y="619"/>
                      </a:lnTo>
                      <a:lnTo>
                        <a:pt x="406" y="614"/>
                      </a:lnTo>
                      <a:lnTo>
                        <a:pt x="415" y="617"/>
                      </a:lnTo>
                      <a:lnTo>
                        <a:pt x="419" y="627"/>
                      </a:lnTo>
                      <a:lnTo>
                        <a:pt x="420" y="639"/>
                      </a:lnTo>
                      <a:lnTo>
                        <a:pt x="422" y="649"/>
                      </a:lnTo>
                      <a:lnTo>
                        <a:pt x="425" y="660"/>
                      </a:lnTo>
                      <a:lnTo>
                        <a:pt x="428" y="655"/>
                      </a:lnTo>
                      <a:lnTo>
                        <a:pt x="429" y="650"/>
                      </a:lnTo>
                      <a:lnTo>
                        <a:pt x="430" y="644"/>
                      </a:lnTo>
                      <a:lnTo>
                        <a:pt x="431" y="640"/>
                      </a:lnTo>
                      <a:lnTo>
                        <a:pt x="425" y="632"/>
                      </a:lnTo>
                      <a:lnTo>
                        <a:pt x="424" y="623"/>
                      </a:lnTo>
                      <a:lnTo>
                        <a:pt x="424" y="613"/>
                      </a:lnTo>
                      <a:lnTo>
                        <a:pt x="425" y="605"/>
                      </a:lnTo>
                      <a:lnTo>
                        <a:pt x="423" y="595"/>
                      </a:lnTo>
                      <a:lnTo>
                        <a:pt x="422" y="587"/>
                      </a:lnTo>
                      <a:lnTo>
                        <a:pt x="422" y="578"/>
                      </a:lnTo>
                      <a:lnTo>
                        <a:pt x="422" y="570"/>
                      </a:lnTo>
                      <a:lnTo>
                        <a:pt x="420" y="560"/>
                      </a:lnTo>
                      <a:lnTo>
                        <a:pt x="420" y="552"/>
                      </a:lnTo>
                      <a:lnTo>
                        <a:pt x="420" y="542"/>
                      </a:lnTo>
                      <a:lnTo>
                        <a:pt x="420" y="533"/>
                      </a:lnTo>
                      <a:lnTo>
                        <a:pt x="425" y="530"/>
                      </a:lnTo>
                      <a:lnTo>
                        <a:pt x="426" y="525"/>
                      </a:lnTo>
                      <a:lnTo>
                        <a:pt x="433" y="525"/>
                      </a:lnTo>
                      <a:lnTo>
                        <a:pt x="437" y="527"/>
                      </a:lnTo>
                      <a:lnTo>
                        <a:pt x="441" y="531"/>
                      </a:lnTo>
                      <a:lnTo>
                        <a:pt x="445" y="536"/>
                      </a:lnTo>
                      <a:lnTo>
                        <a:pt x="442" y="543"/>
                      </a:lnTo>
                      <a:lnTo>
                        <a:pt x="444" y="552"/>
                      </a:lnTo>
                      <a:lnTo>
                        <a:pt x="446" y="559"/>
                      </a:lnTo>
                      <a:lnTo>
                        <a:pt x="450" y="568"/>
                      </a:lnTo>
                      <a:lnTo>
                        <a:pt x="452" y="558"/>
                      </a:lnTo>
                      <a:lnTo>
                        <a:pt x="455" y="548"/>
                      </a:lnTo>
                      <a:lnTo>
                        <a:pt x="456" y="538"/>
                      </a:lnTo>
                      <a:lnTo>
                        <a:pt x="457" y="530"/>
                      </a:lnTo>
                      <a:lnTo>
                        <a:pt x="456" y="520"/>
                      </a:lnTo>
                      <a:lnTo>
                        <a:pt x="455" y="511"/>
                      </a:lnTo>
                      <a:lnTo>
                        <a:pt x="455" y="502"/>
                      </a:lnTo>
                      <a:lnTo>
                        <a:pt x="455" y="494"/>
                      </a:lnTo>
                      <a:lnTo>
                        <a:pt x="453" y="487"/>
                      </a:lnTo>
                      <a:lnTo>
                        <a:pt x="452" y="480"/>
                      </a:lnTo>
                      <a:lnTo>
                        <a:pt x="451" y="472"/>
                      </a:lnTo>
                      <a:lnTo>
                        <a:pt x="451" y="465"/>
                      </a:lnTo>
                      <a:lnTo>
                        <a:pt x="451" y="457"/>
                      </a:lnTo>
                      <a:lnTo>
                        <a:pt x="452" y="450"/>
                      </a:lnTo>
                      <a:lnTo>
                        <a:pt x="456" y="443"/>
                      </a:lnTo>
                      <a:lnTo>
                        <a:pt x="462" y="438"/>
                      </a:lnTo>
                      <a:lnTo>
                        <a:pt x="467" y="439"/>
                      </a:lnTo>
                      <a:lnTo>
                        <a:pt x="472" y="443"/>
                      </a:lnTo>
                      <a:lnTo>
                        <a:pt x="475" y="449"/>
                      </a:lnTo>
                      <a:lnTo>
                        <a:pt x="479" y="456"/>
                      </a:lnTo>
                      <a:lnTo>
                        <a:pt x="482" y="461"/>
                      </a:lnTo>
                      <a:lnTo>
                        <a:pt x="487" y="467"/>
                      </a:lnTo>
                      <a:lnTo>
                        <a:pt x="490" y="471"/>
                      </a:lnTo>
                      <a:lnTo>
                        <a:pt x="499" y="472"/>
                      </a:lnTo>
                      <a:lnTo>
                        <a:pt x="498" y="459"/>
                      </a:lnTo>
                      <a:lnTo>
                        <a:pt x="498" y="445"/>
                      </a:lnTo>
                      <a:lnTo>
                        <a:pt x="496" y="432"/>
                      </a:lnTo>
                      <a:lnTo>
                        <a:pt x="498" y="418"/>
                      </a:lnTo>
                      <a:lnTo>
                        <a:pt x="498" y="403"/>
                      </a:lnTo>
                      <a:lnTo>
                        <a:pt x="500" y="391"/>
                      </a:lnTo>
                      <a:lnTo>
                        <a:pt x="504" y="379"/>
                      </a:lnTo>
                      <a:lnTo>
                        <a:pt x="512" y="368"/>
                      </a:lnTo>
                      <a:lnTo>
                        <a:pt x="520" y="367"/>
                      </a:lnTo>
                      <a:lnTo>
                        <a:pt x="528" y="364"/>
                      </a:lnTo>
                      <a:lnTo>
                        <a:pt x="525" y="352"/>
                      </a:lnTo>
                      <a:lnTo>
                        <a:pt x="526" y="340"/>
                      </a:lnTo>
                      <a:lnTo>
                        <a:pt x="529" y="329"/>
                      </a:lnTo>
                      <a:lnTo>
                        <a:pt x="536" y="320"/>
                      </a:lnTo>
                      <a:lnTo>
                        <a:pt x="542" y="320"/>
                      </a:lnTo>
                      <a:lnTo>
                        <a:pt x="547" y="319"/>
                      </a:lnTo>
                      <a:lnTo>
                        <a:pt x="550" y="315"/>
                      </a:lnTo>
                      <a:lnTo>
                        <a:pt x="554" y="311"/>
                      </a:lnTo>
                      <a:lnTo>
                        <a:pt x="555" y="305"/>
                      </a:lnTo>
                      <a:lnTo>
                        <a:pt x="559" y="300"/>
                      </a:lnTo>
                      <a:lnTo>
                        <a:pt x="563" y="294"/>
                      </a:lnTo>
                      <a:lnTo>
                        <a:pt x="567" y="291"/>
                      </a:lnTo>
                      <a:lnTo>
                        <a:pt x="569" y="277"/>
                      </a:lnTo>
                      <a:lnTo>
                        <a:pt x="572" y="266"/>
                      </a:lnTo>
                      <a:lnTo>
                        <a:pt x="576" y="255"/>
                      </a:lnTo>
                      <a:lnTo>
                        <a:pt x="581" y="245"/>
                      </a:lnTo>
                      <a:lnTo>
                        <a:pt x="585" y="233"/>
                      </a:lnTo>
                      <a:lnTo>
                        <a:pt x="589" y="222"/>
                      </a:lnTo>
                      <a:lnTo>
                        <a:pt x="593" y="211"/>
                      </a:lnTo>
                      <a:lnTo>
                        <a:pt x="597" y="200"/>
                      </a:lnTo>
                      <a:lnTo>
                        <a:pt x="607" y="197"/>
                      </a:lnTo>
                      <a:lnTo>
                        <a:pt x="618" y="200"/>
                      </a:lnTo>
                      <a:lnTo>
                        <a:pt x="618" y="208"/>
                      </a:lnTo>
                      <a:lnTo>
                        <a:pt x="618" y="218"/>
                      </a:lnTo>
                      <a:lnTo>
                        <a:pt x="618" y="228"/>
                      </a:lnTo>
                      <a:lnTo>
                        <a:pt x="618" y="238"/>
                      </a:lnTo>
                      <a:lnTo>
                        <a:pt x="618" y="246"/>
                      </a:lnTo>
                      <a:lnTo>
                        <a:pt x="619" y="255"/>
                      </a:lnTo>
                      <a:lnTo>
                        <a:pt x="623" y="264"/>
                      </a:lnTo>
                      <a:lnTo>
                        <a:pt x="629" y="273"/>
                      </a:lnTo>
                      <a:lnTo>
                        <a:pt x="635" y="273"/>
                      </a:lnTo>
                      <a:lnTo>
                        <a:pt x="640" y="272"/>
                      </a:lnTo>
                      <a:lnTo>
                        <a:pt x="642" y="267"/>
                      </a:lnTo>
                      <a:lnTo>
                        <a:pt x="645" y="262"/>
                      </a:lnTo>
                      <a:lnTo>
                        <a:pt x="645" y="255"/>
                      </a:lnTo>
                      <a:lnTo>
                        <a:pt x="646" y="248"/>
                      </a:lnTo>
                      <a:lnTo>
                        <a:pt x="647" y="242"/>
                      </a:lnTo>
                      <a:lnTo>
                        <a:pt x="650" y="237"/>
                      </a:lnTo>
                      <a:lnTo>
                        <a:pt x="647" y="235"/>
                      </a:lnTo>
                      <a:lnTo>
                        <a:pt x="650" y="224"/>
                      </a:lnTo>
                      <a:lnTo>
                        <a:pt x="653" y="213"/>
                      </a:lnTo>
                      <a:lnTo>
                        <a:pt x="656" y="202"/>
                      </a:lnTo>
                      <a:lnTo>
                        <a:pt x="658" y="193"/>
                      </a:lnTo>
                      <a:lnTo>
                        <a:pt x="659" y="181"/>
                      </a:lnTo>
                      <a:lnTo>
                        <a:pt x="663" y="172"/>
                      </a:lnTo>
                      <a:lnTo>
                        <a:pt x="667" y="162"/>
                      </a:lnTo>
                      <a:lnTo>
                        <a:pt x="673" y="154"/>
                      </a:lnTo>
                      <a:lnTo>
                        <a:pt x="673" y="161"/>
                      </a:lnTo>
                      <a:lnTo>
                        <a:pt x="674" y="168"/>
                      </a:lnTo>
                      <a:lnTo>
                        <a:pt x="677" y="174"/>
                      </a:lnTo>
                      <a:lnTo>
                        <a:pt x="683" y="181"/>
                      </a:lnTo>
                      <a:lnTo>
                        <a:pt x="685" y="181"/>
                      </a:lnTo>
                      <a:lnTo>
                        <a:pt x="690" y="181"/>
                      </a:lnTo>
                      <a:lnTo>
                        <a:pt x="695" y="179"/>
                      </a:lnTo>
                      <a:lnTo>
                        <a:pt x="699" y="175"/>
                      </a:lnTo>
                      <a:lnTo>
                        <a:pt x="701" y="164"/>
                      </a:lnTo>
                      <a:lnTo>
                        <a:pt x="702" y="154"/>
                      </a:lnTo>
                      <a:lnTo>
                        <a:pt x="702" y="143"/>
                      </a:lnTo>
                      <a:lnTo>
                        <a:pt x="707" y="134"/>
                      </a:lnTo>
                      <a:lnTo>
                        <a:pt x="703" y="140"/>
                      </a:lnTo>
                      <a:lnTo>
                        <a:pt x="703" y="147"/>
                      </a:lnTo>
                      <a:lnTo>
                        <a:pt x="702" y="153"/>
                      </a:lnTo>
                      <a:lnTo>
                        <a:pt x="703" y="161"/>
                      </a:lnTo>
                      <a:lnTo>
                        <a:pt x="703" y="167"/>
                      </a:lnTo>
                      <a:lnTo>
                        <a:pt x="707" y="173"/>
                      </a:lnTo>
                      <a:lnTo>
                        <a:pt x="711" y="178"/>
                      </a:lnTo>
                      <a:lnTo>
                        <a:pt x="717" y="184"/>
                      </a:lnTo>
                      <a:lnTo>
                        <a:pt x="726" y="181"/>
                      </a:lnTo>
                      <a:lnTo>
                        <a:pt x="728" y="170"/>
                      </a:lnTo>
                      <a:lnTo>
                        <a:pt x="732" y="159"/>
                      </a:lnTo>
                      <a:lnTo>
                        <a:pt x="734" y="147"/>
                      </a:lnTo>
                      <a:lnTo>
                        <a:pt x="738" y="135"/>
                      </a:lnTo>
                      <a:lnTo>
                        <a:pt x="739" y="123"/>
                      </a:lnTo>
                      <a:lnTo>
                        <a:pt x="743" y="110"/>
                      </a:lnTo>
                      <a:lnTo>
                        <a:pt x="745" y="99"/>
                      </a:lnTo>
                      <a:lnTo>
                        <a:pt x="751" y="89"/>
                      </a:lnTo>
                      <a:lnTo>
                        <a:pt x="751" y="96"/>
                      </a:lnTo>
                      <a:lnTo>
                        <a:pt x="751" y="103"/>
                      </a:lnTo>
                      <a:lnTo>
                        <a:pt x="750" y="110"/>
                      </a:lnTo>
                      <a:lnTo>
                        <a:pt x="750" y="119"/>
                      </a:lnTo>
                      <a:lnTo>
                        <a:pt x="749" y="125"/>
                      </a:lnTo>
                      <a:lnTo>
                        <a:pt x="750" y="132"/>
                      </a:lnTo>
                      <a:lnTo>
                        <a:pt x="751" y="140"/>
                      </a:lnTo>
                      <a:lnTo>
                        <a:pt x="757" y="147"/>
                      </a:lnTo>
                      <a:lnTo>
                        <a:pt x="772" y="147"/>
                      </a:lnTo>
                      <a:lnTo>
                        <a:pt x="775" y="134"/>
                      </a:lnTo>
                      <a:lnTo>
                        <a:pt x="778" y="120"/>
                      </a:lnTo>
                      <a:lnTo>
                        <a:pt x="782" y="107"/>
                      </a:lnTo>
                      <a:lnTo>
                        <a:pt x="787" y="93"/>
                      </a:lnTo>
                      <a:lnTo>
                        <a:pt x="790" y="80"/>
                      </a:lnTo>
                      <a:lnTo>
                        <a:pt x="795" y="67"/>
                      </a:lnTo>
                      <a:lnTo>
                        <a:pt x="800" y="55"/>
                      </a:lnTo>
                      <a:lnTo>
                        <a:pt x="809" y="44"/>
                      </a:lnTo>
                      <a:lnTo>
                        <a:pt x="820" y="51"/>
                      </a:lnTo>
                      <a:lnTo>
                        <a:pt x="828" y="63"/>
                      </a:lnTo>
                      <a:lnTo>
                        <a:pt x="832" y="69"/>
                      </a:lnTo>
                      <a:lnTo>
                        <a:pt x="837" y="75"/>
                      </a:lnTo>
                      <a:lnTo>
                        <a:pt x="841" y="82"/>
                      </a:lnTo>
                      <a:lnTo>
                        <a:pt x="846" y="89"/>
                      </a:lnTo>
                      <a:lnTo>
                        <a:pt x="851" y="82"/>
                      </a:lnTo>
                      <a:lnTo>
                        <a:pt x="855" y="76"/>
                      </a:lnTo>
                      <a:lnTo>
                        <a:pt x="862" y="72"/>
                      </a:lnTo>
                      <a:lnTo>
                        <a:pt x="873" y="71"/>
                      </a:lnTo>
                      <a:lnTo>
                        <a:pt x="876" y="59"/>
                      </a:lnTo>
                      <a:lnTo>
                        <a:pt x="878" y="47"/>
                      </a:lnTo>
                      <a:lnTo>
                        <a:pt x="879" y="34"/>
                      </a:lnTo>
                      <a:lnTo>
                        <a:pt x="882" y="26"/>
                      </a:lnTo>
                      <a:lnTo>
                        <a:pt x="880" y="18"/>
                      </a:lnTo>
                      <a:lnTo>
                        <a:pt x="882" y="15"/>
                      </a:lnTo>
                      <a:lnTo>
                        <a:pt x="885" y="12"/>
                      </a:lnTo>
                      <a:lnTo>
                        <a:pt x="884" y="20"/>
                      </a:lnTo>
                      <a:lnTo>
                        <a:pt x="889" y="28"/>
                      </a:lnTo>
                      <a:lnTo>
                        <a:pt x="898" y="31"/>
                      </a:lnTo>
                      <a:lnTo>
                        <a:pt x="907" y="26"/>
                      </a:lnTo>
                      <a:lnTo>
                        <a:pt x="906" y="17"/>
                      </a:lnTo>
                      <a:lnTo>
                        <a:pt x="909" y="12"/>
                      </a:lnTo>
                      <a:lnTo>
                        <a:pt x="914" y="7"/>
                      </a:lnTo>
                      <a:lnTo>
                        <a:pt x="917" y="0"/>
                      </a:lnTo>
                      <a:lnTo>
                        <a:pt x="917" y="10"/>
                      </a:lnTo>
                      <a:lnTo>
                        <a:pt x="914" y="20"/>
                      </a:lnTo>
                      <a:lnTo>
                        <a:pt x="909" y="28"/>
                      </a:lnTo>
                      <a:lnTo>
                        <a:pt x="909" y="39"/>
                      </a:lnTo>
                      <a:lnTo>
                        <a:pt x="908" y="47"/>
                      </a:lnTo>
                      <a:lnTo>
                        <a:pt x="907" y="56"/>
                      </a:lnTo>
                      <a:lnTo>
                        <a:pt x="904" y="66"/>
                      </a:lnTo>
                      <a:lnTo>
                        <a:pt x="903" y="76"/>
                      </a:lnTo>
                      <a:lnTo>
                        <a:pt x="902" y="85"/>
                      </a:lnTo>
                      <a:lnTo>
                        <a:pt x="904" y="93"/>
                      </a:lnTo>
                      <a:lnTo>
                        <a:pt x="908" y="99"/>
                      </a:lnTo>
                      <a:lnTo>
                        <a:pt x="917" y="107"/>
                      </a:lnTo>
                      <a:lnTo>
                        <a:pt x="924" y="99"/>
                      </a:lnTo>
                      <a:lnTo>
                        <a:pt x="929" y="93"/>
                      </a:lnTo>
                      <a:lnTo>
                        <a:pt x="933" y="85"/>
                      </a:lnTo>
                      <a:lnTo>
                        <a:pt x="935" y="76"/>
                      </a:lnTo>
                      <a:lnTo>
                        <a:pt x="938" y="82"/>
                      </a:lnTo>
                      <a:lnTo>
                        <a:pt x="939" y="89"/>
                      </a:lnTo>
                      <a:lnTo>
                        <a:pt x="938" y="98"/>
                      </a:lnTo>
                      <a:lnTo>
                        <a:pt x="936" y="108"/>
                      </a:lnTo>
                      <a:lnTo>
                        <a:pt x="934" y="116"/>
                      </a:lnTo>
                      <a:lnTo>
                        <a:pt x="934" y="125"/>
                      </a:lnTo>
                      <a:lnTo>
                        <a:pt x="935" y="131"/>
                      </a:lnTo>
                      <a:lnTo>
                        <a:pt x="941" y="139"/>
                      </a:lnTo>
                      <a:lnTo>
                        <a:pt x="946" y="131"/>
                      </a:lnTo>
                      <a:lnTo>
                        <a:pt x="951" y="125"/>
                      </a:lnTo>
                      <a:lnTo>
                        <a:pt x="954" y="119"/>
                      </a:lnTo>
                      <a:lnTo>
                        <a:pt x="957" y="113"/>
                      </a:lnTo>
                      <a:lnTo>
                        <a:pt x="961" y="105"/>
                      </a:lnTo>
                      <a:lnTo>
                        <a:pt x="965" y="99"/>
                      </a:lnTo>
                      <a:lnTo>
                        <a:pt x="969" y="94"/>
                      </a:lnTo>
                      <a:lnTo>
                        <a:pt x="978" y="92"/>
                      </a:lnTo>
                      <a:lnTo>
                        <a:pt x="982" y="83"/>
                      </a:lnTo>
                      <a:lnTo>
                        <a:pt x="987" y="76"/>
                      </a:lnTo>
                      <a:lnTo>
                        <a:pt x="992" y="69"/>
                      </a:lnTo>
                      <a:lnTo>
                        <a:pt x="999" y="63"/>
                      </a:lnTo>
                      <a:lnTo>
                        <a:pt x="1005" y="55"/>
                      </a:lnTo>
                      <a:lnTo>
                        <a:pt x="1011" y="48"/>
                      </a:lnTo>
                      <a:lnTo>
                        <a:pt x="1016" y="40"/>
                      </a:lnTo>
                      <a:lnTo>
                        <a:pt x="1022" y="33"/>
                      </a:lnTo>
                      <a:lnTo>
                        <a:pt x="1033" y="32"/>
                      </a:lnTo>
                      <a:lnTo>
                        <a:pt x="1043" y="37"/>
                      </a:lnTo>
                      <a:lnTo>
                        <a:pt x="1048" y="44"/>
                      </a:lnTo>
                      <a:lnTo>
                        <a:pt x="1052" y="53"/>
                      </a:lnTo>
                      <a:lnTo>
                        <a:pt x="1053" y="61"/>
                      </a:lnTo>
                      <a:lnTo>
                        <a:pt x="1056" y="70"/>
                      </a:lnTo>
                      <a:lnTo>
                        <a:pt x="1069" y="60"/>
                      </a:lnTo>
                      <a:lnTo>
                        <a:pt x="1064" y="67"/>
                      </a:lnTo>
                      <a:lnTo>
                        <a:pt x="1058" y="77"/>
                      </a:lnTo>
                      <a:lnTo>
                        <a:pt x="1052" y="86"/>
                      </a:lnTo>
                      <a:lnTo>
                        <a:pt x="1048" y="96"/>
                      </a:lnTo>
                      <a:lnTo>
                        <a:pt x="1042" y="104"/>
                      </a:lnTo>
                      <a:lnTo>
                        <a:pt x="1039" y="114"/>
                      </a:lnTo>
                      <a:lnTo>
                        <a:pt x="1037" y="125"/>
                      </a:lnTo>
                      <a:lnTo>
                        <a:pt x="1038" y="136"/>
                      </a:lnTo>
                      <a:lnTo>
                        <a:pt x="1044" y="139"/>
                      </a:lnTo>
                      <a:lnTo>
                        <a:pt x="1052" y="141"/>
                      </a:lnTo>
                      <a:lnTo>
                        <a:pt x="1058" y="132"/>
                      </a:lnTo>
                      <a:lnTo>
                        <a:pt x="1065" y="125"/>
                      </a:lnTo>
                      <a:lnTo>
                        <a:pt x="1071" y="116"/>
                      </a:lnTo>
                      <a:lnTo>
                        <a:pt x="1079" y="109"/>
                      </a:lnTo>
                      <a:lnTo>
                        <a:pt x="1083" y="99"/>
                      </a:lnTo>
                      <a:lnTo>
                        <a:pt x="1090" y="92"/>
                      </a:lnTo>
                      <a:lnTo>
                        <a:pt x="1097" y="83"/>
                      </a:lnTo>
                      <a:lnTo>
                        <a:pt x="1106" y="76"/>
                      </a:lnTo>
                      <a:lnTo>
                        <a:pt x="1117" y="63"/>
                      </a:lnTo>
                      <a:lnTo>
                        <a:pt x="1129" y="50"/>
                      </a:lnTo>
                      <a:lnTo>
                        <a:pt x="1135" y="43"/>
                      </a:lnTo>
                      <a:lnTo>
                        <a:pt x="1141" y="37"/>
                      </a:lnTo>
                      <a:lnTo>
                        <a:pt x="1148" y="32"/>
                      </a:lnTo>
                      <a:lnTo>
                        <a:pt x="1156" y="28"/>
                      </a:lnTo>
                      <a:lnTo>
                        <a:pt x="1156"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98" name="Freeform 18"/>
                <p:cNvSpPr/>
                <p:nvPr/>
              </p:nvSpPr>
              <p:spPr>
                <a:xfrm flipH="1">
                  <a:off x="7277400" y="2905560"/>
                  <a:ext cx="169560" cy="204840"/>
                </a:xfrm>
                <a:custGeom>
                  <a:avLst/>
                  <a:gdLst>
                    <a:gd name="textAreaLeft" fmla="*/ -360 w 169560"/>
                    <a:gd name="textAreaRight" fmla="*/ 169560 w 169560"/>
                    <a:gd name="textAreaTop" fmla="*/ 0 h 204840"/>
                    <a:gd name="textAreaBottom" fmla="*/ 205200 h 204840"/>
                  </a:gdLst>
                  <a:ahLst/>
                  <a:rect l="textAreaLeft" t="textAreaTop" r="textAreaRight" b="textAreaBottom"/>
                  <a:pathLst>
                    <a:path w="606" h="725">
                      <a:moveTo>
                        <a:pt x="438" y="7"/>
                      </a:moveTo>
                      <a:lnTo>
                        <a:pt x="432" y="22"/>
                      </a:lnTo>
                      <a:lnTo>
                        <a:pt x="426" y="37"/>
                      </a:lnTo>
                      <a:lnTo>
                        <a:pt x="418" y="52"/>
                      </a:lnTo>
                      <a:lnTo>
                        <a:pt x="412" y="66"/>
                      </a:lnTo>
                      <a:lnTo>
                        <a:pt x="405" y="80"/>
                      </a:lnTo>
                      <a:lnTo>
                        <a:pt x="399" y="95"/>
                      </a:lnTo>
                      <a:lnTo>
                        <a:pt x="394" y="109"/>
                      </a:lnTo>
                      <a:lnTo>
                        <a:pt x="393" y="125"/>
                      </a:lnTo>
                      <a:lnTo>
                        <a:pt x="403" y="115"/>
                      </a:lnTo>
                      <a:lnTo>
                        <a:pt x="412" y="107"/>
                      </a:lnTo>
                      <a:lnTo>
                        <a:pt x="423" y="97"/>
                      </a:lnTo>
                      <a:lnTo>
                        <a:pt x="434" y="88"/>
                      </a:lnTo>
                      <a:lnTo>
                        <a:pt x="444" y="77"/>
                      </a:lnTo>
                      <a:lnTo>
                        <a:pt x="455" y="69"/>
                      </a:lnTo>
                      <a:lnTo>
                        <a:pt x="467" y="60"/>
                      </a:lnTo>
                      <a:lnTo>
                        <a:pt x="480" y="54"/>
                      </a:lnTo>
                      <a:lnTo>
                        <a:pt x="485" y="56"/>
                      </a:lnTo>
                      <a:lnTo>
                        <a:pt x="486" y="63"/>
                      </a:lnTo>
                      <a:lnTo>
                        <a:pt x="483" y="69"/>
                      </a:lnTo>
                      <a:lnTo>
                        <a:pt x="485" y="76"/>
                      </a:lnTo>
                      <a:lnTo>
                        <a:pt x="475" y="82"/>
                      </a:lnTo>
                      <a:lnTo>
                        <a:pt x="467" y="91"/>
                      </a:lnTo>
                      <a:lnTo>
                        <a:pt x="460" y="99"/>
                      </a:lnTo>
                      <a:lnTo>
                        <a:pt x="454" y="109"/>
                      </a:lnTo>
                      <a:lnTo>
                        <a:pt x="447" y="118"/>
                      </a:lnTo>
                      <a:lnTo>
                        <a:pt x="442" y="128"/>
                      </a:lnTo>
                      <a:lnTo>
                        <a:pt x="434" y="136"/>
                      </a:lnTo>
                      <a:lnTo>
                        <a:pt x="429" y="146"/>
                      </a:lnTo>
                      <a:lnTo>
                        <a:pt x="431" y="147"/>
                      </a:lnTo>
                      <a:lnTo>
                        <a:pt x="442" y="140"/>
                      </a:lnTo>
                      <a:lnTo>
                        <a:pt x="453" y="133"/>
                      </a:lnTo>
                      <a:lnTo>
                        <a:pt x="464" y="125"/>
                      </a:lnTo>
                      <a:lnTo>
                        <a:pt x="475" y="118"/>
                      </a:lnTo>
                      <a:lnTo>
                        <a:pt x="485" y="110"/>
                      </a:lnTo>
                      <a:lnTo>
                        <a:pt x="494" y="103"/>
                      </a:lnTo>
                      <a:lnTo>
                        <a:pt x="505" y="96"/>
                      </a:lnTo>
                      <a:lnTo>
                        <a:pt x="519" y="88"/>
                      </a:lnTo>
                      <a:lnTo>
                        <a:pt x="524" y="91"/>
                      </a:lnTo>
                      <a:lnTo>
                        <a:pt x="530" y="95"/>
                      </a:lnTo>
                      <a:lnTo>
                        <a:pt x="526" y="102"/>
                      </a:lnTo>
                      <a:lnTo>
                        <a:pt x="521" y="110"/>
                      </a:lnTo>
                      <a:lnTo>
                        <a:pt x="515" y="117"/>
                      </a:lnTo>
                      <a:lnTo>
                        <a:pt x="509" y="124"/>
                      </a:lnTo>
                      <a:lnTo>
                        <a:pt x="502" y="129"/>
                      </a:lnTo>
                      <a:lnTo>
                        <a:pt x="494" y="135"/>
                      </a:lnTo>
                      <a:lnTo>
                        <a:pt x="488" y="141"/>
                      </a:lnTo>
                      <a:lnTo>
                        <a:pt x="485" y="150"/>
                      </a:lnTo>
                      <a:lnTo>
                        <a:pt x="488" y="152"/>
                      </a:lnTo>
                      <a:lnTo>
                        <a:pt x="496" y="152"/>
                      </a:lnTo>
                      <a:lnTo>
                        <a:pt x="505" y="142"/>
                      </a:lnTo>
                      <a:lnTo>
                        <a:pt x="515" y="135"/>
                      </a:lnTo>
                      <a:lnTo>
                        <a:pt x="526" y="128"/>
                      </a:lnTo>
                      <a:lnTo>
                        <a:pt x="537" y="120"/>
                      </a:lnTo>
                      <a:lnTo>
                        <a:pt x="548" y="113"/>
                      </a:lnTo>
                      <a:lnTo>
                        <a:pt x="559" y="106"/>
                      </a:lnTo>
                      <a:lnTo>
                        <a:pt x="570" y="98"/>
                      </a:lnTo>
                      <a:lnTo>
                        <a:pt x="583" y="92"/>
                      </a:lnTo>
                      <a:lnTo>
                        <a:pt x="588" y="92"/>
                      </a:lnTo>
                      <a:lnTo>
                        <a:pt x="591" y="93"/>
                      </a:lnTo>
                      <a:lnTo>
                        <a:pt x="594" y="96"/>
                      </a:lnTo>
                      <a:lnTo>
                        <a:pt x="599" y="99"/>
                      </a:lnTo>
                      <a:lnTo>
                        <a:pt x="590" y="110"/>
                      </a:lnTo>
                      <a:lnTo>
                        <a:pt x="580" y="122"/>
                      </a:lnTo>
                      <a:lnTo>
                        <a:pt x="569" y="131"/>
                      </a:lnTo>
                      <a:lnTo>
                        <a:pt x="559" y="142"/>
                      </a:lnTo>
                      <a:lnTo>
                        <a:pt x="547" y="151"/>
                      </a:lnTo>
                      <a:lnTo>
                        <a:pt x="536" y="161"/>
                      </a:lnTo>
                      <a:lnTo>
                        <a:pt x="525" y="172"/>
                      </a:lnTo>
                      <a:lnTo>
                        <a:pt x="517" y="184"/>
                      </a:lnTo>
                      <a:lnTo>
                        <a:pt x="519" y="187"/>
                      </a:lnTo>
                      <a:lnTo>
                        <a:pt x="593" y="136"/>
                      </a:lnTo>
                      <a:lnTo>
                        <a:pt x="600" y="137"/>
                      </a:lnTo>
                      <a:lnTo>
                        <a:pt x="606" y="146"/>
                      </a:lnTo>
                      <a:lnTo>
                        <a:pt x="594" y="158"/>
                      </a:lnTo>
                      <a:lnTo>
                        <a:pt x="583" y="172"/>
                      </a:lnTo>
                      <a:lnTo>
                        <a:pt x="570" y="184"/>
                      </a:lnTo>
                      <a:lnTo>
                        <a:pt x="558" y="198"/>
                      </a:lnTo>
                      <a:lnTo>
                        <a:pt x="545" y="209"/>
                      </a:lnTo>
                      <a:lnTo>
                        <a:pt x="531" y="222"/>
                      </a:lnTo>
                      <a:lnTo>
                        <a:pt x="519" y="234"/>
                      </a:lnTo>
                      <a:lnTo>
                        <a:pt x="509" y="249"/>
                      </a:lnTo>
                      <a:lnTo>
                        <a:pt x="513" y="254"/>
                      </a:lnTo>
                      <a:lnTo>
                        <a:pt x="514" y="261"/>
                      </a:lnTo>
                      <a:lnTo>
                        <a:pt x="513" y="266"/>
                      </a:lnTo>
                      <a:lnTo>
                        <a:pt x="509" y="272"/>
                      </a:lnTo>
                      <a:lnTo>
                        <a:pt x="499" y="277"/>
                      </a:lnTo>
                      <a:lnTo>
                        <a:pt x="492" y="285"/>
                      </a:lnTo>
                      <a:lnTo>
                        <a:pt x="485" y="293"/>
                      </a:lnTo>
                      <a:lnTo>
                        <a:pt x="477" y="302"/>
                      </a:lnTo>
                      <a:lnTo>
                        <a:pt x="469" y="309"/>
                      </a:lnTo>
                      <a:lnTo>
                        <a:pt x="461" y="318"/>
                      </a:lnTo>
                      <a:lnTo>
                        <a:pt x="453" y="325"/>
                      </a:lnTo>
                      <a:lnTo>
                        <a:pt x="445" y="334"/>
                      </a:lnTo>
                      <a:lnTo>
                        <a:pt x="448" y="336"/>
                      </a:lnTo>
                      <a:lnTo>
                        <a:pt x="453" y="331"/>
                      </a:lnTo>
                      <a:lnTo>
                        <a:pt x="460" y="328"/>
                      </a:lnTo>
                      <a:lnTo>
                        <a:pt x="467" y="323"/>
                      </a:lnTo>
                      <a:lnTo>
                        <a:pt x="477" y="323"/>
                      </a:lnTo>
                      <a:lnTo>
                        <a:pt x="480" y="326"/>
                      </a:lnTo>
                      <a:lnTo>
                        <a:pt x="480" y="332"/>
                      </a:lnTo>
                      <a:lnTo>
                        <a:pt x="477" y="337"/>
                      </a:lnTo>
                      <a:lnTo>
                        <a:pt x="475" y="343"/>
                      </a:lnTo>
                      <a:lnTo>
                        <a:pt x="464" y="352"/>
                      </a:lnTo>
                      <a:lnTo>
                        <a:pt x="454" y="362"/>
                      </a:lnTo>
                      <a:lnTo>
                        <a:pt x="444" y="372"/>
                      </a:lnTo>
                      <a:lnTo>
                        <a:pt x="436" y="382"/>
                      </a:lnTo>
                      <a:lnTo>
                        <a:pt x="426" y="390"/>
                      </a:lnTo>
                      <a:lnTo>
                        <a:pt x="417" y="401"/>
                      </a:lnTo>
                      <a:lnTo>
                        <a:pt x="409" y="411"/>
                      </a:lnTo>
                      <a:lnTo>
                        <a:pt x="401" y="422"/>
                      </a:lnTo>
                      <a:lnTo>
                        <a:pt x="405" y="423"/>
                      </a:lnTo>
                      <a:lnTo>
                        <a:pt x="410" y="426"/>
                      </a:lnTo>
                      <a:lnTo>
                        <a:pt x="414" y="427"/>
                      </a:lnTo>
                      <a:lnTo>
                        <a:pt x="417" y="433"/>
                      </a:lnTo>
                      <a:lnTo>
                        <a:pt x="412" y="439"/>
                      </a:lnTo>
                      <a:lnTo>
                        <a:pt x="407" y="445"/>
                      </a:lnTo>
                      <a:lnTo>
                        <a:pt x="400" y="451"/>
                      </a:lnTo>
                      <a:lnTo>
                        <a:pt x="394" y="458"/>
                      </a:lnTo>
                      <a:lnTo>
                        <a:pt x="385" y="462"/>
                      </a:lnTo>
                      <a:lnTo>
                        <a:pt x="378" y="467"/>
                      </a:lnTo>
                      <a:lnTo>
                        <a:pt x="372" y="474"/>
                      </a:lnTo>
                      <a:lnTo>
                        <a:pt x="367" y="481"/>
                      </a:lnTo>
                      <a:lnTo>
                        <a:pt x="371" y="482"/>
                      </a:lnTo>
                      <a:lnTo>
                        <a:pt x="378" y="483"/>
                      </a:lnTo>
                      <a:lnTo>
                        <a:pt x="385" y="483"/>
                      </a:lnTo>
                      <a:lnTo>
                        <a:pt x="393" y="488"/>
                      </a:lnTo>
                      <a:lnTo>
                        <a:pt x="389" y="494"/>
                      </a:lnTo>
                      <a:lnTo>
                        <a:pt x="383" y="500"/>
                      </a:lnTo>
                      <a:lnTo>
                        <a:pt x="374" y="505"/>
                      </a:lnTo>
                      <a:lnTo>
                        <a:pt x="366" y="512"/>
                      </a:lnTo>
                      <a:lnTo>
                        <a:pt x="358" y="515"/>
                      </a:lnTo>
                      <a:lnTo>
                        <a:pt x="355" y="520"/>
                      </a:lnTo>
                      <a:lnTo>
                        <a:pt x="356" y="525"/>
                      </a:lnTo>
                      <a:lnTo>
                        <a:pt x="365" y="532"/>
                      </a:lnTo>
                      <a:lnTo>
                        <a:pt x="361" y="541"/>
                      </a:lnTo>
                      <a:lnTo>
                        <a:pt x="356" y="550"/>
                      </a:lnTo>
                      <a:lnTo>
                        <a:pt x="349" y="556"/>
                      </a:lnTo>
                      <a:lnTo>
                        <a:pt x="341" y="563"/>
                      </a:lnTo>
                      <a:lnTo>
                        <a:pt x="331" y="568"/>
                      </a:lnTo>
                      <a:lnTo>
                        <a:pt x="324" y="574"/>
                      </a:lnTo>
                      <a:lnTo>
                        <a:pt x="316" y="580"/>
                      </a:lnTo>
                      <a:lnTo>
                        <a:pt x="309" y="588"/>
                      </a:lnTo>
                      <a:lnTo>
                        <a:pt x="317" y="589"/>
                      </a:lnTo>
                      <a:lnTo>
                        <a:pt x="325" y="588"/>
                      </a:lnTo>
                      <a:lnTo>
                        <a:pt x="331" y="590"/>
                      </a:lnTo>
                      <a:lnTo>
                        <a:pt x="334" y="597"/>
                      </a:lnTo>
                      <a:lnTo>
                        <a:pt x="335" y="600"/>
                      </a:lnTo>
                      <a:lnTo>
                        <a:pt x="338" y="604"/>
                      </a:lnTo>
                      <a:lnTo>
                        <a:pt x="341" y="605"/>
                      </a:lnTo>
                      <a:lnTo>
                        <a:pt x="349" y="606"/>
                      </a:lnTo>
                      <a:lnTo>
                        <a:pt x="349" y="612"/>
                      </a:lnTo>
                      <a:lnTo>
                        <a:pt x="346" y="622"/>
                      </a:lnTo>
                      <a:lnTo>
                        <a:pt x="199" y="725"/>
                      </a:lnTo>
                      <a:lnTo>
                        <a:pt x="194" y="724"/>
                      </a:lnTo>
                      <a:lnTo>
                        <a:pt x="193" y="721"/>
                      </a:lnTo>
                      <a:lnTo>
                        <a:pt x="192" y="716"/>
                      </a:lnTo>
                      <a:lnTo>
                        <a:pt x="194" y="714"/>
                      </a:lnTo>
                      <a:lnTo>
                        <a:pt x="203" y="689"/>
                      </a:lnTo>
                      <a:lnTo>
                        <a:pt x="210" y="665"/>
                      </a:lnTo>
                      <a:lnTo>
                        <a:pt x="216" y="639"/>
                      </a:lnTo>
                      <a:lnTo>
                        <a:pt x="224" y="616"/>
                      </a:lnTo>
                      <a:lnTo>
                        <a:pt x="230" y="590"/>
                      </a:lnTo>
                      <a:lnTo>
                        <a:pt x="241" y="569"/>
                      </a:lnTo>
                      <a:lnTo>
                        <a:pt x="253" y="548"/>
                      </a:lnTo>
                      <a:lnTo>
                        <a:pt x="273" y="532"/>
                      </a:lnTo>
                      <a:lnTo>
                        <a:pt x="281" y="515"/>
                      </a:lnTo>
                      <a:lnTo>
                        <a:pt x="290" y="498"/>
                      </a:lnTo>
                      <a:lnTo>
                        <a:pt x="298" y="481"/>
                      </a:lnTo>
                      <a:lnTo>
                        <a:pt x="308" y="464"/>
                      </a:lnTo>
                      <a:lnTo>
                        <a:pt x="316" y="447"/>
                      </a:lnTo>
                      <a:lnTo>
                        <a:pt x="324" y="429"/>
                      </a:lnTo>
                      <a:lnTo>
                        <a:pt x="333" y="412"/>
                      </a:lnTo>
                      <a:lnTo>
                        <a:pt x="341" y="396"/>
                      </a:lnTo>
                      <a:lnTo>
                        <a:pt x="336" y="389"/>
                      </a:lnTo>
                      <a:lnTo>
                        <a:pt x="338" y="383"/>
                      </a:lnTo>
                      <a:lnTo>
                        <a:pt x="339" y="375"/>
                      </a:lnTo>
                      <a:lnTo>
                        <a:pt x="341" y="368"/>
                      </a:lnTo>
                      <a:lnTo>
                        <a:pt x="356" y="355"/>
                      </a:lnTo>
                      <a:lnTo>
                        <a:pt x="350" y="350"/>
                      </a:lnTo>
                      <a:lnTo>
                        <a:pt x="344" y="345"/>
                      </a:lnTo>
                      <a:lnTo>
                        <a:pt x="339" y="340"/>
                      </a:lnTo>
                      <a:lnTo>
                        <a:pt x="338" y="334"/>
                      </a:lnTo>
                      <a:lnTo>
                        <a:pt x="338" y="325"/>
                      </a:lnTo>
                      <a:lnTo>
                        <a:pt x="341" y="319"/>
                      </a:lnTo>
                      <a:lnTo>
                        <a:pt x="345" y="313"/>
                      </a:lnTo>
                      <a:lnTo>
                        <a:pt x="351" y="309"/>
                      </a:lnTo>
                      <a:lnTo>
                        <a:pt x="340" y="305"/>
                      </a:lnTo>
                      <a:lnTo>
                        <a:pt x="333" y="299"/>
                      </a:lnTo>
                      <a:lnTo>
                        <a:pt x="327" y="292"/>
                      </a:lnTo>
                      <a:lnTo>
                        <a:pt x="322" y="285"/>
                      </a:lnTo>
                      <a:lnTo>
                        <a:pt x="314" y="277"/>
                      </a:lnTo>
                      <a:lnTo>
                        <a:pt x="308" y="274"/>
                      </a:lnTo>
                      <a:lnTo>
                        <a:pt x="300" y="271"/>
                      </a:lnTo>
                      <a:lnTo>
                        <a:pt x="289" y="275"/>
                      </a:lnTo>
                      <a:lnTo>
                        <a:pt x="279" y="275"/>
                      </a:lnTo>
                      <a:lnTo>
                        <a:pt x="270" y="277"/>
                      </a:lnTo>
                      <a:lnTo>
                        <a:pt x="263" y="280"/>
                      </a:lnTo>
                      <a:lnTo>
                        <a:pt x="255" y="286"/>
                      </a:lnTo>
                      <a:lnTo>
                        <a:pt x="248" y="290"/>
                      </a:lnTo>
                      <a:lnTo>
                        <a:pt x="241" y="296"/>
                      </a:lnTo>
                      <a:lnTo>
                        <a:pt x="235" y="302"/>
                      </a:lnTo>
                      <a:lnTo>
                        <a:pt x="228" y="309"/>
                      </a:lnTo>
                      <a:lnTo>
                        <a:pt x="222" y="323"/>
                      </a:lnTo>
                      <a:lnTo>
                        <a:pt x="216" y="335"/>
                      </a:lnTo>
                      <a:lnTo>
                        <a:pt x="209" y="346"/>
                      </a:lnTo>
                      <a:lnTo>
                        <a:pt x="202" y="358"/>
                      </a:lnTo>
                      <a:lnTo>
                        <a:pt x="193" y="369"/>
                      </a:lnTo>
                      <a:lnTo>
                        <a:pt x="187" y="380"/>
                      </a:lnTo>
                      <a:lnTo>
                        <a:pt x="179" y="393"/>
                      </a:lnTo>
                      <a:lnTo>
                        <a:pt x="176" y="407"/>
                      </a:lnTo>
                      <a:lnTo>
                        <a:pt x="170" y="415"/>
                      </a:lnTo>
                      <a:lnTo>
                        <a:pt x="164" y="423"/>
                      </a:lnTo>
                      <a:lnTo>
                        <a:pt x="159" y="432"/>
                      </a:lnTo>
                      <a:lnTo>
                        <a:pt x="157" y="442"/>
                      </a:lnTo>
                      <a:lnTo>
                        <a:pt x="164" y="438"/>
                      </a:lnTo>
                      <a:lnTo>
                        <a:pt x="171" y="437"/>
                      </a:lnTo>
                      <a:lnTo>
                        <a:pt x="178" y="437"/>
                      </a:lnTo>
                      <a:lnTo>
                        <a:pt x="188" y="440"/>
                      </a:lnTo>
                      <a:lnTo>
                        <a:pt x="192" y="447"/>
                      </a:lnTo>
                      <a:lnTo>
                        <a:pt x="194" y="458"/>
                      </a:lnTo>
                      <a:lnTo>
                        <a:pt x="194" y="467"/>
                      </a:lnTo>
                      <a:lnTo>
                        <a:pt x="192" y="478"/>
                      </a:lnTo>
                      <a:lnTo>
                        <a:pt x="187" y="481"/>
                      </a:lnTo>
                      <a:lnTo>
                        <a:pt x="184" y="486"/>
                      </a:lnTo>
                      <a:lnTo>
                        <a:pt x="182" y="492"/>
                      </a:lnTo>
                      <a:lnTo>
                        <a:pt x="182" y="498"/>
                      </a:lnTo>
                      <a:lnTo>
                        <a:pt x="178" y="502"/>
                      </a:lnTo>
                      <a:lnTo>
                        <a:pt x="176" y="504"/>
                      </a:lnTo>
                      <a:lnTo>
                        <a:pt x="171" y="503"/>
                      </a:lnTo>
                      <a:lnTo>
                        <a:pt x="165" y="499"/>
                      </a:lnTo>
                      <a:lnTo>
                        <a:pt x="159" y="486"/>
                      </a:lnTo>
                      <a:lnTo>
                        <a:pt x="154" y="474"/>
                      </a:lnTo>
                      <a:lnTo>
                        <a:pt x="152" y="466"/>
                      </a:lnTo>
                      <a:lnTo>
                        <a:pt x="152" y="460"/>
                      </a:lnTo>
                      <a:lnTo>
                        <a:pt x="152" y="453"/>
                      </a:lnTo>
                      <a:lnTo>
                        <a:pt x="155" y="447"/>
                      </a:lnTo>
                      <a:lnTo>
                        <a:pt x="145" y="456"/>
                      </a:lnTo>
                      <a:lnTo>
                        <a:pt x="138" y="469"/>
                      </a:lnTo>
                      <a:lnTo>
                        <a:pt x="134" y="475"/>
                      </a:lnTo>
                      <a:lnTo>
                        <a:pt x="132" y="482"/>
                      </a:lnTo>
                      <a:lnTo>
                        <a:pt x="128" y="488"/>
                      </a:lnTo>
                      <a:lnTo>
                        <a:pt x="126" y="496"/>
                      </a:lnTo>
                      <a:lnTo>
                        <a:pt x="110" y="509"/>
                      </a:lnTo>
                      <a:lnTo>
                        <a:pt x="99" y="527"/>
                      </a:lnTo>
                      <a:lnTo>
                        <a:pt x="90" y="545"/>
                      </a:lnTo>
                      <a:lnTo>
                        <a:pt x="81" y="564"/>
                      </a:lnTo>
                      <a:lnTo>
                        <a:pt x="72" y="581"/>
                      </a:lnTo>
                      <a:lnTo>
                        <a:pt x="61" y="600"/>
                      </a:lnTo>
                      <a:lnTo>
                        <a:pt x="45" y="613"/>
                      </a:lnTo>
                      <a:lnTo>
                        <a:pt x="25" y="626"/>
                      </a:lnTo>
                      <a:lnTo>
                        <a:pt x="21" y="629"/>
                      </a:lnTo>
                      <a:lnTo>
                        <a:pt x="19" y="634"/>
                      </a:lnTo>
                      <a:lnTo>
                        <a:pt x="15" y="638"/>
                      </a:lnTo>
                      <a:lnTo>
                        <a:pt x="10" y="643"/>
                      </a:lnTo>
                      <a:lnTo>
                        <a:pt x="2" y="638"/>
                      </a:lnTo>
                      <a:lnTo>
                        <a:pt x="0" y="632"/>
                      </a:lnTo>
                      <a:lnTo>
                        <a:pt x="2" y="623"/>
                      </a:lnTo>
                      <a:lnTo>
                        <a:pt x="4" y="617"/>
                      </a:lnTo>
                      <a:lnTo>
                        <a:pt x="7" y="608"/>
                      </a:lnTo>
                      <a:lnTo>
                        <a:pt x="13" y="604"/>
                      </a:lnTo>
                      <a:lnTo>
                        <a:pt x="15" y="585"/>
                      </a:lnTo>
                      <a:lnTo>
                        <a:pt x="19" y="567"/>
                      </a:lnTo>
                      <a:lnTo>
                        <a:pt x="24" y="548"/>
                      </a:lnTo>
                      <a:lnTo>
                        <a:pt x="30" y="531"/>
                      </a:lnTo>
                      <a:lnTo>
                        <a:pt x="36" y="513"/>
                      </a:lnTo>
                      <a:lnTo>
                        <a:pt x="42" y="494"/>
                      </a:lnTo>
                      <a:lnTo>
                        <a:pt x="47" y="476"/>
                      </a:lnTo>
                      <a:lnTo>
                        <a:pt x="52" y="459"/>
                      </a:lnTo>
                      <a:lnTo>
                        <a:pt x="59" y="454"/>
                      </a:lnTo>
                      <a:lnTo>
                        <a:pt x="65" y="448"/>
                      </a:lnTo>
                      <a:lnTo>
                        <a:pt x="69" y="439"/>
                      </a:lnTo>
                      <a:lnTo>
                        <a:pt x="73" y="432"/>
                      </a:lnTo>
                      <a:lnTo>
                        <a:pt x="74" y="422"/>
                      </a:lnTo>
                      <a:lnTo>
                        <a:pt x="76" y="413"/>
                      </a:lnTo>
                      <a:lnTo>
                        <a:pt x="80" y="405"/>
                      </a:lnTo>
                      <a:lnTo>
                        <a:pt x="86" y="399"/>
                      </a:lnTo>
                      <a:lnTo>
                        <a:pt x="94" y="388"/>
                      </a:lnTo>
                      <a:lnTo>
                        <a:pt x="97" y="375"/>
                      </a:lnTo>
                      <a:lnTo>
                        <a:pt x="100" y="362"/>
                      </a:lnTo>
                      <a:lnTo>
                        <a:pt x="102" y="352"/>
                      </a:lnTo>
                      <a:lnTo>
                        <a:pt x="106" y="341"/>
                      </a:lnTo>
                      <a:lnTo>
                        <a:pt x="108" y="330"/>
                      </a:lnTo>
                      <a:lnTo>
                        <a:pt x="110" y="319"/>
                      </a:lnTo>
                      <a:lnTo>
                        <a:pt x="112" y="308"/>
                      </a:lnTo>
                      <a:lnTo>
                        <a:pt x="113" y="296"/>
                      </a:lnTo>
                      <a:lnTo>
                        <a:pt x="118" y="286"/>
                      </a:lnTo>
                      <a:lnTo>
                        <a:pt x="124" y="277"/>
                      </a:lnTo>
                      <a:lnTo>
                        <a:pt x="135" y="272"/>
                      </a:lnTo>
                      <a:lnTo>
                        <a:pt x="137" y="261"/>
                      </a:lnTo>
                      <a:lnTo>
                        <a:pt x="139" y="253"/>
                      </a:lnTo>
                      <a:lnTo>
                        <a:pt x="140" y="242"/>
                      </a:lnTo>
                      <a:lnTo>
                        <a:pt x="143" y="233"/>
                      </a:lnTo>
                      <a:lnTo>
                        <a:pt x="144" y="223"/>
                      </a:lnTo>
                      <a:lnTo>
                        <a:pt x="146" y="215"/>
                      </a:lnTo>
                      <a:lnTo>
                        <a:pt x="150" y="205"/>
                      </a:lnTo>
                      <a:lnTo>
                        <a:pt x="154" y="196"/>
                      </a:lnTo>
                      <a:lnTo>
                        <a:pt x="155" y="187"/>
                      </a:lnTo>
                      <a:lnTo>
                        <a:pt x="156" y="178"/>
                      </a:lnTo>
                      <a:lnTo>
                        <a:pt x="160" y="169"/>
                      </a:lnTo>
                      <a:lnTo>
                        <a:pt x="170" y="166"/>
                      </a:lnTo>
                      <a:lnTo>
                        <a:pt x="177" y="168"/>
                      </a:lnTo>
                      <a:lnTo>
                        <a:pt x="181" y="175"/>
                      </a:lnTo>
                      <a:lnTo>
                        <a:pt x="178" y="187"/>
                      </a:lnTo>
                      <a:lnTo>
                        <a:pt x="177" y="199"/>
                      </a:lnTo>
                      <a:lnTo>
                        <a:pt x="175" y="211"/>
                      </a:lnTo>
                      <a:lnTo>
                        <a:pt x="173" y="223"/>
                      </a:lnTo>
                      <a:lnTo>
                        <a:pt x="171" y="236"/>
                      </a:lnTo>
                      <a:lnTo>
                        <a:pt x="171" y="248"/>
                      </a:lnTo>
                      <a:lnTo>
                        <a:pt x="171" y="260"/>
                      </a:lnTo>
                      <a:lnTo>
                        <a:pt x="173" y="272"/>
                      </a:lnTo>
                      <a:lnTo>
                        <a:pt x="182" y="261"/>
                      </a:lnTo>
                      <a:lnTo>
                        <a:pt x="187" y="249"/>
                      </a:lnTo>
                      <a:lnTo>
                        <a:pt x="189" y="236"/>
                      </a:lnTo>
                      <a:lnTo>
                        <a:pt x="194" y="226"/>
                      </a:lnTo>
                      <a:lnTo>
                        <a:pt x="195" y="216"/>
                      </a:lnTo>
                      <a:lnTo>
                        <a:pt x="198" y="207"/>
                      </a:lnTo>
                      <a:lnTo>
                        <a:pt x="200" y="198"/>
                      </a:lnTo>
                      <a:lnTo>
                        <a:pt x="203" y="189"/>
                      </a:lnTo>
                      <a:lnTo>
                        <a:pt x="204" y="179"/>
                      </a:lnTo>
                      <a:lnTo>
                        <a:pt x="206" y="169"/>
                      </a:lnTo>
                      <a:lnTo>
                        <a:pt x="209" y="160"/>
                      </a:lnTo>
                      <a:lnTo>
                        <a:pt x="213" y="152"/>
                      </a:lnTo>
                      <a:lnTo>
                        <a:pt x="227" y="146"/>
                      </a:lnTo>
                      <a:lnTo>
                        <a:pt x="236" y="160"/>
                      </a:lnTo>
                      <a:lnTo>
                        <a:pt x="241" y="152"/>
                      </a:lnTo>
                      <a:lnTo>
                        <a:pt x="246" y="145"/>
                      </a:lnTo>
                      <a:lnTo>
                        <a:pt x="249" y="137"/>
                      </a:lnTo>
                      <a:lnTo>
                        <a:pt x="254" y="131"/>
                      </a:lnTo>
                      <a:lnTo>
                        <a:pt x="258" y="123"/>
                      </a:lnTo>
                      <a:lnTo>
                        <a:pt x="262" y="114"/>
                      </a:lnTo>
                      <a:lnTo>
                        <a:pt x="265" y="107"/>
                      </a:lnTo>
                      <a:lnTo>
                        <a:pt x="270" y="99"/>
                      </a:lnTo>
                      <a:lnTo>
                        <a:pt x="275" y="91"/>
                      </a:lnTo>
                      <a:lnTo>
                        <a:pt x="281" y="83"/>
                      </a:lnTo>
                      <a:lnTo>
                        <a:pt x="287" y="76"/>
                      </a:lnTo>
                      <a:lnTo>
                        <a:pt x="298" y="76"/>
                      </a:lnTo>
                      <a:lnTo>
                        <a:pt x="300" y="83"/>
                      </a:lnTo>
                      <a:lnTo>
                        <a:pt x="301" y="91"/>
                      </a:lnTo>
                      <a:lnTo>
                        <a:pt x="298" y="98"/>
                      </a:lnTo>
                      <a:lnTo>
                        <a:pt x="296" y="107"/>
                      </a:lnTo>
                      <a:lnTo>
                        <a:pt x="291" y="113"/>
                      </a:lnTo>
                      <a:lnTo>
                        <a:pt x="287" y="119"/>
                      </a:lnTo>
                      <a:lnTo>
                        <a:pt x="284" y="126"/>
                      </a:lnTo>
                      <a:lnTo>
                        <a:pt x="282" y="134"/>
                      </a:lnTo>
                      <a:lnTo>
                        <a:pt x="262" y="212"/>
                      </a:lnTo>
                      <a:lnTo>
                        <a:pt x="263" y="216"/>
                      </a:lnTo>
                      <a:lnTo>
                        <a:pt x="263" y="221"/>
                      </a:lnTo>
                      <a:lnTo>
                        <a:pt x="262" y="223"/>
                      </a:lnTo>
                      <a:lnTo>
                        <a:pt x="268" y="226"/>
                      </a:lnTo>
                      <a:lnTo>
                        <a:pt x="274" y="220"/>
                      </a:lnTo>
                      <a:lnTo>
                        <a:pt x="275" y="213"/>
                      </a:lnTo>
                      <a:lnTo>
                        <a:pt x="273" y="205"/>
                      </a:lnTo>
                      <a:lnTo>
                        <a:pt x="275" y="199"/>
                      </a:lnTo>
                      <a:lnTo>
                        <a:pt x="278" y="188"/>
                      </a:lnTo>
                      <a:lnTo>
                        <a:pt x="282" y="179"/>
                      </a:lnTo>
                      <a:lnTo>
                        <a:pt x="287" y="171"/>
                      </a:lnTo>
                      <a:lnTo>
                        <a:pt x="295" y="163"/>
                      </a:lnTo>
                      <a:lnTo>
                        <a:pt x="300" y="155"/>
                      </a:lnTo>
                      <a:lnTo>
                        <a:pt x="306" y="147"/>
                      </a:lnTo>
                      <a:lnTo>
                        <a:pt x="309" y="137"/>
                      </a:lnTo>
                      <a:lnTo>
                        <a:pt x="314" y="129"/>
                      </a:lnTo>
                      <a:lnTo>
                        <a:pt x="318" y="119"/>
                      </a:lnTo>
                      <a:lnTo>
                        <a:pt x="323" y="110"/>
                      </a:lnTo>
                      <a:lnTo>
                        <a:pt x="327" y="102"/>
                      </a:lnTo>
                      <a:lnTo>
                        <a:pt x="333" y="93"/>
                      </a:lnTo>
                      <a:lnTo>
                        <a:pt x="336" y="83"/>
                      </a:lnTo>
                      <a:lnTo>
                        <a:pt x="341" y="74"/>
                      </a:lnTo>
                      <a:lnTo>
                        <a:pt x="346" y="64"/>
                      </a:lnTo>
                      <a:lnTo>
                        <a:pt x="351" y="55"/>
                      </a:lnTo>
                      <a:lnTo>
                        <a:pt x="355" y="49"/>
                      </a:lnTo>
                      <a:lnTo>
                        <a:pt x="361" y="43"/>
                      </a:lnTo>
                      <a:lnTo>
                        <a:pt x="368" y="37"/>
                      </a:lnTo>
                      <a:lnTo>
                        <a:pt x="378" y="36"/>
                      </a:lnTo>
                      <a:lnTo>
                        <a:pt x="379" y="42"/>
                      </a:lnTo>
                      <a:lnTo>
                        <a:pt x="383" y="49"/>
                      </a:lnTo>
                      <a:lnTo>
                        <a:pt x="388" y="49"/>
                      </a:lnTo>
                      <a:lnTo>
                        <a:pt x="393" y="41"/>
                      </a:lnTo>
                      <a:lnTo>
                        <a:pt x="398" y="33"/>
                      </a:lnTo>
                      <a:lnTo>
                        <a:pt x="401" y="26"/>
                      </a:lnTo>
                      <a:lnTo>
                        <a:pt x="407" y="18"/>
                      </a:lnTo>
                      <a:lnTo>
                        <a:pt x="411" y="10"/>
                      </a:lnTo>
                      <a:lnTo>
                        <a:pt x="418" y="5"/>
                      </a:lnTo>
                      <a:lnTo>
                        <a:pt x="426" y="0"/>
                      </a:lnTo>
                      <a:lnTo>
                        <a:pt x="436" y="0"/>
                      </a:lnTo>
                      <a:lnTo>
                        <a:pt x="438" y="7"/>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99" name="Freeform 19"/>
                <p:cNvSpPr/>
                <p:nvPr/>
              </p:nvSpPr>
              <p:spPr>
                <a:xfrm flipH="1">
                  <a:off x="7328160" y="2979000"/>
                  <a:ext cx="5400" cy="3240"/>
                </a:xfrm>
                <a:custGeom>
                  <a:avLst/>
                  <a:gdLst>
                    <a:gd name="textAreaLeft" fmla="*/ -360 w 5400"/>
                    <a:gd name="textAreaRight" fmla="*/ 5400 w 5400"/>
                    <a:gd name="textAreaTop" fmla="*/ 0 h 3240"/>
                    <a:gd name="textAreaBottom" fmla="*/ 3600 h 3240"/>
                  </a:gdLst>
                  <a:ahLst/>
                  <a:rect l="textAreaLeft" t="textAreaTop" r="textAreaRight" b="textAreaBottom"/>
                  <a:pathLst>
                    <a:path w="21" h="12">
                      <a:moveTo>
                        <a:pt x="0" y="12"/>
                      </a:moveTo>
                      <a:lnTo>
                        <a:pt x="21" y="0"/>
                      </a:lnTo>
                      <a:lnTo>
                        <a:pt x="16" y="3"/>
                      </a:lnTo>
                      <a:lnTo>
                        <a:pt x="10" y="7"/>
                      </a:lnTo>
                      <a:lnTo>
                        <a:pt x="4" y="9"/>
                      </a:lnTo>
                      <a:lnTo>
                        <a:pt x="0" y="12"/>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Humanst521 BT"/>
                  </a:endParaRPr>
                </a:p>
              </p:txBody>
            </p:sp>
            <p:sp>
              <p:nvSpPr>
                <p:cNvPr id="200" name="Freeform 20"/>
                <p:cNvSpPr/>
                <p:nvPr/>
              </p:nvSpPr>
              <p:spPr>
                <a:xfrm flipH="1">
                  <a:off x="6955560" y="3058560"/>
                  <a:ext cx="234720" cy="296280"/>
                </a:xfrm>
                <a:custGeom>
                  <a:avLst/>
                  <a:gdLst>
                    <a:gd name="textAreaLeft" fmla="*/ 360 w 234720"/>
                    <a:gd name="textAreaRight" fmla="*/ 235440 w 234720"/>
                    <a:gd name="textAreaTop" fmla="*/ 0 h 296280"/>
                    <a:gd name="textAreaBottom" fmla="*/ 296280 h 296280"/>
                  </a:gdLst>
                  <a:ahLst/>
                  <a:rect l="textAreaLeft" t="textAreaTop" r="textAreaRight" b="textAreaBottom"/>
                  <a:pathLst>
                    <a:path w="834" h="1047">
                      <a:moveTo>
                        <a:pt x="660" y="42"/>
                      </a:moveTo>
                      <a:lnTo>
                        <a:pt x="656" y="44"/>
                      </a:lnTo>
                      <a:lnTo>
                        <a:pt x="632" y="168"/>
                      </a:lnTo>
                      <a:lnTo>
                        <a:pt x="624" y="178"/>
                      </a:lnTo>
                      <a:lnTo>
                        <a:pt x="620" y="191"/>
                      </a:lnTo>
                      <a:lnTo>
                        <a:pt x="618" y="197"/>
                      </a:lnTo>
                      <a:lnTo>
                        <a:pt x="616" y="205"/>
                      </a:lnTo>
                      <a:lnTo>
                        <a:pt x="614" y="211"/>
                      </a:lnTo>
                      <a:lnTo>
                        <a:pt x="613" y="218"/>
                      </a:lnTo>
                      <a:lnTo>
                        <a:pt x="616" y="226"/>
                      </a:lnTo>
                      <a:lnTo>
                        <a:pt x="622" y="218"/>
                      </a:lnTo>
                      <a:lnTo>
                        <a:pt x="629" y="211"/>
                      </a:lnTo>
                      <a:lnTo>
                        <a:pt x="633" y="201"/>
                      </a:lnTo>
                      <a:lnTo>
                        <a:pt x="640" y="193"/>
                      </a:lnTo>
                      <a:lnTo>
                        <a:pt x="643" y="183"/>
                      </a:lnTo>
                      <a:lnTo>
                        <a:pt x="648" y="174"/>
                      </a:lnTo>
                      <a:lnTo>
                        <a:pt x="653" y="164"/>
                      </a:lnTo>
                      <a:lnTo>
                        <a:pt x="660" y="157"/>
                      </a:lnTo>
                      <a:lnTo>
                        <a:pt x="667" y="141"/>
                      </a:lnTo>
                      <a:lnTo>
                        <a:pt x="673" y="125"/>
                      </a:lnTo>
                      <a:lnTo>
                        <a:pt x="678" y="108"/>
                      </a:lnTo>
                      <a:lnTo>
                        <a:pt x="684" y="93"/>
                      </a:lnTo>
                      <a:lnTo>
                        <a:pt x="690" y="76"/>
                      </a:lnTo>
                      <a:lnTo>
                        <a:pt x="697" y="61"/>
                      </a:lnTo>
                      <a:lnTo>
                        <a:pt x="705" y="48"/>
                      </a:lnTo>
                      <a:lnTo>
                        <a:pt x="716" y="37"/>
                      </a:lnTo>
                      <a:lnTo>
                        <a:pt x="723" y="43"/>
                      </a:lnTo>
                      <a:lnTo>
                        <a:pt x="724" y="50"/>
                      </a:lnTo>
                      <a:lnTo>
                        <a:pt x="722" y="59"/>
                      </a:lnTo>
                      <a:lnTo>
                        <a:pt x="720" y="69"/>
                      </a:lnTo>
                      <a:lnTo>
                        <a:pt x="718" y="77"/>
                      </a:lnTo>
                      <a:lnTo>
                        <a:pt x="716" y="88"/>
                      </a:lnTo>
                      <a:lnTo>
                        <a:pt x="713" y="99"/>
                      </a:lnTo>
                      <a:lnTo>
                        <a:pt x="711" y="112"/>
                      </a:lnTo>
                      <a:lnTo>
                        <a:pt x="707" y="123"/>
                      </a:lnTo>
                      <a:lnTo>
                        <a:pt x="706" y="135"/>
                      </a:lnTo>
                      <a:lnTo>
                        <a:pt x="705" y="146"/>
                      </a:lnTo>
                      <a:lnTo>
                        <a:pt x="705" y="158"/>
                      </a:lnTo>
                      <a:lnTo>
                        <a:pt x="711" y="153"/>
                      </a:lnTo>
                      <a:lnTo>
                        <a:pt x="717" y="147"/>
                      </a:lnTo>
                      <a:lnTo>
                        <a:pt x="722" y="139"/>
                      </a:lnTo>
                      <a:lnTo>
                        <a:pt x="727" y="131"/>
                      </a:lnTo>
                      <a:lnTo>
                        <a:pt x="732" y="123"/>
                      </a:lnTo>
                      <a:lnTo>
                        <a:pt x="738" y="119"/>
                      </a:lnTo>
                      <a:lnTo>
                        <a:pt x="745" y="118"/>
                      </a:lnTo>
                      <a:lnTo>
                        <a:pt x="757" y="124"/>
                      </a:lnTo>
                      <a:lnTo>
                        <a:pt x="754" y="131"/>
                      </a:lnTo>
                      <a:lnTo>
                        <a:pt x="751" y="139"/>
                      </a:lnTo>
                      <a:lnTo>
                        <a:pt x="747" y="146"/>
                      </a:lnTo>
                      <a:lnTo>
                        <a:pt x="744" y="155"/>
                      </a:lnTo>
                      <a:lnTo>
                        <a:pt x="739" y="161"/>
                      </a:lnTo>
                      <a:lnTo>
                        <a:pt x="734" y="167"/>
                      </a:lnTo>
                      <a:lnTo>
                        <a:pt x="729" y="174"/>
                      </a:lnTo>
                      <a:lnTo>
                        <a:pt x="724" y="181"/>
                      </a:lnTo>
                      <a:lnTo>
                        <a:pt x="727" y="184"/>
                      </a:lnTo>
                      <a:lnTo>
                        <a:pt x="739" y="175"/>
                      </a:lnTo>
                      <a:lnTo>
                        <a:pt x="751" y="167"/>
                      </a:lnTo>
                      <a:lnTo>
                        <a:pt x="762" y="158"/>
                      </a:lnTo>
                      <a:lnTo>
                        <a:pt x="776" y="151"/>
                      </a:lnTo>
                      <a:lnTo>
                        <a:pt x="787" y="143"/>
                      </a:lnTo>
                      <a:lnTo>
                        <a:pt x="800" y="139"/>
                      </a:lnTo>
                      <a:lnTo>
                        <a:pt x="814" y="134"/>
                      </a:lnTo>
                      <a:lnTo>
                        <a:pt x="828" y="134"/>
                      </a:lnTo>
                      <a:lnTo>
                        <a:pt x="832" y="140"/>
                      </a:lnTo>
                      <a:lnTo>
                        <a:pt x="833" y="147"/>
                      </a:lnTo>
                      <a:lnTo>
                        <a:pt x="808" y="163"/>
                      </a:lnTo>
                      <a:lnTo>
                        <a:pt x="811" y="168"/>
                      </a:lnTo>
                      <a:lnTo>
                        <a:pt x="814" y="174"/>
                      </a:lnTo>
                      <a:lnTo>
                        <a:pt x="814" y="180"/>
                      </a:lnTo>
                      <a:lnTo>
                        <a:pt x="815" y="189"/>
                      </a:lnTo>
                      <a:lnTo>
                        <a:pt x="804" y="201"/>
                      </a:lnTo>
                      <a:lnTo>
                        <a:pt x="789" y="212"/>
                      </a:lnTo>
                      <a:lnTo>
                        <a:pt x="772" y="222"/>
                      </a:lnTo>
                      <a:lnTo>
                        <a:pt x="756" y="233"/>
                      </a:lnTo>
                      <a:lnTo>
                        <a:pt x="743" y="244"/>
                      </a:lnTo>
                      <a:lnTo>
                        <a:pt x="735" y="258"/>
                      </a:lnTo>
                      <a:lnTo>
                        <a:pt x="736" y="273"/>
                      </a:lnTo>
                      <a:lnTo>
                        <a:pt x="750" y="294"/>
                      </a:lnTo>
                      <a:lnTo>
                        <a:pt x="761" y="296"/>
                      </a:lnTo>
                      <a:lnTo>
                        <a:pt x="771" y="289"/>
                      </a:lnTo>
                      <a:lnTo>
                        <a:pt x="772" y="297"/>
                      </a:lnTo>
                      <a:lnTo>
                        <a:pt x="774" y="305"/>
                      </a:lnTo>
                      <a:lnTo>
                        <a:pt x="774" y="313"/>
                      </a:lnTo>
                      <a:lnTo>
                        <a:pt x="773" y="323"/>
                      </a:lnTo>
                      <a:lnTo>
                        <a:pt x="762" y="319"/>
                      </a:lnTo>
                      <a:lnTo>
                        <a:pt x="755" y="323"/>
                      </a:lnTo>
                      <a:lnTo>
                        <a:pt x="754" y="331"/>
                      </a:lnTo>
                      <a:lnTo>
                        <a:pt x="754" y="341"/>
                      </a:lnTo>
                      <a:lnTo>
                        <a:pt x="755" y="350"/>
                      </a:lnTo>
                      <a:lnTo>
                        <a:pt x="763" y="354"/>
                      </a:lnTo>
                      <a:lnTo>
                        <a:pt x="773" y="354"/>
                      </a:lnTo>
                      <a:lnTo>
                        <a:pt x="782" y="361"/>
                      </a:lnTo>
                      <a:lnTo>
                        <a:pt x="788" y="364"/>
                      </a:lnTo>
                      <a:lnTo>
                        <a:pt x="798" y="361"/>
                      </a:lnTo>
                      <a:lnTo>
                        <a:pt x="806" y="364"/>
                      </a:lnTo>
                      <a:lnTo>
                        <a:pt x="816" y="368"/>
                      </a:lnTo>
                      <a:lnTo>
                        <a:pt x="825" y="372"/>
                      </a:lnTo>
                      <a:lnTo>
                        <a:pt x="834" y="375"/>
                      </a:lnTo>
                      <a:lnTo>
                        <a:pt x="833" y="391"/>
                      </a:lnTo>
                      <a:lnTo>
                        <a:pt x="830" y="390"/>
                      </a:lnTo>
                      <a:lnTo>
                        <a:pt x="826" y="391"/>
                      </a:lnTo>
                      <a:lnTo>
                        <a:pt x="826" y="396"/>
                      </a:lnTo>
                      <a:lnTo>
                        <a:pt x="828" y="400"/>
                      </a:lnTo>
                      <a:lnTo>
                        <a:pt x="823" y="402"/>
                      </a:lnTo>
                      <a:lnTo>
                        <a:pt x="823" y="407"/>
                      </a:lnTo>
                      <a:lnTo>
                        <a:pt x="812" y="406"/>
                      </a:lnTo>
                      <a:lnTo>
                        <a:pt x="803" y="402"/>
                      </a:lnTo>
                      <a:lnTo>
                        <a:pt x="793" y="397"/>
                      </a:lnTo>
                      <a:lnTo>
                        <a:pt x="785" y="392"/>
                      </a:lnTo>
                      <a:lnTo>
                        <a:pt x="777" y="388"/>
                      </a:lnTo>
                      <a:lnTo>
                        <a:pt x="770" y="385"/>
                      </a:lnTo>
                      <a:lnTo>
                        <a:pt x="761" y="386"/>
                      </a:lnTo>
                      <a:lnTo>
                        <a:pt x="752" y="391"/>
                      </a:lnTo>
                      <a:lnTo>
                        <a:pt x="758" y="397"/>
                      </a:lnTo>
                      <a:lnTo>
                        <a:pt x="767" y="403"/>
                      </a:lnTo>
                      <a:lnTo>
                        <a:pt x="776" y="408"/>
                      </a:lnTo>
                      <a:lnTo>
                        <a:pt x="787" y="415"/>
                      </a:lnTo>
                      <a:lnTo>
                        <a:pt x="796" y="419"/>
                      </a:lnTo>
                      <a:lnTo>
                        <a:pt x="806" y="426"/>
                      </a:lnTo>
                      <a:lnTo>
                        <a:pt x="816" y="433"/>
                      </a:lnTo>
                      <a:lnTo>
                        <a:pt x="826" y="442"/>
                      </a:lnTo>
                      <a:lnTo>
                        <a:pt x="820" y="448"/>
                      </a:lnTo>
                      <a:lnTo>
                        <a:pt x="812" y="455"/>
                      </a:lnTo>
                      <a:lnTo>
                        <a:pt x="805" y="451"/>
                      </a:lnTo>
                      <a:lnTo>
                        <a:pt x="798" y="448"/>
                      </a:lnTo>
                      <a:lnTo>
                        <a:pt x="790" y="444"/>
                      </a:lnTo>
                      <a:lnTo>
                        <a:pt x="783" y="440"/>
                      </a:lnTo>
                      <a:lnTo>
                        <a:pt x="774" y="437"/>
                      </a:lnTo>
                      <a:lnTo>
                        <a:pt x="767" y="435"/>
                      </a:lnTo>
                      <a:lnTo>
                        <a:pt x="760" y="434"/>
                      </a:lnTo>
                      <a:lnTo>
                        <a:pt x="752" y="434"/>
                      </a:lnTo>
                      <a:lnTo>
                        <a:pt x="757" y="439"/>
                      </a:lnTo>
                      <a:lnTo>
                        <a:pt x="765" y="445"/>
                      </a:lnTo>
                      <a:lnTo>
                        <a:pt x="772" y="450"/>
                      </a:lnTo>
                      <a:lnTo>
                        <a:pt x="781" y="455"/>
                      </a:lnTo>
                      <a:lnTo>
                        <a:pt x="788" y="459"/>
                      </a:lnTo>
                      <a:lnTo>
                        <a:pt x="796" y="462"/>
                      </a:lnTo>
                      <a:lnTo>
                        <a:pt x="805" y="466"/>
                      </a:lnTo>
                      <a:lnTo>
                        <a:pt x="815" y="471"/>
                      </a:lnTo>
                      <a:lnTo>
                        <a:pt x="821" y="486"/>
                      </a:lnTo>
                      <a:lnTo>
                        <a:pt x="814" y="480"/>
                      </a:lnTo>
                      <a:lnTo>
                        <a:pt x="808" y="476"/>
                      </a:lnTo>
                      <a:lnTo>
                        <a:pt x="799" y="473"/>
                      </a:lnTo>
                      <a:lnTo>
                        <a:pt x="792" y="476"/>
                      </a:lnTo>
                      <a:lnTo>
                        <a:pt x="783" y="480"/>
                      </a:lnTo>
                      <a:lnTo>
                        <a:pt x="772" y="480"/>
                      </a:lnTo>
                      <a:lnTo>
                        <a:pt x="766" y="478"/>
                      </a:lnTo>
                      <a:lnTo>
                        <a:pt x="762" y="480"/>
                      </a:lnTo>
                      <a:lnTo>
                        <a:pt x="760" y="482"/>
                      </a:lnTo>
                      <a:lnTo>
                        <a:pt x="761" y="489"/>
                      </a:lnTo>
                      <a:lnTo>
                        <a:pt x="757" y="492"/>
                      </a:lnTo>
                      <a:lnTo>
                        <a:pt x="755" y="497"/>
                      </a:lnTo>
                      <a:lnTo>
                        <a:pt x="760" y="498"/>
                      </a:lnTo>
                      <a:lnTo>
                        <a:pt x="762" y="500"/>
                      </a:lnTo>
                      <a:lnTo>
                        <a:pt x="762" y="504"/>
                      </a:lnTo>
                      <a:lnTo>
                        <a:pt x="762" y="509"/>
                      </a:lnTo>
                      <a:lnTo>
                        <a:pt x="757" y="516"/>
                      </a:lnTo>
                      <a:lnTo>
                        <a:pt x="755" y="525"/>
                      </a:lnTo>
                      <a:lnTo>
                        <a:pt x="745" y="529"/>
                      </a:lnTo>
                      <a:lnTo>
                        <a:pt x="736" y="531"/>
                      </a:lnTo>
                      <a:lnTo>
                        <a:pt x="729" y="533"/>
                      </a:lnTo>
                      <a:lnTo>
                        <a:pt x="727" y="543"/>
                      </a:lnTo>
                      <a:lnTo>
                        <a:pt x="722" y="546"/>
                      </a:lnTo>
                      <a:lnTo>
                        <a:pt x="720" y="549"/>
                      </a:lnTo>
                      <a:lnTo>
                        <a:pt x="727" y="556"/>
                      </a:lnTo>
                      <a:lnTo>
                        <a:pt x="734" y="563"/>
                      </a:lnTo>
                      <a:lnTo>
                        <a:pt x="730" y="569"/>
                      </a:lnTo>
                      <a:lnTo>
                        <a:pt x="724" y="574"/>
                      </a:lnTo>
                      <a:lnTo>
                        <a:pt x="717" y="578"/>
                      </a:lnTo>
                      <a:lnTo>
                        <a:pt x="711" y="581"/>
                      </a:lnTo>
                      <a:lnTo>
                        <a:pt x="713" y="583"/>
                      </a:lnTo>
                      <a:lnTo>
                        <a:pt x="717" y="585"/>
                      </a:lnTo>
                      <a:lnTo>
                        <a:pt x="720" y="586"/>
                      </a:lnTo>
                      <a:lnTo>
                        <a:pt x="723" y="591"/>
                      </a:lnTo>
                      <a:lnTo>
                        <a:pt x="718" y="600"/>
                      </a:lnTo>
                      <a:lnTo>
                        <a:pt x="711" y="606"/>
                      </a:lnTo>
                      <a:lnTo>
                        <a:pt x="707" y="607"/>
                      </a:lnTo>
                      <a:lnTo>
                        <a:pt x="706" y="611"/>
                      </a:lnTo>
                      <a:lnTo>
                        <a:pt x="707" y="614"/>
                      </a:lnTo>
                      <a:lnTo>
                        <a:pt x="713" y="621"/>
                      </a:lnTo>
                      <a:lnTo>
                        <a:pt x="703" y="625"/>
                      </a:lnTo>
                      <a:lnTo>
                        <a:pt x="695" y="632"/>
                      </a:lnTo>
                      <a:lnTo>
                        <a:pt x="686" y="635"/>
                      </a:lnTo>
                      <a:lnTo>
                        <a:pt x="678" y="640"/>
                      </a:lnTo>
                      <a:lnTo>
                        <a:pt x="668" y="644"/>
                      </a:lnTo>
                      <a:lnTo>
                        <a:pt x="658" y="648"/>
                      </a:lnTo>
                      <a:lnTo>
                        <a:pt x="648" y="651"/>
                      </a:lnTo>
                      <a:lnTo>
                        <a:pt x="640" y="657"/>
                      </a:lnTo>
                      <a:lnTo>
                        <a:pt x="649" y="659"/>
                      </a:lnTo>
                      <a:lnTo>
                        <a:pt x="660" y="656"/>
                      </a:lnTo>
                      <a:lnTo>
                        <a:pt x="673" y="651"/>
                      </a:lnTo>
                      <a:lnTo>
                        <a:pt x="686" y="651"/>
                      </a:lnTo>
                      <a:lnTo>
                        <a:pt x="689" y="657"/>
                      </a:lnTo>
                      <a:lnTo>
                        <a:pt x="687" y="665"/>
                      </a:lnTo>
                      <a:lnTo>
                        <a:pt x="676" y="671"/>
                      </a:lnTo>
                      <a:lnTo>
                        <a:pt x="667" y="677"/>
                      </a:lnTo>
                      <a:lnTo>
                        <a:pt x="657" y="682"/>
                      </a:lnTo>
                      <a:lnTo>
                        <a:pt x="647" y="688"/>
                      </a:lnTo>
                      <a:lnTo>
                        <a:pt x="636" y="693"/>
                      </a:lnTo>
                      <a:lnTo>
                        <a:pt x="627" y="698"/>
                      </a:lnTo>
                      <a:lnTo>
                        <a:pt x="618" y="703"/>
                      </a:lnTo>
                      <a:lnTo>
                        <a:pt x="610" y="709"/>
                      </a:lnTo>
                      <a:lnTo>
                        <a:pt x="619" y="709"/>
                      </a:lnTo>
                      <a:lnTo>
                        <a:pt x="629" y="709"/>
                      </a:lnTo>
                      <a:lnTo>
                        <a:pt x="638" y="709"/>
                      </a:lnTo>
                      <a:lnTo>
                        <a:pt x="649" y="715"/>
                      </a:lnTo>
                      <a:lnTo>
                        <a:pt x="644" y="729"/>
                      </a:lnTo>
                      <a:lnTo>
                        <a:pt x="630" y="732"/>
                      </a:lnTo>
                      <a:lnTo>
                        <a:pt x="616" y="736"/>
                      </a:lnTo>
                      <a:lnTo>
                        <a:pt x="603" y="740"/>
                      </a:lnTo>
                      <a:lnTo>
                        <a:pt x="591" y="744"/>
                      </a:lnTo>
                      <a:lnTo>
                        <a:pt x="576" y="748"/>
                      </a:lnTo>
                      <a:lnTo>
                        <a:pt x="564" y="753"/>
                      </a:lnTo>
                      <a:lnTo>
                        <a:pt x="549" y="757"/>
                      </a:lnTo>
                      <a:lnTo>
                        <a:pt x="537" y="762"/>
                      </a:lnTo>
                      <a:lnTo>
                        <a:pt x="533" y="764"/>
                      </a:lnTo>
                      <a:lnTo>
                        <a:pt x="529" y="768"/>
                      </a:lnTo>
                      <a:lnTo>
                        <a:pt x="527" y="771"/>
                      </a:lnTo>
                      <a:lnTo>
                        <a:pt x="529" y="778"/>
                      </a:lnTo>
                      <a:lnTo>
                        <a:pt x="537" y="776"/>
                      </a:lnTo>
                      <a:lnTo>
                        <a:pt x="546" y="775"/>
                      </a:lnTo>
                      <a:lnTo>
                        <a:pt x="554" y="773"/>
                      </a:lnTo>
                      <a:lnTo>
                        <a:pt x="564" y="771"/>
                      </a:lnTo>
                      <a:lnTo>
                        <a:pt x="572" y="770"/>
                      </a:lnTo>
                      <a:lnTo>
                        <a:pt x="581" y="770"/>
                      </a:lnTo>
                      <a:lnTo>
                        <a:pt x="589" y="773"/>
                      </a:lnTo>
                      <a:lnTo>
                        <a:pt x="598" y="778"/>
                      </a:lnTo>
                      <a:lnTo>
                        <a:pt x="593" y="786"/>
                      </a:lnTo>
                      <a:lnTo>
                        <a:pt x="586" y="791"/>
                      </a:lnTo>
                      <a:lnTo>
                        <a:pt x="577" y="794"/>
                      </a:lnTo>
                      <a:lnTo>
                        <a:pt x="571" y="798"/>
                      </a:lnTo>
                      <a:lnTo>
                        <a:pt x="565" y="797"/>
                      </a:lnTo>
                      <a:lnTo>
                        <a:pt x="559" y="801"/>
                      </a:lnTo>
                      <a:lnTo>
                        <a:pt x="561" y="805"/>
                      </a:lnTo>
                      <a:lnTo>
                        <a:pt x="567" y="809"/>
                      </a:lnTo>
                      <a:lnTo>
                        <a:pt x="570" y="813"/>
                      </a:lnTo>
                      <a:lnTo>
                        <a:pt x="568" y="820"/>
                      </a:lnTo>
                      <a:lnTo>
                        <a:pt x="557" y="823"/>
                      </a:lnTo>
                      <a:lnTo>
                        <a:pt x="548" y="827"/>
                      </a:lnTo>
                      <a:lnTo>
                        <a:pt x="538" y="829"/>
                      </a:lnTo>
                      <a:lnTo>
                        <a:pt x="528" y="832"/>
                      </a:lnTo>
                      <a:lnTo>
                        <a:pt x="517" y="833"/>
                      </a:lnTo>
                      <a:lnTo>
                        <a:pt x="507" y="836"/>
                      </a:lnTo>
                      <a:lnTo>
                        <a:pt x="497" y="838"/>
                      </a:lnTo>
                      <a:lnTo>
                        <a:pt x="488" y="841"/>
                      </a:lnTo>
                      <a:lnTo>
                        <a:pt x="477" y="849"/>
                      </a:lnTo>
                      <a:lnTo>
                        <a:pt x="467" y="854"/>
                      </a:lnTo>
                      <a:lnTo>
                        <a:pt x="456" y="859"/>
                      </a:lnTo>
                      <a:lnTo>
                        <a:pt x="445" y="867"/>
                      </a:lnTo>
                      <a:lnTo>
                        <a:pt x="455" y="868"/>
                      </a:lnTo>
                      <a:lnTo>
                        <a:pt x="466" y="867"/>
                      </a:lnTo>
                      <a:lnTo>
                        <a:pt x="478" y="865"/>
                      </a:lnTo>
                      <a:lnTo>
                        <a:pt x="490" y="865"/>
                      </a:lnTo>
                      <a:lnTo>
                        <a:pt x="495" y="871"/>
                      </a:lnTo>
                      <a:lnTo>
                        <a:pt x="500" y="878"/>
                      </a:lnTo>
                      <a:lnTo>
                        <a:pt x="493" y="882"/>
                      </a:lnTo>
                      <a:lnTo>
                        <a:pt x="486" y="887"/>
                      </a:lnTo>
                      <a:lnTo>
                        <a:pt x="479" y="889"/>
                      </a:lnTo>
                      <a:lnTo>
                        <a:pt x="473" y="892"/>
                      </a:lnTo>
                      <a:lnTo>
                        <a:pt x="466" y="893"/>
                      </a:lnTo>
                      <a:lnTo>
                        <a:pt x="459" y="894"/>
                      </a:lnTo>
                      <a:lnTo>
                        <a:pt x="452" y="897"/>
                      </a:lnTo>
                      <a:lnTo>
                        <a:pt x="447" y="901"/>
                      </a:lnTo>
                      <a:lnTo>
                        <a:pt x="439" y="904"/>
                      </a:lnTo>
                      <a:lnTo>
                        <a:pt x="431" y="908"/>
                      </a:lnTo>
                      <a:lnTo>
                        <a:pt x="423" y="910"/>
                      </a:lnTo>
                      <a:lnTo>
                        <a:pt x="415" y="914"/>
                      </a:lnTo>
                      <a:lnTo>
                        <a:pt x="407" y="916"/>
                      </a:lnTo>
                      <a:lnTo>
                        <a:pt x="399" y="920"/>
                      </a:lnTo>
                      <a:lnTo>
                        <a:pt x="392" y="924"/>
                      </a:lnTo>
                      <a:lnTo>
                        <a:pt x="385" y="927"/>
                      </a:lnTo>
                      <a:lnTo>
                        <a:pt x="394" y="927"/>
                      </a:lnTo>
                      <a:lnTo>
                        <a:pt x="408" y="926"/>
                      </a:lnTo>
                      <a:lnTo>
                        <a:pt x="413" y="926"/>
                      </a:lnTo>
                      <a:lnTo>
                        <a:pt x="419" y="927"/>
                      </a:lnTo>
                      <a:lnTo>
                        <a:pt x="424" y="930"/>
                      </a:lnTo>
                      <a:lnTo>
                        <a:pt x="430" y="936"/>
                      </a:lnTo>
                      <a:lnTo>
                        <a:pt x="425" y="942"/>
                      </a:lnTo>
                      <a:lnTo>
                        <a:pt x="420" y="947"/>
                      </a:lnTo>
                      <a:lnTo>
                        <a:pt x="414" y="949"/>
                      </a:lnTo>
                      <a:lnTo>
                        <a:pt x="408" y="952"/>
                      </a:lnTo>
                      <a:lnTo>
                        <a:pt x="401" y="953"/>
                      </a:lnTo>
                      <a:lnTo>
                        <a:pt x="393" y="954"/>
                      </a:lnTo>
                      <a:lnTo>
                        <a:pt x="387" y="955"/>
                      </a:lnTo>
                      <a:lnTo>
                        <a:pt x="382" y="959"/>
                      </a:lnTo>
                      <a:lnTo>
                        <a:pt x="369" y="962"/>
                      </a:lnTo>
                      <a:lnTo>
                        <a:pt x="358" y="966"/>
                      </a:lnTo>
                      <a:lnTo>
                        <a:pt x="347" y="974"/>
                      </a:lnTo>
                      <a:lnTo>
                        <a:pt x="337" y="981"/>
                      </a:lnTo>
                      <a:lnTo>
                        <a:pt x="327" y="989"/>
                      </a:lnTo>
                      <a:lnTo>
                        <a:pt x="317" y="997"/>
                      </a:lnTo>
                      <a:lnTo>
                        <a:pt x="306" y="1003"/>
                      </a:lnTo>
                      <a:lnTo>
                        <a:pt x="295" y="1009"/>
                      </a:lnTo>
                      <a:lnTo>
                        <a:pt x="300" y="1011"/>
                      </a:lnTo>
                      <a:lnTo>
                        <a:pt x="309" y="1012"/>
                      </a:lnTo>
                      <a:lnTo>
                        <a:pt x="316" y="1009"/>
                      </a:lnTo>
                      <a:lnTo>
                        <a:pt x="326" y="1009"/>
                      </a:lnTo>
                      <a:lnTo>
                        <a:pt x="332" y="1007"/>
                      </a:lnTo>
                      <a:lnTo>
                        <a:pt x="338" y="1009"/>
                      </a:lnTo>
                      <a:lnTo>
                        <a:pt x="341" y="1014"/>
                      </a:lnTo>
                      <a:lnTo>
                        <a:pt x="341" y="1025"/>
                      </a:lnTo>
                      <a:lnTo>
                        <a:pt x="323" y="1030"/>
                      </a:lnTo>
                      <a:lnTo>
                        <a:pt x="307" y="1035"/>
                      </a:lnTo>
                      <a:lnTo>
                        <a:pt x="291" y="1040"/>
                      </a:lnTo>
                      <a:lnTo>
                        <a:pt x="276" y="1045"/>
                      </a:lnTo>
                      <a:lnTo>
                        <a:pt x="258" y="1046"/>
                      </a:lnTo>
                      <a:lnTo>
                        <a:pt x="241" y="1047"/>
                      </a:lnTo>
                      <a:lnTo>
                        <a:pt x="224" y="1045"/>
                      </a:lnTo>
                      <a:lnTo>
                        <a:pt x="208" y="1041"/>
                      </a:lnTo>
                      <a:lnTo>
                        <a:pt x="203" y="1034"/>
                      </a:lnTo>
                      <a:lnTo>
                        <a:pt x="200" y="1028"/>
                      </a:lnTo>
                      <a:lnTo>
                        <a:pt x="198" y="1020"/>
                      </a:lnTo>
                      <a:lnTo>
                        <a:pt x="198" y="1014"/>
                      </a:lnTo>
                      <a:lnTo>
                        <a:pt x="202" y="1007"/>
                      </a:lnTo>
                      <a:lnTo>
                        <a:pt x="207" y="1000"/>
                      </a:lnTo>
                      <a:lnTo>
                        <a:pt x="212" y="993"/>
                      </a:lnTo>
                      <a:lnTo>
                        <a:pt x="219" y="989"/>
                      </a:lnTo>
                      <a:lnTo>
                        <a:pt x="225" y="982"/>
                      </a:lnTo>
                      <a:lnTo>
                        <a:pt x="233" y="979"/>
                      </a:lnTo>
                      <a:lnTo>
                        <a:pt x="240" y="975"/>
                      </a:lnTo>
                      <a:lnTo>
                        <a:pt x="249" y="975"/>
                      </a:lnTo>
                      <a:lnTo>
                        <a:pt x="267" y="953"/>
                      </a:lnTo>
                      <a:lnTo>
                        <a:pt x="289" y="933"/>
                      </a:lnTo>
                      <a:lnTo>
                        <a:pt x="309" y="912"/>
                      </a:lnTo>
                      <a:lnTo>
                        <a:pt x="329" y="892"/>
                      </a:lnTo>
                      <a:lnTo>
                        <a:pt x="347" y="870"/>
                      </a:lnTo>
                      <a:lnTo>
                        <a:pt x="364" y="847"/>
                      </a:lnTo>
                      <a:lnTo>
                        <a:pt x="379" y="823"/>
                      </a:lnTo>
                      <a:lnTo>
                        <a:pt x="392" y="798"/>
                      </a:lnTo>
                      <a:lnTo>
                        <a:pt x="398" y="789"/>
                      </a:lnTo>
                      <a:lnTo>
                        <a:pt x="407" y="781"/>
                      </a:lnTo>
                      <a:lnTo>
                        <a:pt x="414" y="775"/>
                      </a:lnTo>
                      <a:lnTo>
                        <a:pt x="425" y="769"/>
                      </a:lnTo>
                      <a:lnTo>
                        <a:pt x="434" y="763"/>
                      </a:lnTo>
                      <a:lnTo>
                        <a:pt x="443" y="758"/>
                      </a:lnTo>
                      <a:lnTo>
                        <a:pt x="455" y="753"/>
                      </a:lnTo>
                      <a:lnTo>
                        <a:pt x="466" y="749"/>
                      </a:lnTo>
                      <a:lnTo>
                        <a:pt x="473" y="740"/>
                      </a:lnTo>
                      <a:lnTo>
                        <a:pt x="484" y="736"/>
                      </a:lnTo>
                      <a:lnTo>
                        <a:pt x="495" y="731"/>
                      </a:lnTo>
                      <a:lnTo>
                        <a:pt x="504" y="722"/>
                      </a:lnTo>
                      <a:lnTo>
                        <a:pt x="501" y="713"/>
                      </a:lnTo>
                      <a:lnTo>
                        <a:pt x="500" y="705"/>
                      </a:lnTo>
                      <a:lnTo>
                        <a:pt x="499" y="697"/>
                      </a:lnTo>
                      <a:lnTo>
                        <a:pt x="504" y="692"/>
                      </a:lnTo>
                      <a:lnTo>
                        <a:pt x="515" y="688"/>
                      </a:lnTo>
                      <a:lnTo>
                        <a:pt x="523" y="682"/>
                      </a:lnTo>
                      <a:lnTo>
                        <a:pt x="529" y="673"/>
                      </a:lnTo>
                      <a:lnTo>
                        <a:pt x="537" y="665"/>
                      </a:lnTo>
                      <a:lnTo>
                        <a:pt x="542" y="654"/>
                      </a:lnTo>
                      <a:lnTo>
                        <a:pt x="546" y="643"/>
                      </a:lnTo>
                      <a:lnTo>
                        <a:pt x="551" y="633"/>
                      </a:lnTo>
                      <a:lnTo>
                        <a:pt x="559" y="625"/>
                      </a:lnTo>
                      <a:lnTo>
                        <a:pt x="566" y="614"/>
                      </a:lnTo>
                      <a:lnTo>
                        <a:pt x="573" y="603"/>
                      </a:lnTo>
                      <a:lnTo>
                        <a:pt x="580" y="591"/>
                      </a:lnTo>
                      <a:lnTo>
                        <a:pt x="586" y="579"/>
                      </a:lnTo>
                      <a:lnTo>
                        <a:pt x="589" y="565"/>
                      </a:lnTo>
                      <a:lnTo>
                        <a:pt x="594" y="552"/>
                      </a:lnTo>
                      <a:lnTo>
                        <a:pt x="598" y="538"/>
                      </a:lnTo>
                      <a:lnTo>
                        <a:pt x="603" y="525"/>
                      </a:lnTo>
                      <a:lnTo>
                        <a:pt x="600" y="513"/>
                      </a:lnTo>
                      <a:lnTo>
                        <a:pt x="598" y="502"/>
                      </a:lnTo>
                      <a:lnTo>
                        <a:pt x="594" y="491"/>
                      </a:lnTo>
                      <a:lnTo>
                        <a:pt x="593" y="481"/>
                      </a:lnTo>
                      <a:lnTo>
                        <a:pt x="592" y="470"/>
                      </a:lnTo>
                      <a:lnTo>
                        <a:pt x="593" y="459"/>
                      </a:lnTo>
                      <a:lnTo>
                        <a:pt x="595" y="448"/>
                      </a:lnTo>
                      <a:lnTo>
                        <a:pt x="603" y="437"/>
                      </a:lnTo>
                      <a:lnTo>
                        <a:pt x="608" y="430"/>
                      </a:lnTo>
                      <a:lnTo>
                        <a:pt x="610" y="424"/>
                      </a:lnTo>
                      <a:lnTo>
                        <a:pt x="611" y="417"/>
                      </a:lnTo>
                      <a:lnTo>
                        <a:pt x="616" y="412"/>
                      </a:lnTo>
                      <a:lnTo>
                        <a:pt x="624" y="395"/>
                      </a:lnTo>
                      <a:lnTo>
                        <a:pt x="629" y="378"/>
                      </a:lnTo>
                      <a:lnTo>
                        <a:pt x="630" y="359"/>
                      </a:lnTo>
                      <a:lnTo>
                        <a:pt x="630" y="342"/>
                      </a:lnTo>
                      <a:lnTo>
                        <a:pt x="626" y="324"/>
                      </a:lnTo>
                      <a:lnTo>
                        <a:pt x="622" y="305"/>
                      </a:lnTo>
                      <a:lnTo>
                        <a:pt x="615" y="288"/>
                      </a:lnTo>
                      <a:lnTo>
                        <a:pt x="608" y="273"/>
                      </a:lnTo>
                      <a:lnTo>
                        <a:pt x="592" y="275"/>
                      </a:lnTo>
                      <a:lnTo>
                        <a:pt x="577" y="273"/>
                      </a:lnTo>
                      <a:lnTo>
                        <a:pt x="561" y="271"/>
                      </a:lnTo>
                      <a:lnTo>
                        <a:pt x="546" y="270"/>
                      </a:lnTo>
                      <a:lnTo>
                        <a:pt x="532" y="269"/>
                      </a:lnTo>
                      <a:lnTo>
                        <a:pt x="517" y="271"/>
                      </a:lnTo>
                      <a:lnTo>
                        <a:pt x="504" y="278"/>
                      </a:lnTo>
                      <a:lnTo>
                        <a:pt x="493" y="292"/>
                      </a:lnTo>
                      <a:lnTo>
                        <a:pt x="484" y="291"/>
                      </a:lnTo>
                      <a:lnTo>
                        <a:pt x="477" y="293"/>
                      </a:lnTo>
                      <a:lnTo>
                        <a:pt x="470" y="297"/>
                      </a:lnTo>
                      <a:lnTo>
                        <a:pt x="466" y="303"/>
                      </a:lnTo>
                      <a:lnTo>
                        <a:pt x="453" y="311"/>
                      </a:lnTo>
                      <a:lnTo>
                        <a:pt x="442" y="318"/>
                      </a:lnTo>
                      <a:lnTo>
                        <a:pt x="417" y="340"/>
                      </a:lnTo>
                      <a:lnTo>
                        <a:pt x="392" y="362"/>
                      </a:lnTo>
                      <a:lnTo>
                        <a:pt x="367" y="384"/>
                      </a:lnTo>
                      <a:lnTo>
                        <a:pt x="347" y="408"/>
                      </a:lnTo>
                      <a:lnTo>
                        <a:pt x="325" y="433"/>
                      </a:lnTo>
                      <a:lnTo>
                        <a:pt x="306" y="459"/>
                      </a:lnTo>
                      <a:lnTo>
                        <a:pt x="288" y="486"/>
                      </a:lnTo>
                      <a:lnTo>
                        <a:pt x="274" y="515"/>
                      </a:lnTo>
                      <a:lnTo>
                        <a:pt x="263" y="522"/>
                      </a:lnTo>
                      <a:lnTo>
                        <a:pt x="253" y="530"/>
                      </a:lnTo>
                      <a:lnTo>
                        <a:pt x="244" y="537"/>
                      </a:lnTo>
                      <a:lnTo>
                        <a:pt x="236" y="546"/>
                      </a:lnTo>
                      <a:lnTo>
                        <a:pt x="227" y="553"/>
                      </a:lnTo>
                      <a:lnTo>
                        <a:pt x="219" y="563"/>
                      </a:lnTo>
                      <a:lnTo>
                        <a:pt x="212" y="573"/>
                      </a:lnTo>
                      <a:lnTo>
                        <a:pt x="208" y="584"/>
                      </a:lnTo>
                      <a:lnTo>
                        <a:pt x="195" y="591"/>
                      </a:lnTo>
                      <a:lnTo>
                        <a:pt x="185" y="605"/>
                      </a:lnTo>
                      <a:lnTo>
                        <a:pt x="176" y="618"/>
                      </a:lnTo>
                      <a:lnTo>
                        <a:pt x="169" y="634"/>
                      </a:lnTo>
                      <a:lnTo>
                        <a:pt x="160" y="645"/>
                      </a:lnTo>
                      <a:lnTo>
                        <a:pt x="151" y="654"/>
                      </a:lnTo>
                      <a:lnTo>
                        <a:pt x="137" y="655"/>
                      </a:lnTo>
                      <a:lnTo>
                        <a:pt x="120" y="649"/>
                      </a:lnTo>
                      <a:lnTo>
                        <a:pt x="103" y="651"/>
                      </a:lnTo>
                      <a:lnTo>
                        <a:pt x="90" y="657"/>
                      </a:lnTo>
                      <a:lnTo>
                        <a:pt x="79" y="666"/>
                      </a:lnTo>
                      <a:lnTo>
                        <a:pt x="72" y="678"/>
                      </a:lnTo>
                      <a:lnTo>
                        <a:pt x="64" y="689"/>
                      </a:lnTo>
                      <a:lnTo>
                        <a:pt x="55" y="703"/>
                      </a:lnTo>
                      <a:lnTo>
                        <a:pt x="45" y="714"/>
                      </a:lnTo>
                      <a:lnTo>
                        <a:pt x="35" y="725"/>
                      </a:lnTo>
                      <a:lnTo>
                        <a:pt x="30" y="720"/>
                      </a:lnTo>
                      <a:lnTo>
                        <a:pt x="24" y="716"/>
                      </a:lnTo>
                      <a:lnTo>
                        <a:pt x="18" y="714"/>
                      </a:lnTo>
                      <a:lnTo>
                        <a:pt x="13" y="713"/>
                      </a:lnTo>
                      <a:lnTo>
                        <a:pt x="7" y="709"/>
                      </a:lnTo>
                      <a:lnTo>
                        <a:pt x="3" y="705"/>
                      </a:lnTo>
                      <a:lnTo>
                        <a:pt x="0" y="700"/>
                      </a:lnTo>
                      <a:lnTo>
                        <a:pt x="1" y="694"/>
                      </a:lnTo>
                      <a:lnTo>
                        <a:pt x="5" y="683"/>
                      </a:lnTo>
                      <a:lnTo>
                        <a:pt x="8" y="673"/>
                      </a:lnTo>
                      <a:lnTo>
                        <a:pt x="12" y="662"/>
                      </a:lnTo>
                      <a:lnTo>
                        <a:pt x="17" y="652"/>
                      </a:lnTo>
                      <a:lnTo>
                        <a:pt x="18" y="640"/>
                      </a:lnTo>
                      <a:lnTo>
                        <a:pt x="21" y="629"/>
                      </a:lnTo>
                      <a:lnTo>
                        <a:pt x="23" y="618"/>
                      </a:lnTo>
                      <a:lnTo>
                        <a:pt x="26" y="607"/>
                      </a:lnTo>
                      <a:lnTo>
                        <a:pt x="28" y="597"/>
                      </a:lnTo>
                      <a:lnTo>
                        <a:pt x="35" y="589"/>
                      </a:lnTo>
                      <a:lnTo>
                        <a:pt x="41" y="587"/>
                      </a:lnTo>
                      <a:lnTo>
                        <a:pt x="46" y="591"/>
                      </a:lnTo>
                      <a:lnTo>
                        <a:pt x="48" y="596"/>
                      </a:lnTo>
                      <a:lnTo>
                        <a:pt x="49" y="602"/>
                      </a:lnTo>
                      <a:lnTo>
                        <a:pt x="49" y="606"/>
                      </a:lnTo>
                      <a:lnTo>
                        <a:pt x="50" y="611"/>
                      </a:lnTo>
                      <a:lnTo>
                        <a:pt x="54" y="612"/>
                      </a:lnTo>
                      <a:lnTo>
                        <a:pt x="62" y="612"/>
                      </a:lnTo>
                      <a:lnTo>
                        <a:pt x="67" y="606"/>
                      </a:lnTo>
                      <a:lnTo>
                        <a:pt x="72" y="601"/>
                      </a:lnTo>
                      <a:lnTo>
                        <a:pt x="76" y="594"/>
                      </a:lnTo>
                      <a:lnTo>
                        <a:pt x="79" y="587"/>
                      </a:lnTo>
                      <a:lnTo>
                        <a:pt x="83" y="580"/>
                      </a:lnTo>
                      <a:lnTo>
                        <a:pt x="88" y="576"/>
                      </a:lnTo>
                      <a:lnTo>
                        <a:pt x="93" y="574"/>
                      </a:lnTo>
                      <a:lnTo>
                        <a:pt x="102" y="575"/>
                      </a:lnTo>
                      <a:lnTo>
                        <a:pt x="109" y="568"/>
                      </a:lnTo>
                      <a:lnTo>
                        <a:pt x="117" y="562"/>
                      </a:lnTo>
                      <a:lnTo>
                        <a:pt x="124" y="554"/>
                      </a:lnTo>
                      <a:lnTo>
                        <a:pt x="130" y="548"/>
                      </a:lnTo>
                      <a:lnTo>
                        <a:pt x="135" y="541"/>
                      </a:lnTo>
                      <a:lnTo>
                        <a:pt x="142" y="533"/>
                      </a:lnTo>
                      <a:lnTo>
                        <a:pt x="148" y="526"/>
                      </a:lnTo>
                      <a:lnTo>
                        <a:pt x="157" y="522"/>
                      </a:lnTo>
                      <a:lnTo>
                        <a:pt x="162" y="524"/>
                      </a:lnTo>
                      <a:lnTo>
                        <a:pt x="166" y="525"/>
                      </a:lnTo>
                      <a:lnTo>
                        <a:pt x="168" y="527"/>
                      </a:lnTo>
                      <a:lnTo>
                        <a:pt x="169" y="533"/>
                      </a:lnTo>
                      <a:lnTo>
                        <a:pt x="174" y="535"/>
                      </a:lnTo>
                      <a:lnTo>
                        <a:pt x="179" y="531"/>
                      </a:lnTo>
                      <a:lnTo>
                        <a:pt x="184" y="524"/>
                      </a:lnTo>
                      <a:lnTo>
                        <a:pt x="190" y="520"/>
                      </a:lnTo>
                      <a:lnTo>
                        <a:pt x="203" y="494"/>
                      </a:lnTo>
                      <a:lnTo>
                        <a:pt x="218" y="471"/>
                      </a:lnTo>
                      <a:lnTo>
                        <a:pt x="233" y="446"/>
                      </a:lnTo>
                      <a:lnTo>
                        <a:pt x="247" y="423"/>
                      </a:lnTo>
                      <a:lnTo>
                        <a:pt x="262" y="399"/>
                      </a:lnTo>
                      <a:lnTo>
                        <a:pt x="277" y="374"/>
                      </a:lnTo>
                      <a:lnTo>
                        <a:pt x="291" y="350"/>
                      </a:lnTo>
                      <a:lnTo>
                        <a:pt x="306" y="326"/>
                      </a:lnTo>
                      <a:lnTo>
                        <a:pt x="312" y="327"/>
                      </a:lnTo>
                      <a:lnTo>
                        <a:pt x="318" y="331"/>
                      </a:lnTo>
                      <a:lnTo>
                        <a:pt x="325" y="320"/>
                      </a:lnTo>
                      <a:lnTo>
                        <a:pt x="332" y="309"/>
                      </a:lnTo>
                      <a:lnTo>
                        <a:pt x="336" y="304"/>
                      </a:lnTo>
                      <a:lnTo>
                        <a:pt x="341" y="300"/>
                      </a:lnTo>
                      <a:lnTo>
                        <a:pt x="345" y="298"/>
                      </a:lnTo>
                      <a:lnTo>
                        <a:pt x="353" y="299"/>
                      </a:lnTo>
                      <a:lnTo>
                        <a:pt x="355" y="303"/>
                      </a:lnTo>
                      <a:lnTo>
                        <a:pt x="354" y="309"/>
                      </a:lnTo>
                      <a:lnTo>
                        <a:pt x="354" y="315"/>
                      </a:lnTo>
                      <a:lnTo>
                        <a:pt x="359" y="320"/>
                      </a:lnTo>
                      <a:lnTo>
                        <a:pt x="364" y="315"/>
                      </a:lnTo>
                      <a:lnTo>
                        <a:pt x="369" y="310"/>
                      </a:lnTo>
                      <a:lnTo>
                        <a:pt x="372" y="303"/>
                      </a:lnTo>
                      <a:lnTo>
                        <a:pt x="377" y="297"/>
                      </a:lnTo>
                      <a:lnTo>
                        <a:pt x="380" y="289"/>
                      </a:lnTo>
                      <a:lnTo>
                        <a:pt x="383" y="283"/>
                      </a:lnTo>
                      <a:lnTo>
                        <a:pt x="387" y="276"/>
                      </a:lnTo>
                      <a:lnTo>
                        <a:pt x="392" y="271"/>
                      </a:lnTo>
                      <a:lnTo>
                        <a:pt x="394" y="261"/>
                      </a:lnTo>
                      <a:lnTo>
                        <a:pt x="398" y="253"/>
                      </a:lnTo>
                      <a:lnTo>
                        <a:pt x="403" y="244"/>
                      </a:lnTo>
                      <a:lnTo>
                        <a:pt x="412" y="239"/>
                      </a:lnTo>
                      <a:lnTo>
                        <a:pt x="419" y="239"/>
                      </a:lnTo>
                      <a:lnTo>
                        <a:pt x="421" y="245"/>
                      </a:lnTo>
                      <a:lnTo>
                        <a:pt x="423" y="253"/>
                      </a:lnTo>
                      <a:lnTo>
                        <a:pt x="424" y="260"/>
                      </a:lnTo>
                      <a:lnTo>
                        <a:pt x="436" y="255"/>
                      </a:lnTo>
                      <a:lnTo>
                        <a:pt x="445" y="248"/>
                      </a:lnTo>
                      <a:lnTo>
                        <a:pt x="448" y="237"/>
                      </a:lnTo>
                      <a:lnTo>
                        <a:pt x="453" y="226"/>
                      </a:lnTo>
                      <a:lnTo>
                        <a:pt x="455" y="212"/>
                      </a:lnTo>
                      <a:lnTo>
                        <a:pt x="458" y="201"/>
                      </a:lnTo>
                      <a:lnTo>
                        <a:pt x="463" y="189"/>
                      </a:lnTo>
                      <a:lnTo>
                        <a:pt x="472" y="181"/>
                      </a:lnTo>
                      <a:lnTo>
                        <a:pt x="478" y="181"/>
                      </a:lnTo>
                      <a:lnTo>
                        <a:pt x="481" y="188"/>
                      </a:lnTo>
                      <a:lnTo>
                        <a:pt x="483" y="195"/>
                      </a:lnTo>
                      <a:lnTo>
                        <a:pt x="484" y="202"/>
                      </a:lnTo>
                      <a:lnTo>
                        <a:pt x="494" y="194"/>
                      </a:lnTo>
                      <a:lnTo>
                        <a:pt x="501" y="184"/>
                      </a:lnTo>
                      <a:lnTo>
                        <a:pt x="506" y="172"/>
                      </a:lnTo>
                      <a:lnTo>
                        <a:pt x="511" y="159"/>
                      </a:lnTo>
                      <a:lnTo>
                        <a:pt x="515" y="146"/>
                      </a:lnTo>
                      <a:lnTo>
                        <a:pt x="521" y="134"/>
                      </a:lnTo>
                      <a:lnTo>
                        <a:pt x="528" y="121"/>
                      </a:lnTo>
                      <a:lnTo>
                        <a:pt x="539" y="113"/>
                      </a:lnTo>
                      <a:lnTo>
                        <a:pt x="546" y="116"/>
                      </a:lnTo>
                      <a:lnTo>
                        <a:pt x="550" y="124"/>
                      </a:lnTo>
                      <a:lnTo>
                        <a:pt x="527" y="212"/>
                      </a:lnTo>
                      <a:lnTo>
                        <a:pt x="532" y="215"/>
                      </a:lnTo>
                      <a:lnTo>
                        <a:pt x="539" y="217"/>
                      </a:lnTo>
                      <a:lnTo>
                        <a:pt x="546" y="218"/>
                      </a:lnTo>
                      <a:lnTo>
                        <a:pt x="555" y="221"/>
                      </a:lnTo>
                      <a:lnTo>
                        <a:pt x="560" y="212"/>
                      </a:lnTo>
                      <a:lnTo>
                        <a:pt x="565" y="204"/>
                      </a:lnTo>
                      <a:lnTo>
                        <a:pt x="568" y="194"/>
                      </a:lnTo>
                      <a:lnTo>
                        <a:pt x="573" y="186"/>
                      </a:lnTo>
                      <a:lnTo>
                        <a:pt x="582" y="163"/>
                      </a:lnTo>
                      <a:lnTo>
                        <a:pt x="592" y="141"/>
                      </a:lnTo>
                      <a:lnTo>
                        <a:pt x="602" y="119"/>
                      </a:lnTo>
                      <a:lnTo>
                        <a:pt x="611" y="97"/>
                      </a:lnTo>
                      <a:lnTo>
                        <a:pt x="620" y="74"/>
                      </a:lnTo>
                      <a:lnTo>
                        <a:pt x="629" y="50"/>
                      </a:lnTo>
                      <a:lnTo>
                        <a:pt x="636" y="27"/>
                      </a:lnTo>
                      <a:lnTo>
                        <a:pt x="644" y="5"/>
                      </a:lnTo>
                      <a:lnTo>
                        <a:pt x="649" y="0"/>
                      </a:lnTo>
                      <a:lnTo>
                        <a:pt x="656" y="0"/>
                      </a:lnTo>
                      <a:lnTo>
                        <a:pt x="660" y="9"/>
                      </a:lnTo>
                      <a:lnTo>
                        <a:pt x="659" y="20"/>
                      </a:lnTo>
                      <a:lnTo>
                        <a:pt x="658" y="31"/>
                      </a:lnTo>
                      <a:lnTo>
                        <a:pt x="660" y="42"/>
                      </a:lnTo>
                      <a:close/>
                    </a:path>
                  </a:pathLst>
                </a:custGeom>
                <a:solidFill>
                  <a:srgbClr val="ff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01" name="Freeform 21"/>
                <p:cNvSpPr/>
                <p:nvPr/>
              </p:nvSpPr>
              <p:spPr>
                <a:xfrm flipH="1">
                  <a:off x="7357320" y="2989440"/>
                  <a:ext cx="17640" cy="31320"/>
                </a:xfrm>
                <a:custGeom>
                  <a:avLst/>
                  <a:gdLst>
                    <a:gd name="textAreaLeft" fmla="*/ -360 w 17640"/>
                    <a:gd name="textAreaRight" fmla="*/ 17640 w 17640"/>
                    <a:gd name="textAreaTop" fmla="*/ 0 h 31320"/>
                    <a:gd name="textAreaBottom" fmla="*/ 31680 h 31320"/>
                  </a:gdLst>
                  <a:ahLst/>
                  <a:rect l="textAreaLeft" t="textAreaTop" r="textAreaRight" b="textAreaBottom"/>
                  <a:pathLst>
                    <a:path w="64" h="109">
                      <a:moveTo>
                        <a:pt x="45" y="16"/>
                      </a:moveTo>
                      <a:lnTo>
                        <a:pt x="45" y="28"/>
                      </a:lnTo>
                      <a:lnTo>
                        <a:pt x="38" y="39"/>
                      </a:lnTo>
                      <a:lnTo>
                        <a:pt x="34" y="43"/>
                      </a:lnTo>
                      <a:lnTo>
                        <a:pt x="34" y="48"/>
                      </a:lnTo>
                      <a:lnTo>
                        <a:pt x="38" y="50"/>
                      </a:lnTo>
                      <a:lnTo>
                        <a:pt x="48" y="51"/>
                      </a:lnTo>
                      <a:lnTo>
                        <a:pt x="57" y="54"/>
                      </a:lnTo>
                      <a:lnTo>
                        <a:pt x="64" y="62"/>
                      </a:lnTo>
                      <a:lnTo>
                        <a:pt x="64" y="72"/>
                      </a:lnTo>
                      <a:lnTo>
                        <a:pt x="64" y="86"/>
                      </a:lnTo>
                      <a:lnTo>
                        <a:pt x="61" y="97"/>
                      </a:lnTo>
                      <a:lnTo>
                        <a:pt x="55" y="107"/>
                      </a:lnTo>
                      <a:lnTo>
                        <a:pt x="47" y="108"/>
                      </a:lnTo>
                      <a:lnTo>
                        <a:pt x="39" y="109"/>
                      </a:lnTo>
                      <a:lnTo>
                        <a:pt x="32" y="107"/>
                      </a:lnTo>
                      <a:lnTo>
                        <a:pt x="25" y="104"/>
                      </a:lnTo>
                      <a:lnTo>
                        <a:pt x="20" y="92"/>
                      </a:lnTo>
                      <a:lnTo>
                        <a:pt x="21" y="81"/>
                      </a:lnTo>
                      <a:lnTo>
                        <a:pt x="26" y="76"/>
                      </a:lnTo>
                      <a:lnTo>
                        <a:pt x="32" y="71"/>
                      </a:lnTo>
                      <a:lnTo>
                        <a:pt x="30" y="67"/>
                      </a:lnTo>
                      <a:lnTo>
                        <a:pt x="33" y="64"/>
                      </a:lnTo>
                      <a:lnTo>
                        <a:pt x="34" y="60"/>
                      </a:lnTo>
                      <a:lnTo>
                        <a:pt x="22" y="54"/>
                      </a:lnTo>
                      <a:lnTo>
                        <a:pt x="14" y="44"/>
                      </a:lnTo>
                      <a:lnTo>
                        <a:pt x="5" y="33"/>
                      </a:lnTo>
                      <a:lnTo>
                        <a:pt x="0" y="23"/>
                      </a:lnTo>
                      <a:lnTo>
                        <a:pt x="0" y="16"/>
                      </a:lnTo>
                      <a:lnTo>
                        <a:pt x="4" y="12"/>
                      </a:lnTo>
                      <a:lnTo>
                        <a:pt x="6" y="8"/>
                      </a:lnTo>
                      <a:lnTo>
                        <a:pt x="11" y="7"/>
                      </a:lnTo>
                      <a:lnTo>
                        <a:pt x="19" y="5"/>
                      </a:lnTo>
                      <a:lnTo>
                        <a:pt x="27" y="0"/>
                      </a:lnTo>
                      <a:lnTo>
                        <a:pt x="38" y="7"/>
                      </a:lnTo>
                      <a:lnTo>
                        <a:pt x="45" y="16"/>
                      </a:lnTo>
                      <a:close/>
                    </a:path>
                  </a:pathLst>
                </a:custGeom>
                <a:solidFill>
                  <a:srgbClr val="ffff0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Humanst521 BT"/>
                  </a:endParaRPr>
                </a:p>
              </p:txBody>
            </p:sp>
            <p:sp>
              <p:nvSpPr>
                <p:cNvPr id="202" name="Freeform 22"/>
                <p:cNvSpPr/>
                <p:nvPr/>
              </p:nvSpPr>
              <p:spPr>
                <a:xfrm flipH="1">
                  <a:off x="7380000" y="3009600"/>
                  <a:ext cx="13320" cy="15840"/>
                </a:xfrm>
                <a:custGeom>
                  <a:avLst/>
                  <a:gdLst>
                    <a:gd name="textAreaLeft" fmla="*/ -360 w 13320"/>
                    <a:gd name="textAreaRight" fmla="*/ 13320 w 13320"/>
                    <a:gd name="textAreaTop" fmla="*/ 0 h 15840"/>
                    <a:gd name="textAreaBottom" fmla="*/ 16200 h 15840"/>
                  </a:gdLst>
                  <a:ahLst/>
                  <a:rect l="textAreaLeft" t="textAreaTop" r="textAreaRight" b="textAreaBottom"/>
                  <a:pathLst>
                    <a:path w="47" h="54">
                      <a:moveTo>
                        <a:pt x="47" y="18"/>
                      </a:moveTo>
                      <a:lnTo>
                        <a:pt x="46" y="29"/>
                      </a:lnTo>
                      <a:lnTo>
                        <a:pt x="39" y="41"/>
                      </a:lnTo>
                      <a:lnTo>
                        <a:pt x="30" y="48"/>
                      </a:lnTo>
                      <a:lnTo>
                        <a:pt x="19" y="54"/>
                      </a:lnTo>
                      <a:lnTo>
                        <a:pt x="10" y="52"/>
                      </a:lnTo>
                      <a:lnTo>
                        <a:pt x="6" y="47"/>
                      </a:lnTo>
                      <a:lnTo>
                        <a:pt x="3" y="41"/>
                      </a:lnTo>
                      <a:lnTo>
                        <a:pt x="0" y="36"/>
                      </a:lnTo>
                      <a:lnTo>
                        <a:pt x="1" y="23"/>
                      </a:lnTo>
                      <a:lnTo>
                        <a:pt x="4" y="12"/>
                      </a:lnTo>
                      <a:lnTo>
                        <a:pt x="5" y="7"/>
                      </a:lnTo>
                      <a:lnTo>
                        <a:pt x="9" y="4"/>
                      </a:lnTo>
                      <a:lnTo>
                        <a:pt x="14" y="0"/>
                      </a:lnTo>
                      <a:lnTo>
                        <a:pt x="21" y="0"/>
                      </a:lnTo>
                      <a:lnTo>
                        <a:pt x="28" y="0"/>
                      </a:lnTo>
                      <a:lnTo>
                        <a:pt x="36" y="5"/>
                      </a:lnTo>
                      <a:lnTo>
                        <a:pt x="41" y="11"/>
                      </a:lnTo>
                      <a:lnTo>
                        <a:pt x="47" y="18"/>
                      </a:lnTo>
                      <a:close/>
                    </a:path>
                  </a:pathLst>
                </a:custGeom>
                <a:solidFill>
                  <a:srgbClr val="ffff0f"/>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Humanst521 BT"/>
                  </a:endParaRPr>
                </a:p>
              </p:txBody>
            </p:sp>
            <p:sp>
              <p:nvSpPr>
                <p:cNvPr id="203" name="Freeform 23"/>
                <p:cNvSpPr/>
                <p:nvPr/>
              </p:nvSpPr>
              <p:spPr>
                <a:xfrm flipH="1">
                  <a:off x="7369200" y="3024360"/>
                  <a:ext cx="12240" cy="14760"/>
                </a:xfrm>
                <a:custGeom>
                  <a:avLst/>
                  <a:gdLst>
                    <a:gd name="textAreaLeft" fmla="*/ 360 w 12240"/>
                    <a:gd name="textAreaRight" fmla="*/ 12960 w 12240"/>
                    <a:gd name="textAreaTop" fmla="*/ 0 h 14760"/>
                    <a:gd name="textAreaBottom" fmla="*/ 15120 h 14760"/>
                  </a:gdLst>
                  <a:ahLst/>
                  <a:rect l="textAreaLeft" t="textAreaTop" r="textAreaRight" b="textAreaBottom"/>
                  <a:pathLst>
                    <a:path w="42" h="53">
                      <a:moveTo>
                        <a:pt x="42" y="21"/>
                      </a:moveTo>
                      <a:lnTo>
                        <a:pt x="38" y="26"/>
                      </a:lnTo>
                      <a:lnTo>
                        <a:pt x="36" y="34"/>
                      </a:lnTo>
                      <a:lnTo>
                        <a:pt x="34" y="42"/>
                      </a:lnTo>
                      <a:lnTo>
                        <a:pt x="28" y="48"/>
                      </a:lnTo>
                      <a:lnTo>
                        <a:pt x="20" y="49"/>
                      </a:lnTo>
                      <a:lnTo>
                        <a:pt x="13" y="52"/>
                      </a:lnTo>
                      <a:lnTo>
                        <a:pt x="6" y="53"/>
                      </a:lnTo>
                      <a:lnTo>
                        <a:pt x="1" y="48"/>
                      </a:lnTo>
                      <a:lnTo>
                        <a:pt x="0" y="34"/>
                      </a:lnTo>
                      <a:lnTo>
                        <a:pt x="4" y="22"/>
                      </a:lnTo>
                      <a:lnTo>
                        <a:pt x="13" y="9"/>
                      </a:lnTo>
                      <a:lnTo>
                        <a:pt x="24" y="0"/>
                      </a:lnTo>
                      <a:lnTo>
                        <a:pt x="30" y="0"/>
                      </a:lnTo>
                      <a:lnTo>
                        <a:pt x="38" y="5"/>
                      </a:lnTo>
                      <a:lnTo>
                        <a:pt x="41" y="11"/>
                      </a:lnTo>
                      <a:lnTo>
                        <a:pt x="42" y="21"/>
                      </a:lnTo>
                      <a:close/>
                    </a:path>
                  </a:pathLst>
                </a:custGeom>
                <a:solidFill>
                  <a:srgbClr val="ffff0f"/>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Humanst521 BT"/>
                  </a:endParaRPr>
                </a:p>
              </p:txBody>
            </p:sp>
            <p:sp>
              <p:nvSpPr>
                <p:cNvPr id="204" name="Freeform 24"/>
                <p:cNvSpPr/>
                <p:nvPr/>
              </p:nvSpPr>
              <p:spPr>
                <a:xfrm flipH="1">
                  <a:off x="7176960" y="3080880"/>
                  <a:ext cx="225360" cy="239760"/>
                </a:xfrm>
                <a:custGeom>
                  <a:avLst/>
                  <a:gdLst>
                    <a:gd name="textAreaLeft" fmla="*/ 360 w 225360"/>
                    <a:gd name="textAreaRight" fmla="*/ 226080 w 225360"/>
                    <a:gd name="textAreaTop" fmla="*/ 0 h 239760"/>
                    <a:gd name="textAreaBottom" fmla="*/ 240120 h 239760"/>
                  </a:gdLst>
                  <a:ahLst/>
                  <a:rect l="textAreaLeft" t="textAreaTop" r="textAreaRight" b="textAreaBottom"/>
                  <a:pathLst>
                    <a:path w="804" h="847">
                      <a:moveTo>
                        <a:pt x="804" y="12"/>
                      </a:moveTo>
                      <a:lnTo>
                        <a:pt x="801" y="19"/>
                      </a:lnTo>
                      <a:lnTo>
                        <a:pt x="797" y="26"/>
                      </a:lnTo>
                      <a:lnTo>
                        <a:pt x="792" y="34"/>
                      </a:lnTo>
                      <a:lnTo>
                        <a:pt x="787" y="41"/>
                      </a:lnTo>
                      <a:lnTo>
                        <a:pt x="781" y="47"/>
                      </a:lnTo>
                      <a:lnTo>
                        <a:pt x="776" y="53"/>
                      </a:lnTo>
                      <a:lnTo>
                        <a:pt x="771" y="61"/>
                      </a:lnTo>
                      <a:lnTo>
                        <a:pt x="768" y="69"/>
                      </a:lnTo>
                      <a:lnTo>
                        <a:pt x="775" y="73"/>
                      </a:lnTo>
                      <a:lnTo>
                        <a:pt x="780" y="81"/>
                      </a:lnTo>
                      <a:lnTo>
                        <a:pt x="779" y="89"/>
                      </a:lnTo>
                      <a:lnTo>
                        <a:pt x="775" y="99"/>
                      </a:lnTo>
                      <a:lnTo>
                        <a:pt x="764" y="111"/>
                      </a:lnTo>
                      <a:lnTo>
                        <a:pt x="753" y="126"/>
                      </a:lnTo>
                      <a:lnTo>
                        <a:pt x="743" y="139"/>
                      </a:lnTo>
                      <a:lnTo>
                        <a:pt x="736" y="154"/>
                      </a:lnTo>
                      <a:lnTo>
                        <a:pt x="726" y="168"/>
                      </a:lnTo>
                      <a:lnTo>
                        <a:pt x="717" y="183"/>
                      </a:lnTo>
                      <a:lnTo>
                        <a:pt x="709" y="198"/>
                      </a:lnTo>
                      <a:lnTo>
                        <a:pt x="701" y="214"/>
                      </a:lnTo>
                      <a:lnTo>
                        <a:pt x="706" y="216"/>
                      </a:lnTo>
                      <a:lnTo>
                        <a:pt x="714" y="216"/>
                      </a:lnTo>
                      <a:lnTo>
                        <a:pt x="720" y="216"/>
                      </a:lnTo>
                      <a:lnTo>
                        <a:pt x="725" y="224"/>
                      </a:lnTo>
                      <a:lnTo>
                        <a:pt x="720" y="230"/>
                      </a:lnTo>
                      <a:lnTo>
                        <a:pt x="715" y="237"/>
                      </a:lnTo>
                      <a:lnTo>
                        <a:pt x="708" y="242"/>
                      </a:lnTo>
                      <a:lnTo>
                        <a:pt x="701" y="248"/>
                      </a:lnTo>
                      <a:lnTo>
                        <a:pt x="694" y="253"/>
                      </a:lnTo>
                      <a:lnTo>
                        <a:pt x="688" y="258"/>
                      </a:lnTo>
                      <a:lnTo>
                        <a:pt x="682" y="264"/>
                      </a:lnTo>
                      <a:lnTo>
                        <a:pt x="678" y="272"/>
                      </a:lnTo>
                      <a:lnTo>
                        <a:pt x="681" y="276"/>
                      </a:lnTo>
                      <a:lnTo>
                        <a:pt x="687" y="272"/>
                      </a:lnTo>
                      <a:lnTo>
                        <a:pt x="693" y="265"/>
                      </a:lnTo>
                      <a:lnTo>
                        <a:pt x="699" y="259"/>
                      </a:lnTo>
                      <a:lnTo>
                        <a:pt x="706" y="256"/>
                      </a:lnTo>
                      <a:lnTo>
                        <a:pt x="712" y="251"/>
                      </a:lnTo>
                      <a:lnTo>
                        <a:pt x="719" y="249"/>
                      </a:lnTo>
                      <a:lnTo>
                        <a:pt x="726" y="251"/>
                      </a:lnTo>
                      <a:lnTo>
                        <a:pt x="733" y="258"/>
                      </a:lnTo>
                      <a:lnTo>
                        <a:pt x="727" y="265"/>
                      </a:lnTo>
                      <a:lnTo>
                        <a:pt x="722" y="273"/>
                      </a:lnTo>
                      <a:lnTo>
                        <a:pt x="715" y="279"/>
                      </a:lnTo>
                      <a:lnTo>
                        <a:pt x="709" y="286"/>
                      </a:lnTo>
                      <a:lnTo>
                        <a:pt x="700" y="291"/>
                      </a:lnTo>
                      <a:lnTo>
                        <a:pt x="693" y="299"/>
                      </a:lnTo>
                      <a:lnTo>
                        <a:pt x="685" y="305"/>
                      </a:lnTo>
                      <a:lnTo>
                        <a:pt x="681" y="313"/>
                      </a:lnTo>
                      <a:lnTo>
                        <a:pt x="685" y="316"/>
                      </a:lnTo>
                      <a:lnTo>
                        <a:pt x="692" y="313"/>
                      </a:lnTo>
                      <a:lnTo>
                        <a:pt x="696" y="311"/>
                      </a:lnTo>
                      <a:lnTo>
                        <a:pt x="704" y="313"/>
                      </a:lnTo>
                      <a:lnTo>
                        <a:pt x="706" y="322"/>
                      </a:lnTo>
                      <a:lnTo>
                        <a:pt x="701" y="332"/>
                      </a:lnTo>
                      <a:lnTo>
                        <a:pt x="689" y="343"/>
                      </a:lnTo>
                      <a:lnTo>
                        <a:pt x="677" y="355"/>
                      </a:lnTo>
                      <a:lnTo>
                        <a:pt x="663" y="366"/>
                      </a:lnTo>
                      <a:lnTo>
                        <a:pt x="650" y="378"/>
                      </a:lnTo>
                      <a:lnTo>
                        <a:pt x="635" y="388"/>
                      </a:lnTo>
                      <a:lnTo>
                        <a:pt x="622" y="398"/>
                      </a:lnTo>
                      <a:lnTo>
                        <a:pt x="608" y="408"/>
                      </a:lnTo>
                      <a:lnTo>
                        <a:pt x="596" y="419"/>
                      </a:lnTo>
                      <a:lnTo>
                        <a:pt x="601" y="422"/>
                      </a:lnTo>
                      <a:lnTo>
                        <a:pt x="611" y="420"/>
                      </a:lnTo>
                      <a:lnTo>
                        <a:pt x="620" y="415"/>
                      </a:lnTo>
                      <a:lnTo>
                        <a:pt x="633" y="411"/>
                      </a:lnTo>
                      <a:lnTo>
                        <a:pt x="640" y="405"/>
                      </a:lnTo>
                      <a:lnTo>
                        <a:pt x="649" y="400"/>
                      </a:lnTo>
                      <a:lnTo>
                        <a:pt x="656" y="397"/>
                      </a:lnTo>
                      <a:lnTo>
                        <a:pt x="667" y="398"/>
                      </a:lnTo>
                      <a:lnTo>
                        <a:pt x="670" y="402"/>
                      </a:lnTo>
                      <a:lnTo>
                        <a:pt x="670" y="408"/>
                      </a:lnTo>
                      <a:lnTo>
                        <a:pt x="667" y="413"/>
                      </a:lnTo>
                      <a:lnTo>
                        <a:pt x="665" y="419"/>
                      </a:lnTo>
                      <a:lnTo>
                        <a:pt x="656" y="424"/>
                      </a:lnTo>
                      <a:lnTo>
                        <a:pt x="647" y="431"/>
                      </a:lnTo>
                      <a:lnTo>
                        <a:pt x="639" y="437"/>
                      </a:lnTo>
                      <a:lnTo>
                        <a:pt x="630" y="443"/>
                      </a:lnTo>
                      <a:lnTo>
                        <a:pt x="620" y="448"/>
                      </a:lnTo>
                      <a:lnTo>
                        <a:pt x="612" y="453"/>
                      </a:lnTo>
                      <a:lnTo>
                        <a:pt x="602" y="457"/>
                      </a:lnTo>
                      <a:lnTo>
                        <a:pt x="594" y="460"/>
                      </a:lnTo>
                      <a:lnTo>
                        <a:pt x="594" y="464"/>
                      </a:lnTo>
                      <a:lnTo>
                        <a:pt x="596" y="469"/>
                      </a:lnTo>
                      <a:lnTo>
                        <a:pt x="602" y="469"/>
                      </a:lnTo>
                      <a:lnTo>
                        <a:pt x="609" y="467"/>
                      </a:lnTo>
                      <a:lnTo>
                        <a:pt x="617" y="464"/>
                      </a:lnTo>
                      <a:lnTo>
                        <a:pt x="625" y="462"/>
                      </a:lnTo>
                      <a:lnTo>
                        <a:pt x="632" y="458"/>
                      </a:lnTo>
                      <a:lnTo>
                        <a:pt x="639" y="459"/>
                      </a:lnTo>
                      <a:lnTo>
                        <a:pt x="644" y="463"/>
                      </a:lnTo>
                      <a:lnTo>
                        <a:pt x="649" y="471"/>
                      </a:lnTo>
                      <a:lnTo>
                        <a:pt x="641" y="478"/>
                      </a:lnTo>
                      <a:lnTo>
                        <a:pt x="633" y="482"/>
                      </a:lnTo>
                      <a:lnTo>
                        <a:pt x="623" y="486"/>
                      </a:lnTo>
                      <a:lnTo>
                        <a:pt x="617" y="490"/>
                      </a:lnTo>
                      <a:lnTo>
                        <a:pt x="609" y="491"/>
                      </a:lnTo>
                      <a:lnTo>
                        <a:pt x="602" y="494"/>
                      </a:lnTo>
                      <a:lnTo>
                        <a:pt x="595" y="497"/>
                      </a:lnTo>
                      <a:lnTo>
                        <a:pt x="587" y="502"/>
                      </a:lnTo>
                      <a:lnTo>
                        <a:pt x="580" y="507"/>
                      </a:lnTo>
                      <a:lnTo>
                        <a:pt x="576" y="513"/>
                      </a:lnTo>
                      <a:lnTo>
                        <a:pt x="571" y="519"/>
                      </a:lnTo>
                      <a:lnTo>
                        <a:pt x="570" y="527"/>
                      </a:lnTo>
                      <a:lnTo>
                        <a:pt x="575" y="534"/>
                      </a:lnTo>
                      <a:lnTo>
                        <a:pt x="584" y="529"/>
                      </a:lnTo>
                      <a:lnTo>
                        <a:pt x="594" y="525"/>
                      </a:lnTo>
                      <a:lnTo>
                        <a:pt x="603" y="520"/>
                      </a:lnTo>
                      <a:lnTo>
                        <a:pt x="613" y="517"/>
                      </a:lnTo>
                      <a:lnTo>
                        <a:pt x="622" y="512"/>
                      </a:lnTo>
                      <a:lnTo>
                        <a:pt x="633" y="509"/>
                      </a:lnTo>
                      <a:lnTo>
                        <a:pt x="643" y="506"/>
                      </a:lnTo>
                      <a:lnTo>
                        <a:pt x="654" y="506"/>
                      </a:lnTo>
                      <a:lnTo>
                        <a:pt x="654" y="513"/>
                      </a:lnTo>
                      <a:lnTo>
                        <a:pt x="651" y="522"/>
                      </a:lnTo>
                      <a:lnTo>
                        <a:pt x="645" y="527"/>
                      </a:lnTo>
                      <a:lnTo>
                        <a:pt x="639" y="533"/>
                      </a:lnTo>
                      <a:lnTo>
                        <a:pt x="629" y="536"/>
                      </a:lnTo>
                      <a:lnTo>
                        <a:pt x="619" y="540"/>
                      </a:lnTo>
                      <a:lnTo>
                        <a:pt x="611" y="545"/>
                      </a:lnTo>
                      <a:lnTo>
                        <a:pt x="605" y="552"/>
                      </a:lnTo>
                      <a:lnTo>
                        <a:pt x="605" y="556"/>
                      </a:lnTo>
                      <a:lnTo>
                        <a:pt x="607" y="559"/>
                      </a:lnTo>
                      <a:lnTo>
                        <a:pt x="613" y="557"/>
                      </a:lnTo>
                      <a:lnTo>
                        <a:pt x="620" y="557"/>
                      </a:lnTo>
                      <a:lnTo>
                        <a:pt x="628" y="557"/>
                      </a:lnTo>
                      <a:lnTo>
                        <a:pt x="635" y="561"/>
                      </a:lnTo>
                      <a:lnTo>
                        <a:pt x="630" y="570"/>
                      </a:lnTo>
                      <a:lnTo>
                        <a:pt x="623" y="577"/>
                      </a:lnTo>
                      <a:lnTo>
                        <a:pt x="614" y="582"/>
                      </a:lnTo>
                      <a:lnTo>
                        <a:pt x="606" y="587"/>
                      </a:lnTo>
                      <a:lnTo>
                        <a:pt x="596" y="590"/>
                      </a:lnTo>
                      <a:lnTo>
                        <a:pt x="589" y="595"/>
                      </a:lnTo>
                      <a:lnTo>
                        <a:pt x="582" y="601"/>
                      </a:lnTo>
                      <a:lnTo>
                        <a:pt x="580" y="612"/>
                      </a:lnTo>
                      <a:lnTo>
                        <a:pt x="564" y="615"/>
                      </a:lnTo>
                      <a:lnTo>
                        <a:pt x="547" y="617"/>
                      </a:lnTo>
                      <a:lnTo>
                        <a:pt x="530" y="619"/>
                      </a:lnTo>
                      <a:lnTo>
                        <a:pt x="514" y="621"/>
                      </a:lnTo>
                      <a:lnTo>
                        <a:pt x="498" y="624"/>
                      </a:lnTo>
                      <a:lnTo>
                        <a:pt x="483" y="630"/>
                      </a:lnTo>
                      <a:lnTo>
                        <a:pt x="470" y="639"/>
                      </a:lnTo>
                      <a:lnTo>
                        <a:pt x="460" y="655"/>
                      </a:lnTo>
                      <a:lnTo>
                        <a:pt x="453" y="664"/>
                      </a:lnTo>
                      <a:lnTo>
                        <a:pt x="450" y="674"/>
                      </a:lnTo>
                      <a:lnTo>
                        <a:pt x="448" y="682"/>
                      </a:lnTo>
                      <a:lnTo>
                        <a:pt x="442" y="692"/>
                      </a:lnTo>
                      <a:lnTo>
                        <a:pt x="432" y="696"/>
                      </a:lnTo>
                      <a:lnTo>
                        <a:pt x="423" y="701"/>
                      </a:lnTo>
                      <a:lnTo>
                        <a:pt x="416" y="706"/>
                      </a:lnTo>
                      <a:lnTo>
                        <a:pt x="408" y="713"/>
                      </a:lnTo>
                      <a:lnTo>
                        <a:pt x="401" y="719"/>
                      </a:lnTo>
                      <a:lnTo>
                        <a:pt x="394" y="725"/>
                      </a:lnTo>
                      <a:lnTo>
                        <a:pt x="388" y="733"/>
                      </a:lnTo>
                      <a:lnTo>
                        <a:pt x="384" y="741"/>
                      </a:lnTo>
                      <a:lnTo>
                        <a:pt x="386" y="746"/>
                      </a:lnTo>
                      <a:lnTo>
                        <a:pt x="394" y="749"/>
                      </a:lnTo>
                      <a:lnTo>
                        <a:pt x="399" y="751"/>
                      </a:lnTo>
                      <a:lnTo>
                        <a:pt x="400" y="757"/>
                      </a:lnTo>
                      <a:lnTo>
                        <a:pt x="395" y="761"/>
                      </a:lnTo>
                      <a:lnTo>
                        <a:pt x="390" y="765"/>
                      </a:lnTo>
                      <a:lnTo>
                        <a:pt x="384" y="766"/>
                      </a:lnTo>
                      <a:lnTo>
                        <a:pt x="378" y="767"/>
                      </a:lnTo>
                      <a:lnTo>
                        <a:pt x="370" y="767"/>
                      </a:lnTo>
                      <a:lnTo>
                        <a:pt x="364" y="768"/>
                      </a:lnTo>
                      <a:lnTo>
                        <a:pt x="357" y="768"/>
                      </a:lnTo>
                      <a:lnTo>
                        <a:pt x="352" y="771"/>
                      </a:lnTo>
                      <a:lnTo>
                        <a:pt x="318" y="784"/>
                      </a:lnTo>
                      <a:lnTo>
                        <a:pt x="324" y="785"/>
                      </a:lnTo>
                      <a:lnTo>
                        <a:pt x="334" y="787"/>
                      </a:lnTo>
                      <a:lnTo>
                        <a:pt x="342" y="788"/>
                      </a:lnTo>
                      <a:lnTo>
                        <a:pt x="352" y="789"/>
                      </a:lnTo>
                      <a:lnTo>
                        <a:pt x="358" y="789"/>
                      </a:lnTo>
                      <a:lnTo>
                        <a:pt x="366" y="790"/>
                      </a:lnTo>
                      <a:lnTo>
                        <a:pt x="370" y="792"/>
                      </a:lnTo>
                      <a:lnTo>
                        <a:pt x="375" y="798"/>
                      </a:lnTo>
                      <a:lnTo>
                        <a:pt x="372" y="803"/>
                      </a:lnTo>
                      <a:lnTo>
                        <a:pt x="368" y="808"/>
                      </a:lnTo>
                      <a:lnTo>
                        <a:pt x="362" y="810"/>
                      </a:lnTo>
                      <a:lnTo>
                        <a:pt x="357" y="811"/>
                      </a:lnTo>
                      <a:lnTo>
                        <a:pt x="350" y="811"/>
                      </a:lnTo>
                      <a:lnTo>
                        <a:pt x="343" y="811"/>
                      </a:lnTo>
                      <a:lnTo>
                        <a:pt x="336" y="811"/>
                      </a:lnTo>
                      <a:lnTo>
                        <a:pt x="331" y="812"/>
                      </a:lnTo>
                      <a:lnTo>
                        <a:pt x="315" y="816"/>
                      </a:lnTo>
                      <a:lnTo>
                        <a:pt x="299" y="821"/>
                      </a:lnTo>
                      <a:lnTo>
                        <a:pt x="283" y="825"/>
                      </a:lnTo>
                      <a:lnTo>
                        <a:pt x="269" y="831"/>
                      </a:lnTo>
                      <a:lnTo>
                        <a:pt x="253" y="836"/>
                      </a:lnTo>
                      <a:lnTo>
                        <a:pt x="237" y="841"/>
                      </a:lnTo>
                      <a:lnTo>
                        <a:pt x="221" y="843"/>
                      </a:lnTo>
                      <a:lnTo>
                        <a:pt x="205" y="847"/>
                      </a:lnTo>
                      <a:lnTo>
                        <a:pt x="198" y="841"/>
                      </a:lnTo>
                      <a:lnTo>
                        <a:pt x="193" y="834"/>
                      </a:lnTo>
                      <a:lnTo>
                        <a:pt x="188" y="826"/>
                      </a:lnTo>
                      <a:lnTo>
                        <a:pt x="187" y="819"/>
                      </a:lnTo>
                      <a:lnTo>
                        <a:pt x="187" y="811"/>
                      </a:lnTo>
                      <a:lnTo>
                        <a:pt x="190" y="806"/>
                      </a:lnTo>
                      <a:lnTo>
                        <a:pt x="194" y="803"/>
                      </a:lnTo>
                      <a:lnTo>
                        <a:pt x="199" y="800"/>
                      </a:lnTo>
                      <a:lnTo>
                        <a:pt x="210" y="795"/>
                      </a:lnTo>
                      <a:lnTo>
                        <a:pt x="221" y="792"/>
                      </a:lnTo>
                      <a:lnTo>
                        <a:pt x="232" y="781"/>
                      </a:lnTo>
                      <a:lnTo>
                        <a:pt x="243" y="769"/>
                      </a:lnTo>
                      <a:lnTo>
                        <a:pt x="254" y="758"/>
                      </a:lnTo>
                      <a:lnTo>
                        <a:pt x="266" y="749"/>
                      </a:lnTo>
                      <a:lnTo>
                        <a:pt x="277" y="739"/>
                      </a:lnTo>
                      <a:lnTo>
                        <a:pt x="292" y="733"/>
                      </a:lnTo>
                      <a:lnTo>
                        <a:pt x="305" y="728"/>
                      </a:lnTo>
                      <a:lnTo>
                        <a:pt x="323" y="727"/>
                      </a:lnTo>
                      <a:lnTo>
                        <a:pt x="330" y="722"/>
                      </a:lnTo>
                      <a:lnTo>
                        <a:pt x="335" y="716"/>
                      </a:lnTo>
                      <a:lnTo>
                        <a:pt x="337" y="708"/>
                      </a:lnTo>
                      <a:lnTo>
                        <a:pt x="341" y="702"/>
                      </a:lnTo>
                      <a:lnTo>
                        <a:pt x="343" y="695"/>
                      </a:lnTo>
                      <a:lnTo>
                        <a:pt x="348" y="689"/>
                      </a:lnTo>
                      <a:lnTo>
                        <a:pt x="353" y="684"/>
                      </a:lnTo>
                      <a:lnTo>
                        <a:pt x="363" y="681"/>
                      </a:lnTo>
                      <a:lnTo>
                        <a:pt x="366" y="670"/>
                      </a:lnTo>
                      <a:lnTo>
                        <a:pt x="370" y="662"/>
                      </a:lnTo>
                      <a:lnTo>
                        <a:pt x="374" y="654"/>
                      </a:lnTo>
                      <a:lnTo>
                        <a:pt x="381" y="647"/>
                      </a:lnTo>
                      <a:lnTo>
                        <a:pt x="388" y="639"/>
                      </a:lnTo>
                      <a:lnTo>
                        <a:pt x="396" y="636"/>
                      </a:lnTo>
                      <a:lnTo>
                        <a:pt x="404" y="632"/>
                      </a:lnTo>
                      <a:lnTo>
                        <a:pt x="415" y="631"/>
                      </a:lnTo>
                      <a:lnTo>
                        <a:pt x="426" y="616"/>
                      </a:lnTo>
                      <a:lnTo>
                        <a:pt x="439" y="604"/>
                      </a:lnTo>
                      <a:lnTo>
                        <a:pt x="453" y="590"/>
                      </a:lnTo>
                      <a:lnTo>
                        <a:pt x="466" y="578"/>
                      </a:lnTo>
                      <a:lnTo>
                        <a:pt x="476" y="562"/>
                      </a:lnTo>
                      <a:lnTo>
                        <a:pt x="486" y="547"/>
                      </a:lnTo>
                      <a:lnTo>
                        <a:pt x="491" y="529"/>
                      </a:lnTo>
                      <a:lnTo>
                        <a:pt x="492" y="511"/>
                      </a:lnTo>
                      <a:lnTo>
                        <a:pt x="498" y="503"/>
                      </a:lnTo>
                      <a:lnTo>
                        <a:pt x="507" y="501"/>
                      </a:lnTo>
                      <a:lnTo>
                        <a:pt x="515" y="500"/>
                      </a:lnTo>
                      <a:lnTo>
                        <a:pt x="526" y="500"/>
                      </a:lnTo>
                      <a:lnTo>
                        <a:pt x="529" y="489"/>
                      </a:lnTo>
                      <a:lnTo>
                        <a:pt x="532" y="479"/>
                      </a:lnTo>
                      <a:lnTo>
                        <a:pt x="535" y="468"/>
                      </a:lnTo>
                      <a:lnTo>
                        <a:pt x="538" y="458"/>
                      </a:lnTo>
                      <a:lnTo>
                        <a:pt x="540" y="447"/>
                      </a:lnTo>
                      <a:lnTo>
                        <a:pt x="541" y="436"/>
                      </a:lnTo>
                      <a:lnTo>
                        <a:pt x="540" y="425"/>
                      </a:lnTo>
                      <a:lnTo>
                        <a:pt x="538" y="416"/>
                      </a:lnTo>
                      <a:lnTo>
                        <a:pt x="542" y="404"/>
                      </a:lnTo>
                      <a:lnTo>
                        <a:pt x="548" y="392"/>
                      </a:lnTo>
                      <a:lnTo>
                        <a:pt x="553" y="379"/>
                      </a:lnTo>
                      <a:lnTo>
                        <a:pt x="559" y="367"/>
                      </a:lnTo>
                      <a:lnTo>
                        <a:pt x="562" y="354"/>
                      </a:lnTo>
                      <a:lnTo>
                        <a:pt x="564" y="343"/>
                      </a:lnTo>
                      <a:lnTo>
                        <a:pt x="564" y="329"/>
                      </a:lnTo>
                      <a:lnTo>
                        <a:pt x="563" y="318"/>
                      </a:lnTo>
                      <a:lnTo>
                        <a:pt x="559" y="311"/>
                      </a:lnTo>
                      <a:lnTo>
                        <a:pt x="556" y="306"/>
                      </a:lnTo>
                      <a:lnTo>
                        <a:pt x="551" y="302"/>
                      </a:lnTo>
                      <a:lnTo>
                        <a:pt x="546" y="300"/>
                      </a:lnTo>
                      <a:lnTo>
                        <a:pt x="535" y="294"/>
                      </a:lnTo>
                      <a:lnTo>
                        <a:pt x="526" y="285"/>
                      </a:lnTo>
                      <a:lnTo>
                        <a:pt x="519" y="290"/>
                      </a:lnTo>
                      <a:lnTo>
                        <a:pt x="511" y="295"/>
                      </a:lnTo>
                      <a:lnTo>
                        <a:pt x="503" y="297"/>
                      </a:lnTo>
                      <a:lnTo>
                        <a:pt x="494" y="297"/>
                      </a:lnTo>
                      <a:lnTo>
                        <a:pt x="486" y="296"/>
                      </a:lnTo>
                      <a:lnTo>
                        <a:pt x="481" y="294"/>
                      </a:lnTo>
                      <a:lnTo>
                        <a:pt x="477" y="290"/>
                      </a:lnTo>
                      <a:lnTo>
                        <a:pt x="473" y="286"/>
                      </a:lnTo>
                      <a:lnTo>
                        <a:pt x="466" y="276"/>
                      </a:lnTo>
                      <a:lnTo>
                        <a:pt x="457" y="269"/>
                      </a:lnTo>
                      <a:lnTo>
                        <a:pt x="453" y="263"/>
                      </a:lnTo>
                      <a:lnTo>
                        <a:pt x="444" y="273"/>
                      </a:lnTo>
                      <a:lnTo>
                        <a:pt x="434" y="278"/>
                      </a:lnTo>
                      <a:lnTo>
                        <a:pt x="423" y="278"/>
                      </a:lnTo>
                      <a:lnTo>
                        <a:pt x="413" y="278"/>
                      </a:lnTo>
                      <a:lnTo>
                        <a:pt x="402" y="276"/>
                      </a:lnTo>
                      <a:lnTo>
                        <a:pt x="391" y="278"/>
                      </a:lnTo>
                      <a:lnTo>
                        <a:pt x="381" y="281"/>
                      </a:lnTo>
                      <a:lnTo>
                        <a:pt x="375" y="292"/>
                      </a:lnTo>
                      <a:lnTo>
                        <a:pt x="369" y="302"/>
                      </a:lnTo>
                      <a:lnTo>
                        <a:pt x="363" y="312"/>
                      </a:lnTo>
                      <a:lnTo>
                        <a:pt x="355" y="321"/>
                      </a:lnTo>
                      <a:lnTo>
                        <a:pt x="346" y="329"/>
                      </a:lnTo>
                      <a:lnTo>
                        <a:pt x="335" y="337"/>
                      </a:lnTo>
                      <a:lnTo>
                        <a:pt x="326" y="344"/>
                      </a:lnTo>
                      <a:lnTo>
                        <a:pt x="317" y="351"/>
                      </a:lnTo>
                      <a:lnTo>
                        <a:pt x="310" y="361"/>
                      </a:lnTo>
                      <a:lnTo>
                        <a:pt x="304" y="365"/>
                      </a:lnTo>
                      <a:lnTo>
                        <a:pt x="299" y="370"/>
                      </a:lnTo>
                      <a:lnTo>
                        <a:pt x="292" y="372"/>
                      </a:lnTo>
                      <a:lnTo>
                        <a:pt x="286" y="375"/>
                      </a:lnTo>
                      <a:lnTo>
                        <a:pt x="279" y="376"/>
                      </a:lnTo>
                      <a:lnTo>
                        <a:pt x="271" y="378"/>
                      </a:lnTo>
                      <a:lnTo>
                        <a:pt x="264" y="381"/>
                      </a:lnTo>
                      <a:lnTo>
                        <a:pt x="260" y="387"/>
                      </a:lnTo>
                      <a:lnTo>
                        <a:pt x="253" y="406"/>
                      </a:lnTo>
                      <a:lnTo>
                        <a:pt x="242" y="420"/>
                      </a:lnTo>
                      <a:lnTo>
                        <a:pt x="225" y="430"/>
                      </a:lnTo>
                      <a:lnTo>
                        <a:pt x="209" y="438"/>
                      </a:lnTo>
                      <a:lnTo>
                        <a:pt x="191" y="446"/>
                      </a:lnTo>
                      <a:lnTo>
                        <a:pt x="178" y="457"/>
                      </a:lnTo>
                      <a:lnTo>
                        <a:pt x="168" y="471"/>
                      </a:lnTo>
                      <a:lnTo>
                        <a:pt x="166" y="495"/>
                      </a:lnTo>
                      <a:lnTo>
                        <a:pt x="162" y="503"/>
                      </a:lnTo>
                      <a:lnTo>
                        <a:pt x="160" y="512"/>
                      </a:lnTo>
                      <a:lnTo>
                        <a:pt x="155" y="519"/>
                      </a:lnTo>
                      <a:lnTo>
                        <a:pt x="151" y="528"/>
                      </a:lnTo>
                      <a:lnTo>
                        <a:pt x="144" y="535"/>
                      </a:lnTo>
                      <a:lnTo>
                        <a:pt x="138" y="543"/>
                      </a:lnTo>
                      <a:lnTo>
                        <a:pt x="129" y="549"/>
                      </a:lnTo>
                      <a:lnTo>
                        <a:pt x="122" y="555"/>
                      </a:lnTo>
                      <a:lnTo>
                        <a:pt x="116" y="562"/>
                      </a:lnTo>
                      <a:lnTo>
                        <a:pt x="111" y="570"/>
                      </a:lnTo>
                      <a:lnTo>
                        <a:pt x="106" y="577"/>
                      </a:lnTo>
                      <a:lnTo>
                        <a:pt x="102" y="584"/>
                      </a:lnTo>
                      <a:lnTo>
                        <a:pt x="97" y="592"/>
                      </a:lnTo>
                      <a:lnTo>
                        <a:pt x="93" y="600"/>
                      </a:lnTo>
                      <a:lnTo>
                        <a:pt x="90" y="609"/>
                      </a:lnTo>
                      <a:lnTo>
                        <a:pt x="87" y="619"/>
                      </a:lnTo>
                      <a:lnTo>
                        <a:pt x="74" y="626"/>
                      </a:lnTo>
                      <a:lnTo>
                        <a:pt x="63" y="636"/>
                      </a:lnTo>
                      <a:lnTo>
                        <a:pt x="54" y="647"/>
                      </a:lnTo>
                      <a:lnTo>
                        <a:pt x="47" y="659"/>
                      </a:lnTo>
                      <a:lnTo>
                        <a:pt x="38" y="670"/>
                      </a:lnTo>
                      <a:lnTo>
                        <a:pt x="30" y="682"/>
                      </a:lnTo>
                      <a:lnTo>
                        <a:pt x="21" y="693"/>
                      </a:lnTo>
                      <a:lnTo>
                        <a:pt x="11" y="704"/>
                      </a:lnTo>
                      <a:lnTo>
                        <a:pt x="5" y="702"/>
                      </a:lnTo>
                      <a:lnTo>
                        <a:pt x="0" y="697"/>
                      </a:lnTo>
                      <a:lnTo>
                        <a:pt x="5" y="685"/>
                      </a:lnTo>
                      <a:lnTo>
                        <a:pt x="10" y="673"/>
                      </a:lnTo>
                      <a:lnTo>
                        <a:pt x="10" y="660"/>
                      </a:lnTo>
                      <a:lnTo>
                        <a:pt x="3" y="649"/>
                      </a:lnTo>
                      <a:lnTo>
                        <a:pt x="6" y="628"/>
                      </a:lnTo>
                      <a:lnTo>
                        <a:pt x="11" y="608"/>
                      </a:lnTo>
                      <a:lnTo>
                        <a:pt x="15" y="587"/>
                      </a:lnTo>
                      <a:lnTo>
                        <a:pt x="21" y="568"/>
                      </a:lnTo>
                      <a:lnTo>
                        <a:pt x="25" y="547"/>
                      </a:lnTo>
                      <a:lnTo>
                        <a:pt x="31" y="529"/>
                      </a:lnTo>
                      <a:lnTo>
                        <a:pt x="38" y="511"/>
                      </a:lnTo>
                      <a:lnTo>
                        <a:pt x="47" y="495"/>
                      </a:lnTo>
                      <a:lnTo>
                        <a:pt x="54" y="485"/>
                      </a:lnTo>
                      <a:lnTo>
                        <a:pt x="58" y="474"/>
                      </a:lnTo>
                      <a:lnTo>
                        <a:pt x="60" y="462"/>
                      </a:lnTo>
                      <a:lnTo>
                        <a:pt x="63" y="451"/>
                      </a:lnTo>
                      <a:lnTo>
                        <a:pt x="66" y="440"/>
                      </a:lnTo>
                      <a:lnTo>
                        <a:pt x="70" y="430"/>
                      </a:lnTo>
                      <a:lnTo>
                        <a:pt x="71" y="424"/>
                      </a:lnTo>
                      <a:lnTo>
                        <a:pt x="75" y="420"/>
                      </a:lnTo>
                      <a:lnTo>
                        <a:pt x="79" y="416"/>
                      </a:lnTo>
                      <a:lnTo>
                        <a:pt x="87" y="416"/>
                      </a:lnTo>
                      <a:lnTo>
                        <a:pt x="91" y="404"/>
                      </a:lnTo>
                      <a:lnTo>
                        <a:pt x="95" y="393"/>
                      </a:lnTo>
                      <a:lnTo>
                        <a:pt x="98" y="381"/>
                      </a:lnTo>
                      <a:lnTo>
                        <a:pt x="104" y="371"/>
                      </a:lnTo>
                      <a:lnTo>
                        <a:pt x="109" y="360"/>
                      </a:lnTo>
                      <a:lnTo>
                        <a:pt x="118" y="351"/>
                      </a:lnTo>
                      <a:lnTo>
                        <a:pt x="127" y="344"/>
                      </a:lnTo>
                      <a:lnTo>
                        <a:pt x="139" y="340"/>
                      </a:lnTo>
                      <a:lnTo>
                        <a:pt x="139" y="349"/>
                      </a:lnTo>
                      <a:lnTo>
                        <a:pt x="138" y="357"/>
                      </a:lnTo>
                      <a:lnTo>
                        <a:pt x="134" y="366"/>
                      </a:lnTo>
                      <a:lnTo>
                        <a:pt x="131" y="375"/>
                      </a:lnTo>
                      <a:lnTo>
                        <a:pt x="127" y="382"/>
                      </a:lnTo>
                      <a:lnTo>
                        <a:pt x="124" y="390"/>
                      </a:lnTo>
                      <a:lnTo>
                        <a:pt x="123" y="399"/>
                      </a:lnTo>
                      <a:lnTo>
                        <a:pt x="127" y="410"/>
                      </a:lnTo>
                      <a:lnTo>
                        <a:pt x="135" y="395"/>
                      </a:lnTo>
                      <a:lnTo>
                        <a:pt x="144" y="381"/>
                      </a:lnTo>
                      <a:lnTo>
                        <a:pt x="151" y="366"/>
                      </a:lnTo>
                      <a:lnTo>
                        <a:pt x="158" y="351"/>
                      </a:lnTo>
                      <a:lnTo>
                        <a:pt x="165" y="337"/>
                      </a:lnTo>
                      <a:lnTo>
                        <a:pt x="172" y="322"/>
                      </a:lnTo>
                      <a:lnTo>
                        <a:pt x="179" y="307"/>
                      </a:lnTo>
                      <a:lnTo>
                        <a:pt x="189" y="295"/>
                      </a:lnTo>
                      <a:lnTo>
                        <a:pt x="193" y="292"/>
                      </a:lnTo>
                      <a:lnTo>
                        <a:pt x="200" y="295"/>
                      </a:lnTo>
                      <a:lnTo>
                        <a:pt x="200" y="301"/>
                      </a:lnTo>
                      <a:lnTo>
                        <a:pt x="198" y="310"/>
                      </a:lnTo>
                      <a:lnTo>
                        <a:pt x="196" y="317"/>
                      </a:lnTo>
                      <a:lnTo>
                        <a:pt x="200" y="324"/>
                      </a:lnTo>
                      <a:lnTo>
                        <a:pt x="234" y="263"/>
                      </a:lnTo>
                      <a:lnTo>
                        <a:pt x="242" y="262"/>
                      </a:lnTo>
                      <a:lnTo>
                        <a:pt x="250" y="256"/>
                      </a:lnTo>
                      <a:lnTo>
                        <a:pt x="256" y="247"/>
                      </a:lnTo>
                      <a:lnTo>
                        <a:pt x="263" y="238"/>
                      </a:lnTo>
                      <a:lnTo>
                        <a:pt x="267" y="230"/>
                      </a:lnTo>
                      <a:lnTo>
                        <a:pt x="275" y="226"/>
                      </a:lnTo>
                      <a:lnTo>
                        <a:pt x="282" y="227"/>
                      </a:lnTo>
                      <a:lnTo>
                        <a:pt x="292" y="240"/>
                      </a:lnTo>
                      <a:lnTo>
                        <a:pt x="296" y="230"/>
                      </a:lnTo>
                      <a:lnTo>
                        <a:pt x="299" y="221"/>
                      </a:lnTo>
                      <a:lnTo>
                        <a:pt x="302" y="213"/>
                      </a:lnTo>
                      <a:lnTo>
                        <a:pt x="305" y="204"/>
                      </a:lnTo>
                      <a:lnTo>
                        <a:pt x="308" y="195"/>
                      </a:lnTo>
                      <a:lnTo>
                        <a:pt x="312" y="187"/>
                      </a:lnTo>
                      <a:lnTo>
                        <a:pt x="317" y="180"/>
                      </a:lnTo>
                      <a:lnTo>
                        <a:pt x="324" y="175"/>
                      </a:lnTo>
                      <a:lnTo>
                        <a:pt x="336" y="177"/>
                      </a:lnTo>
                      <a:lnTo>
                        <a:pt x="331" y="224"/>
                      </a:lnTo>
                      <a:lnTo>
                        <a:pt x="336" y="216"/>
                      </a:lnTo>
                      <a:lnTo>
                        <a:pt x="342" y="209"/>
                      </a:lnTo>
                      <a:lnTo>
                        <a:pt x="347" y="200"/>
                      </a:lnTo>
                      <a:lnTo>
                        <a:pt x="352" y="192"/>
                      </a:lnTo>
                      <a:lnTo>
                        <a:pt x="356" y="182"/>
                      </a:lnTo>
                      <a:lnTo>
                        <a:pt x="359" y="172"/>
                      </a:lnTo>
                      <a:lnTo>
                        <a:pt x="363" y="162"/>
                      </a:lnTo>
                      <a:lnTo>
                        <a:pt x="368" y="154"/>
                      </a:lnTo>
                      <a:lnTo>
                        <a:pt x="370" y="142"/>
                      </a:lnTo>
                      <a:lnTo>
                        <a:pt x="381" y="135"/>
                      </a:lnTo>
                      <a:lnTo>
                        <a:pt x="388" y="142"/>
                      </a:lnTo>
                      <a:lnTo>
                        <a:pt x="390" y="149"/>
                      </a:lnTo>
                      <a:lnTo>
                        <a:pt x="390" y="157"/>
                      </a:lnTo>
                      <a:lnTo>
                        <a:pt x="391" y="166"/>
                      </a:lnTo>
                      <a:lnTo>
                        <a:pt x="396" y="154"/>
                      </a:lnTo>
                      <a:lnTo>
                        <a:pt x="401" y="143"/>
                      </a:lnTo>
                      <a:lnTo>
                        <a:pt x="406" y="132"/>
                      </a:lnTo>
                      <a:lnTo>
                        <a:pt x="411" y="121"/>
                      </a:lnTo>
                      <a:lnTo>
                        <a:pt x="415" y="110"/>
                      </a:lnTo>
                      <a:lnTo>
                        <a:pt x="421" y="100"/>
                      </a:lnTo>
                      <a:lnTo>
                        <a:pt x="428" y="91"/>
                      </a:lnTo>
                      <a:lnTo>
                        <a:pt x="439" y="88"/>
                      </a:lnTo>
                      <a:lnTo>
                        <a:pt x="446" y="97"/>
                      </a:lnTo>
                      <a:lnTo>
                        <a:pt x="440" y="111"/>
                      </a:lnTo>
                      <a:lnTo>
                        <a:pt x="437" y="127"/>
                      </a:lnTo>
                      <a:lnTo>
                        <a:pt x="434" y="142"/>
                      </a:lnTo>
                      <a:lnTo>
                        <a:pt x="432" y="159"/>
                      </a:lnTo>
                      <a:lnTo>
                        <a:pt x="428" y="175"/>
                      </a:lnTo>
                      <a:lnTo>
                        <a:pt x="424" y="191"/>
                      </a:lnTo>
                      <a:lnTo>
                        <a:pt x="419" y="204"/>
                      </a:lnTo>
                      <a:lnTo>
                        <a:pt x="415" y="219"/>
                      </a:lnTo>
                      <a:lnTo>
                        <a:pt x="416" y="222"/>
                      </a:lnTo>
                      <a:lnTo>
                        <a:pt x="421" y="225"/>
                      </a:lnTo>
                      <a:lnTo>
                        <a:pt x="426" y="226"/>
                      </a:lnTo>
                      <a:lnTo>
                        <a:pt x="431" y="227"/>
                      </a:lnTo>
                      <a:lnTo>
                        <a:pt x="438" y="211"/>
                      </a:lnTo>
                      <a:lnTo>
                        <a:pt x="446" y="195"/>
                      </a:lnTo>
                      <a:lnTo>
                        <a:pt x="454" y="178"/>
                      </a:lnTo>
                      <a:lnTo>
                        <a:pt x="462" y="162"/>
                      </a:lnTo>
                      <a:lnTo>
                        <a:pt x="469" y="144"/>
                      </a:lnTo>
                      <a:lnTo>
                        <a:pt x="475" y="127"/>
                      </a:lnTo>
                      <a:lnTo>
                        <a:pt x="477" y="108"/>
                      </a:lnTo>
                      <a:lnTo>
                        <a:pt x="481" y="90"/>
                      </a:lnTo>
                      <a:lnTo>
                        <a:pt x="484" y="86"/>
                      </a:lnTo>
                      <a:lnTo>
                        <a:pt x="491" y="85"/>
                      </a:lnTo>
                      <a:lnTo>
                        <a:pt x="495" y="85"/>
                      </a:lnTo>
                      <a:lnTo>
                        <a:pt x="502" y="90"/>
                      </a:lnTo>
                      <a:lnTo>
                        <a:pt x="503" y="96"/>
                      </a:lnTo>
                      <a:lnTo>
                        <a:pt x="504" y="103"/>
                      </a:lnTo>
                      <a:lnTo>
                        <a:pt x="504" y="111"/>
                      </a:lnTo>
                      <a:lnTo>
                        <a:pt x="504" y="119"/>
                      </a:lnTo>
                      <a:lnTo>
                        <a:pt x="503" y="127"/>
                      </a:lnTo>
                      <a:lnTo>
                        <a:pt x="503" y="134"/>
                      </a:lnTo>
                      <a:lnTo>
                        <a:pt x="503" y="142"/>
                      </a:lnTo>
                      <a:lnTo>
                        <a:pt x="507" y="150"/>
                      </a:lnTo>
                      <a:lnTo>
                        <a:pt x="510" y="143"/>
                      </a:lnTo>
                      <a:lnTo>
                        <a:pt x="515" y="135"/>
                      </a:lnTo>
                      <a:lnTo>
                        <a:pt x="520" y="128"/>
                      </a:lnTo>
                      <a:lnTo>
                        <a:pt x="525" y="121"/>
                      </a:lnTo>
                      <a:lnTo>
                        <a:pt x="530" y="113"/>
                      </a:lnTo>
                      <a:lnTo>
                        <a:pt x="537" y="106"/>
                      </a:lnTo>
                      <a:lnTo>
                        <a:pt x="545" y="99"/>
                      </a:lnTo>
                      <a:lnTo>
                        <a:pt x="554" y="95"/>
                      </a:lnTo>
                      <a:lnTo>
                        <a:pt x="560" y="95"/>
                      </a:lnTo>
                      <a:lnTo>
                        <a:pt x="567" y="94"/>
                      </a:lnTo>
                      <a:lnTo>
                        <a:pt x="570" y="90"/>
                      </a:lnTo>
                      <a:lnTo>
                        <a:pt x="575" y="86"/>
                      </a:lnTo>
                      <a:lnTo>
                        <a:pt x="581" y="74"/>
                      </a:lnTo>
                      <a:lnTo>
                        <a:pt x="591" y="67"/>
                      </a:lnTo>
                      <a:lnTo>
                        <a:pt x="595" y="57"/>
                      </a:lnTo>
                      <a:lnTo>
                        <a:pt x="601" y="50"/>
                      </a:lnTo>
                      <a:lnTo>
                        <a:pt x="608" y="41"/>
                      </a:lnTo>
                      <a:lnTo>
                        <a:pt x="618" y="37"/>
                      </a:lnTo>
                      <a:lnTo>
                        <a:pt x="625" y="40"/>
                      </a:lnTo>
                      <a:lnTo>
                        <a:pt x="627" y="48"/>
                      </a:lnTo>
                      <a:lnTo>
                        <a:pt x="627" y="52"/>
                      </a:lnTo>
                      <a:lnTo>
                        <a:pt x="629" y="57"/>
                      </a:lnTo>
                      <a:lnTo>
                        <a:pt x="632" y="59"/>
                      </a:lnTo>
                      <a:lnTo>
                        <a:pt x="639" y="62"/>
                      </a:lnTo>
                      <a:lnTo>
                        <a:pt x="644" y="72"/>
                      </a:lnTo>
                      <a:lnTo>
                        <a:pt x="655" y="59"/>
                      </a:lnTo>
                      <a:lnTo>
                        <a:pt x="667" y="48"/>
                      </a:lnTo>
                      <a:lnTo>
                        <a:pt x="672" y="42"/>
                      </a:lnTo>
                      <a:lnTo>
                        <a:pt x="678" y="37"/>
                      </a:lnTo>
                      <a:lnTo>
                        <a:pt x="684" y="31"/>
                      </a:lnTo>
                      <a:lnTo>
                        <a:pt x="692" y="27"/>
                      </a:lnTo>
                      <a:lnTo>
                        <a:pt x="700" y="29"/>
                      </a:lnTo>
                      <a:lnTo>
                        <a:pt x="706" y="35"/>
                      </a:lnTo>
                      <a:lnTo>
                        <a:pt x="695" y="50"/>
                      </a:lnTo>
                      <a:lnTo>
                        <a:pt x="685" y="65"/>
                      </a:lnTo>
                      <a:lnTo>
                        <a:pt x="674" y="80"/>
                      </a:lnTo>
                      <a:lnTo>
                        <a:pt x="665" y="96"/>
                      </a:lnTo>
                      <a:lnTo>
                        <a:pt x="654" y="111"/>
                      </a:lnTo>
                      <a:lnTo>
                        <a:pt x="644" y="126"/>
                      </a:lnTo>
                      <a:lnTo>
                        <a:pt x="633" y="140"/>
                      </a:lnTo>
                      <a:lnTo>
                        <a:pt x="623" y="156"/>
                      </a:lnTo>
                      <a:lnTo>
                        <a:pt x="617" y="166"/>
                      </a:lnTo>
                      <a:lnTo>
                        <a:pt x="612" y="177"/>
                      </a:lnTo>
                      <a:lnTo>
                        <a:pt x="607" y="187"/>
                      </a:lnTo>
                      <a:lnTo>
                        <a:pt x="607" y="198"/>
                      </a:lnTo>
                      <a:lnTo>
                        <a:pt x="624" y="170"/>
                      </a:lnTo>
                      <a:lnTo>
                        <a:pt x="646" y="145"/>
                      </a:lnTo>
                      <a:lnTo>
                        <a:pt x="668" y="119"/>
                      </a:lnTo>
                      <a:lnTo>
                        <a:pt x="693" y="96"/>
                      </a:lnTo>
                      <a:lnTo>
                        <a:pt x="716" y="72"/>
                      </a:lnTo>
                      <a:lnTo>
                        <a:pt x="742" y="48"/>
                      </a:lnTo>
                      <a:lnTo>
                        <a:pt x="766" y="24"/>
                      </a:lnTo>
                      <a:lnTo>
                        <a:pt x="791" y="0"/>
                      </a:lnTo>
                      <a:lnTo>
                        <a:pt x="801" y="3"/>
                      </a:lnTo>
                      <a:lnTo>
                        <a:pt x="804" y="12"/>
                      </a:lnTo>
                      <a:close/>
                    </a:path>
                  </a:pathLst>
                </a:custGeom>
                <a:solidFill>
                  <a:srgbClr val="ffb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05" name="Freeform 25"/>
                <p:cNvSpPr/>
                <p:nvPr/>
              </p:nvSpPr>
              <p:spPr>
                <a:xfrm flipH="1">
                  <a:off x="6954480" y="3129840"/>
                  <a:ext cx="4320" cy="5400"/>
                </a:xfrm>
                <a:custGeom>
                  <a:avLst/>
                  <a:gdLst>
                    <a:gd name="textAreaLeft" fmla="*/ 360 w 4320"/>
                    <a:gd name="textAreaRight" fmla="*/ 5040 w 4320"/>
                    <a:gd name="textAreaTop" fmla="*/ 0 h 5400"/>
                    <a:gd name="textAreaBottom" fmla="*/ 5760 h 5400"/>
                  </a:gdLst>
                  <a:ahLst/>
                  <a:rect l="textAreaLeft" t="textAreaTop" r="textAreaRight" b="textAreaBottom"/>
                  <a:pathLst>
                    <a:path w="18" h="19">
                      <a:moveTo>
                        <a:pt x="0" y="19"/>
                      </a:moveTo>
                      <a:lnTo>
                        <a:pt x="1" y="11"/>
                      </a:lnTo>
                      <a:lnTo>
                        <a:pt x="7" y="8"/>
                      </a:lnTo>
                      <a:lnTo>
                        <a:pt x="12" y="4"/>
                      </a:lnTo>
                      <a:lnTo>
                        <a:pt x="18" y="0"/>
                      </a:lnTo>
                      <a:lnTo>
                        <a:pt x="12" y="4"/>
                      </a:lnTo>
                      <a:lnTo>
                        <a:pt x="10" y="10"/>
                      </a:lnTo>
                      <a:lnTo>
                        <a:pt x="6" y="15"/>
                      </a:lnTo>
                      <a:lnTo>
                        <a:pt x="0" y="19"/>
                      </a:lnTo>
                      <a:close/>
                    </a:path>
                  </a:pathLst>
                </a:custGeom>
                <a:solidFill>
                  <a:srgbClr val="ff8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Humanst521 BT"/>
                  </a:endParaRPr>
                </a:p>
              </p:txBody>
            </p:sp>
            <p:sp>
              <p:nvSpPr>
                <p:cNvPr id="206" name="Freeform 26"/>
                <p:cNvSpPr/>
                <p:nvPr/>
              </p:nvSpPr>
              <p:spPr>
                <a:xfrm flipH="1">
                  <a:off x="7382160" y="3050640"/>
                  <a:ext cx="13320" cy="12240"/>
                </a:xfrm>
                <a:custGeom>
                  <a:avLst/>
                  <a:gdLst>
                    <a:gd name="textAreaLeft" fmla="*/ -360 w 13320"/>
                    <a:gd name="textAreaRight" fmla="*/ 13320 w 13320"/>
                    <a:gd name="textAreaTop" fmla="*/ 0 h 12240"/>
                    <a:gd name="textAreaBottom" fmla="*/ 12600 h 12240"/>
                  </a:gdLst>
                  <a:ahLst/>
                  <a:rect l="textAreaLeft" t="textAreaTop" r="textAreaRight" b="textAreaBottom"/>
                  <a:pathLst>
                    <a:path w="47" h="42">
                      <a:moveTo>
                        <a:pt x="47" y="13"/>
                      </a:moveTo>
                      <a:lnTo>
                        <a:pt x="46" y="19"/>
                      </a:lnTo>
                      <a:lnTo>
                        <a:pt x="45" y="28"/>
                      </a:lnTo>
                      <a:lnTo>
                        <a:pt x="44" y="35"/>
                      </a:lnTo>
                      <a:lnTo>
                        <a:pt x="41" y="42"/>
                      </a:lnTo>
                      <a:lnTo>
                        <a:pt x="33" y="41"/>
                      </a:lnTo>
                      <a:lnTo>
                        <a:pt x="24" y="40"/>
                      </a:lnTo>
                      <a:lnTo>
                        <a:pt x="20" y="34"/>
                      </a:lnTo>
                      <a:lnTo>
                        <a:pt x="17" y="31"/>
                      </a:lnTo>
                      <a:lnTo>
                        <a:pt x="12" y="29"/>
                      </a:lnTo>
                      <a:lnTo>
                        <a:pt x="6" y="31"/>
                      </a:lnTo>
                      <a:lnTo>
                        <a:pt x="2" y="28"/>
                      </a:lnTo>
                      <a:lnTo>
                        <a:pt x="0" y="24"/>
                      </a:lnTo>
                      <a:lnTo>
                        <a:pt x="3" y="15"/>
                      </a:lnTo>
                      <a:lnTo>
                        <a:pt x="8" y="8"/>
                      </a:lnTo>
                      <a:lnTo>
                        <a:pt x="14" y="2"/>
                      </a:lnTo>
                      <a:lnTo>
                        <a:pt x="24" y="0"/>
                      </a:lnTo>
                      <a:lnTo>
                        <a:pt x="30" y="1"/>
                      </a:lnTo>
                      <a:lnTo>
                        <a:pt x="38" y="3"/>
                      </a:lnTo>
                      <a:lnTo>
                        <a:pt x="42" y="6"/>
                      </a:lnTo>
                      <a:lnTo>
                        <a:pt x="47" y="13"/>
                      </a:lnTo>
                      <a:close/>
                    </a:path>
                  </a:pathLst>
                </a:custGeom>
                <a:solidFill>
                  <a:srgbClr val="ffff0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Humanst521 BT"/>
                  </a:endParaRPr>
                </a:p>
              </p:txBody>
            </p:sp>
            <p:sp>
              <p:nvSpPr>
                <p:cNvPr id="207" name="Freeform 27"/>
                <p:cNvSpPr/>
                <p:nvPr/>
              </p:nvSpPr>
              <p:spPr>
                <a:xfrm flipH="1">
                  <a:off x="7400160" y="3048120"/>
                  <a:ext cx="15480" cy="16920"/>
                </a:xfrm>
                <a:custGeom>
                  <a:avLst/>
                  <a:gdLst>
                    <a:gd name="textAreaLeft" fmla="*/ -360 w 15480"/>
                    <a:gd name="textAreaRight" fmla="*/ 15480 w 15480"/>
                    <a:gd name="textAreaTop" fmla="*/ 0 h 16920"/>
                    <a:gd name="textAreaBottom" fmla="*/ 17280 h 16920"/>
                  </a:gdLst>
                  <a:ahLst/>
                  <a:rect l="textAreaLeft" t="textAreaTop" r="textAreaRight" b="textAreaBottom"/>
                  <a:pathLst>
                    <a:path w="57" h="61">
                      <a:moveTo>
                        <a:pt x="57" y="31"/>
                      </a:moveTo>
                      <a:lnTo>
                        <a:pt x="53" y="42"/>
                      </a:lnTo>
                      <a:lnTo>
                        <a:pt x="47" y="49"/>
                      </a:lnTo>
                      <a:lnTo>
                        <a:pt x="37" y="55"/>
                      </a:lnTo>
                      <a:lnTo>
                        <a:pt x="28" y="61"/>
                      </a:lnTo>
                      <a:lnTo>
                        <a:pt x="19" y="56"/>
                      </a:lnTo>
                      <a:lnTo>
                        <a:pt x="13" y="51"/>
                      </a:lnTo>
                      <a:lnTo>
                        <a:pt x="6" y="43"/>
                      </a:lnTo>
                      <a:lnTo>
                        <a:pt x="4" y="36"/>
                      </a:lnTo>
                      <a:lnTo>
                        <a:pt x="0" y="27"/>
                      </a:lnTo>
                      <a:lnTo>
                        <a:pt x="3" y="20"/>
                      </a:lnTo>
                      <a:lnTo>
                        <a:pt x="8" y="12"/>
                      </a:lnTo>
                      <a:lnTo>
                        <a:pt x="13" y="6"/>
                      </a:lnTo>
                      <a:lnTo>
                        <a:pt x="19" y="1"/>
                      </a:lnTo>
                      <a:lnTo>
                        <a:pt x="27" y="0"/>
                      </a:lnTo>
                      <a:lnTo>
                        <a:pt x="35" y="1"/>
                      </a:lnTo>
                      <a:lnTo>
                        <a:pt x="42" y="5"/>
                      </a:lnTo>
                      <a:lnTo>
                        <a:pt x="48" y="9"/>
                      </a:lnTo>
                      <a:lnTo>
                        <a:pt x="53" y="15"/>
                      </a:lnTo>
                      <a:lnTo>
                        <a:pt x="55" y="22"/>
                      </a:lnTo>
                      <a:lnTo>
                        <a:pt x="57" y="31"/>
                      </a:lnTo>
                      <a:close/>
                    </a:path>
                  </a:pathLst>
                </a:custGeom>
                <a:solidFill>
                  <a:srgbClr val="ffff0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Humanst521 BT"/>
                  </a:endParaRPr>
                </a:p>
              </p:txBody>
            </p:sp>
            <p:sp>
              <p:nvSpPr>
                <p:cNvPr id="208" name="Freeform 28"/>
                <p:cNvSpPr/>
                <p:nvPr/>
              </p:nvSpPr>
              <p:spPr>
                <a:xfrm flipH="1">
                  <a:off x="7387920" y="3072240"/>
                  <a:ext cx="14400" cy="14400"/>
                </a:xfrm>
                <a:custGeom>
                  <a:avLst/>
                  <a:gdLst>
                    <a:gd name="textAreaLeft" fmla="*/ 360 w 14400"/>
                    <a:gd name="textAreaRight" fmla="*/ 15120 w 14400"/>
                    <a:gd name="textAreaTop" fmla="*/ 0 h 14400"/>
                    <a:gd name="textAreaBottom" fmla="*/ 14760 h 14400"/>
                  </a:gdLst>
                  <a:ahLst/>
                  <a:rect l="textAreaLeft" t="textAreaTop" r="textAreaRight" b="textAreaBottom"/>
                  <a:pathLst>
                    <a:path w="51" h="55">
                      <a:moveTo>
                        <a:pt x="51" y="21"/>
                      </a:moveTo>
                      <a:lnTo>
                        <a:pt x="48" y="30"/>
                      </a:lnTo>
                      <a:lnTo>
                        <a:pt x="46" y="39"/>
                      </a:lnTo>
                      <a:lnTo>
                        <a:pt x="40" y="48"/>
                      </a:lnTo>
                      <a:lnTo>
                        <a:pt x="30" y="55"/>
                      </a:lnTo>
                      <a:lnTo>
                        <a:pt x="21" y="54"/>
                      </a:lnTo>
                      <a:lnTo>
                        <a:pt x="16" y="53"/>
                      </a:lnTo>
                      <a:lnTo>
                        <a:pt x="13" y="48"/>
                      </a:lnTo>
                      <a:lnTo>
                        <a:pt x="10" y="44"/>
                      </a:lnTo>
                      <a:lnTo>
                        <a:pt x="5" y="34"/>
                      </a:lnTo>
                      <a:lnTo>
                        <a:pt x="0" y="27"/>
                      </a:lnTo>
                      <a:lnTo>
                        <a:pt x="0" y="16"/>
                      </a:lnTo>
                      <a:lnTo>
                        <a:pt x="5" y="10"/>
                      </a:lnTo>
                      <a:lnTo>
                        <a:pt x="13" y="3"/>
                      </a:lnTo>
                      <a:lnTo>
                        <a:pt x="21" y="0"/>
                      </a:lnTo>
                      <a:lnTo>
                        <a:pt x="31" y="1"/>
                      </a:lnTo>
                      <a:lnTo>
                        <a:pt x="40" y="6"/>
                      </a:lnTo>
                      <a:lnTo>
                        <a:pt x="46" y="12"/>
                      </a:lnTo>
                      <a:lnTo>
                        <a:pt x="51" y="21"/>
                      </a:lnTo>
                      <a:close/>
                    </a:path>
                  </a:pathLst>
                </a:custGeom>
                <a:solidFill>
                  <a:srgbClr val="ffff0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Humanst521 BT"/>
                  </a:endParaRPr>
                </a:p>
              </p:txBody>
            </p:sp>
            <p:sp>
              <p:nvSpPr>
                <p:cNvPr id="209" name="Freeform 29"/>
                <p:cNvSpPr/>
                <p:nvPr/>
              </p:nvSpPr>
              <p:spPr>
                <a:xfrm flipH="1">
                  <a:off x="7021440" y="3145320"/>
                  <a:ext cx="75240" cy="106200"/>
                </a:xfrm>
                <a:custGeom>
                  <a:avLst/>
                  <a:gdLst>
                    <a:gd name="textAreaLeft" fmla="*/ -360 w 75240"/>
                    <a:gd name="textAreaRight" fmla="*/ 75240 w 75240"/>
                    <a:gd name="textAreaTop" fmla="*/ 0 h 106200"/>
                    <a:gd name="textAreaBottom" fmla="*/ 106560 h 106200"/>
                  </a:gdLst>
                  <a:ahLst/>
                  <a:rect l="textAreaLeft" t="textAreaTop" r="textAreaRight" b="textAreaBottom"/>
                  <a:pathLst>
                    <a:path w="269" h="377">
                      <a:moveTo>
                        <a:pt x="269" y="61"/>
                      </a:moveTo>
                      <a:lnTo>
                        <a:pt x="263" y="71"/>
                      </a:lnTo>
                      <a:lnTo>
                        <a:pt x="258" y="81"/>
                      </a:lnTo>
                      <a:lnTo>
                        <a:pt x="251" y="90"/>
                      </a:lnTo>
                      <a:lnTo>
                        <a:pt x="244" y="99"/>
                      </a:lnTo>
                      <a:lnTo>
                        <a:pt x="235" y="106"/>
                      </a:lnTo>
                      <a:lnTo>
                        <a:pt x="226" y="113"/>
                      </a:lnTo>
                      <a:lnTo>
                        <a:pt x="215" y="118"/>
                      </a:lnTo>
                      <a:lnTo>
                        <a:pt x="205" y="122"/>
                      </a:lnTo>
                      <a:lnTo>
                        <a:pt x="195" y="129"/>
                      </a:lnTo>
                      <a:lnTo>
                        <a:pt x="203" y="134"/>
                      </a:lnTo>
                      <a:lnTo>
                        <a:pt x="210" y="141"/>
                      </a:lnTo>
                      <a:lnTo>
                        <a:pt x="215" y="149"/>
                      </a:lnTo>
                      <a:lnTo>
                        <a:pt x="220" y="158"/>
                      </a:lnTo>
                      <a:lnTo>
                        <a:pt x="222" y="166"/>
                      </a:lnTo>
                      <a:lnTo>
                        <a:pt x="224" y="176"/>
                      </a:lnTo>
                      <a:lnTo>
                        <a:pt x="224" y="185"/>
                      </a:lnTo>
                      <a:lnTo>
                        <a:pt x="224" y="195"/>
                      </a:lnTo>
                      <a:lnTo>
                        <a:pt x="219" y="201"/>
                      </a:lnTo>
                      <a:lnTo>
                        <a:pt x="215" y="209"/>
                      </a:lnTo>
                      <a:lnTo>
                        <a:pt x="211" y="215"/>
                      </a:lnTo>
                      <a:lnTo>
                        <a:pt x="208" y="222"/>
                      </a:lnTo>
                      <a:lnTo>
                        <a:pt x="204" y="227"/>
                      </a:lnTo>
                      <a:lnTo>
                        <a:pt x="204" y="234"/>
                      </a:lnTo>
                      <a:lnTo>
                        <a:pt x="205" y="241"/>
                      </a:lnTo>
                      <a:lnTo>
                        <a:pt x="211" y="248"/>
                      </a:lnTo>
                      <a:lnTo>
                        <a:pt x="209" y="258"/>
                      </a:lnTo>
                      <a:lnTo>
                        <a:pt x="205" y="268"/>
                      </a:lnTo>
                      <a:lnTo>
                        <a:pt x="200" y="276"/>
                      </a:lnTo>
                      <a:lnTo>
                        <a:pt x="194" y="285"/>
                      </a:lnTo>
                      <a:lnTo>
                        <a:pt x="186" y="291"/>
                      </a:lnTo>
                      <a:lnTo>
                        <a:pt x="178" y="297"/>
                      </a:lnTo>
                      <a:lnTo>
                        <a:pt x="168" y="301"/>
                      </a:lnTo>
                      <a:lnTo>
                        <a:pt x="159" y="306"/>
                      </a:lnTo>
                      <a:lnTo>
                        <a:pt x="148" y="308"/>
                      </a:lnTo>
                      <a:lnTo>
                        <a:pt x="138" y="310"/>
                      </a:lnTo>
                      <a:lnTo>
                        <a:pt x="128" y="310"/>
                      </a:lnTo>
                      <a:lnTo>
                        <a:pt x="118" y="310"/>
                      </a:lnTo>
                      <a:lnTo>
                        <a:pt x="111" y="314"/>
                      </a:lnTo>
                      <a:lnTo>
                        <a:pt x="117" y="324"/>
                      </a:lnTo>
                      <a:lnTo>
                        <a:pt x="123" y="335"/>
                      </a:lnTo>
                      <a:lnTo>
                        <a:pt x="126" y="346"/>
                      </a:lnTo>
                      <a:lnTo>
                        <a:pt x="122" y="358"/>
                      </a:lnTo>
                      <a:lnTo>
                        <a:pt x="108" y="367"/>
                      </a:lnTo>
                      <a:lnTo>
                        <a:pt x="95" y="373"/>
                      </a:lnTo>
                      <a:lnTo>
                        <a:pt x="80" y="375"/>
                      </a:lnTo>
                      <a:lnTo>
                        <a:pt x="67" y="377"/>
                      </a:lnTo>
                      <a:lnTo>
                        <a:pt x="52" y="373"/>
                      </a:lnTo>
                      <a:lnTo>
                        <a:pt x="37" y="371"/>
                      </a:lnTo>
                      <a:lnTo>
                        <a:pt x="23" y="367"/>
                      </a:lnTo>
                      <a:lnTo>
                        <a:pt x="9" y="363"/>
                      </a:lnTo>
                      <a:lnTo>
                        <a:pt x="2" y="353"/>
                      </a:lnTo>
                      <a:lnTo>
                        <a:pt x="0" y="342"/>
                      </a:lnTo>
                      <a:lnTo>
                        <a:pt x="3" y="334"/>
                      </a:lnTo>
                      <a:lnTo>
                        <a:pt x="8" y="328"/>
                      </a:lnTo>
                      <a:lnTo>
                        <a:pt x="13" y="323"/>
                      </a:lnTo>
                      <a:lnTo>
                        <a:pt x="21" y="321"/>
                      </a:lnTo>
                      <a:lnTo>
                        <a:pt x="32" y="321"/>
                      </a:lnTo>
                      <a:lnTo>
                        <a:pt x="43" y="315"/>
                      </a:lnTo>
                      <a:lnTo>
                        <a:pt x="52" y="307"/>
                      </a:lnTo>
                      <a:lnTo>
                        <a:pt x="63" y="303"/>
                      </a:lnTo>
                      <a:lnTo>
                        <a:pt x="56" y="292"/>
                      </a:lnTo>
                      <a:lnTo>
                        <a:pt x="50" y="283"/>
                      </a:lnTo>
                      <a:lnTo>
                        <a:pt x="47" y="272"/>
                      </a:lnTo>
                      <a:lnTo>
                        <a:pt x="48" y="264"/>
                      </a:lnTo>
                      <a:lnTo>
                        <a:pt x="52" y="255"/>
                      </a:lnTo>
                      <a:lnTo>
                        <a:pt x="59" y="248"/>
                      </a:lnTo>
                      <a:lnTo>
                        <a:pt x="67" y="242"/>
                      </a:lnTo>
                      <a:lnTo>
                        <a:pt x="75" y="237"/>
                      </a:lnTo>
                      <a:lnTo>
                        <a:pt x="83" y="231"/>
                      </a:lnTo>
                      <a:lnTo>
                        <a:pt x="91" y="225"/>
                      </a:lnTo>
                      <a:lnTo>
                        <a:pt x="99" y="217"/>
                      </a:lnTo>
                      <a:lnTo>
                        <a:pt x="106" y="211"/>
                      </a:lnTo>
                      <a:lnTo>
                        <a:pt x="102" y="200"/>
                      </a:lnTo>
                      <a:lnTo>
                        <a:pt x="103" y="190"/>
                      </a:lnTo>
                      <a:lnTo>
                        <a:pt x="106" y="179"/>
                      </a:lnTo>
                      <a:lnTo>
                        <a:pt x="111" y="172"/>
                      </a:lnTo>
                      <a:lnTo>
                        <a:pt x="118" y="164"/>
                      </a:lnTo>
                      <a:lnTo>
                        <a:pt x="130" y="161"/>
                      </a:lnTo>
                      <a:lnTo>
                        <a:pt x="134" y="157"/>
                      </a:lnTo>
                      <a:lnTo>
                        <a:pt x="139" y="153"/>
                      </a:lnTo>
                      <a:lnTo>
                        <a:pt x="141" y="149"/>
                      </a:lnTo>
                      <a:lnTo>
                        <a:pt x="143" y="142"/>
                      </a:lnTo>
                      <a:lnTo>
                        <a:pt x="148" y="138"/>
                      </a:lnTo>
                      <a:lnTo>
                        <a:pt x="152" y="134"/>
                      </a:lnTo>
                      <a:lnTo>
                        <a:pt x="159" y="131"/>
                      </a:lnTo>
                      <a:lnTo>
                        <a:pt x="166" y="130"/>
                      </a:lnTo>
                      <a:lnTo>
                        <a:pt x="161" y="123"/>
                      </a:lnTo>
                      <a:lnTo>
                        <a:pt x="156" y="119"/>
                      </a:lnTo>
                      <a:lnTo>
                        <a:pt x="150" y="114"/>
                      </a:lnTo>
                      <a:lnTo>
                        <a:pt x="145" y="109"/>
                      </a:lnTo>
                      <a:lnTo>
                        <a:pt x="139" y="103"/>
                      </a:lnTo>
                      <a:lnTo>
                        <a:pt x="137" y="98"/>
                      </a:lnTo>
                      <a:lnTo>
                        <a:pt x="135" y="91"/>
                      </a:lnTo>
                      <a:lnTo>
                        <a:pt x="138" y="85"/>
                      </a:lnTo>
                      <a:lnTo>
                        <a:pt x="151" y="76"/>
                      </a:lnTo>
                      <a:lnTo>
                        <a:pt x="162" y="66"/>
                      </a:lnTo>
                      <a:lnTo>
                        <a:pt x="170" y="54"/>
                      </a:lnTo>
                      <a:lnTo>
                        <a:pt x="177" y="42"/>
                      </a:lnTo>
                      <a:lnTo>
                        <a:pt x="183" y="30"/>
                      </a:lnTo>
                      <a:lnTo>
                        <a:pt x="192" y="19"/>
                      </a:lnTo>
                      <a:lnTo>
                        <a:pt x="203" y="9"/>
                      </a:lnTo>
                      <a:lnTo>
                        <a:pt x="219" y="4"/>
                      </a:lnTo>
                      <a:lnTo>
                        <a:pt x="231" y="0"/>
                      </a:lnTo>
                      <a:lnTo>
                        <a:pt x="241" y="3"/>
                      </a:lnTo>
                      <a:lnTo>
                        <a:pt x="248" y="7"/>
                      </a:lnTo>
                      <a:lnTo>
                        <a:pt x="254" y="17"/>
                      </a:lnTo>
                      <a:lnTo>
                        <a:pt x="258" y="27"/>
                      </a:lnTo>
                      <a:lnTo>
                        <a:pt x="262" y="39"/>
                      </a:lnTo>
                      <a:lnTo>
                        <a:pt x="265" y="50"/>
                      </a:lnTo>
                      <a:lnTo>
                        <a:pt x="269" y="61"/>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10" name="Freeform 30"/>
                <p:cNvSpPr/>
                <p:nvPr/>
              </p:nvSpPr>
              <p:spPr>
                <a:xfrm flipH="1">
                  <a:off x="7406640" y="3072240"/>
                  <a:ext cx="19080" cy="19080"/>
                </a:xfrm>
                <a:custGeom>
                  <a:avLst/>
                  <a:gdLst>
                    <a:gd name="textAreaLeft" fmla="*/ -360 w 19080"/>
                    <a:gd name="textAreaRight" fmla="*/ 19080 w 19080"/>
                    <a:gd name="textAreaTop" fmla="*/ 0 h 19080"/>
                    <a:gd name="textAreaBottom" fmla="*/ 19440 h 19080"/>
                  </a:gdLst>
                  <a:ahLst/>
                  <a:rect l="textAreaLeft" t="textAreaTop" r="textAreaRight" b="textAreaBottom"/>
                  <a:pathLst>
                    <a:path w="70" h="68">
                      <a:moveTo>
                        <a:pt x="70" y="21"/>
                      </a:moveTo>
                      <a:lnTo>
                        <a:pt x="70" y="25"/>
                      </a:lnTo>
                      <a:lnTo>
                        <a:pt x="70" y="30"/>
                      </a:lnTo>
                      <a:lnTo>
                        <a:pt x="68" y="35"/>
                      </a:lnTo>
                      <a:lnTo>
                        <a:pt x="65" y="40"/>
                      </a:lnTo>
                      <a:lnTo>
                        <a:pt x="57" y="46"/>
                      </a:lnTo>
                      <a:lnTo>
                        <a:pt x="48" y="49"/>
                      </a:lnTo>
                      <a:lnTo>
                        <a:pt x="43" y="51"/>
                      </a:lnTo>
                      <a:lnTo>
                        <a:pt x="40" y="54"/>
                      </a:lnTo>
                      <a:lnTo>
                        <a:pt x="36" y="58"/>
                      </a:lnTo>
                      <a:lnTo>
                        <a:pt x="36" y="65"/>
                      </a:lnTo>
                      <a:lnTo>
                        <a:pt x="27" y="67"/>
                      </a:lnTo>
                      <a:lnTo>
                        <a:pt x="20" y="68"/>
                      </a:lnTo>
                      <a:lnTo>
                        <a:pt x="13" y="67"/>
                      </a:lnTo>
                      <a:lnTo>
                        <a:pt x="5" y="63"/>
                      </a:lnTo>
                      <a:lnTo>
                        <a:pt x="0" y="53"/>
                      </a:lnTo>
                      <a:lnTo>
                        <a:pt x="0" y="43"/>
                      </a:lnTo>
                      <a:lnTo>
                        <a:pt x="2" y="33"/>
                      </a:lnTo>
                      <a:lnTo>
                        <a:pt x="8" y="26"/>
                      </a:lnTo>
                      <a:lnTo>
                        <a:pt x="13" y="18"/>
                      </a:lnTo>
                      <a:lnTo>
                        <a:pt x="18" y="10"/>
                      </a:lnTo>
                      <a:lnTo>
                        <a:pt x="25" y="4"/>
                      </a:lnTo>
                      <a:lnTo>
                        <a:pt x="36" y="2"/>
                      </a:lnTo>
                      <a:lnTo>
                        <a:pt x="46" y="0"/>
                      </a:lnTo>
                      <a:lnTo>
                        <a:pt x="56" y="5"/>
                      </a:lnTo>
                      <a:lnTo>
                        <a:pt x="63" y="11"/>
                      </a:lnTo>
                      <a:lnTo>
                        <a:pt x="70" y="21"/>
                      </a:lnTo>
                      <a:close/>
                    </a:path>
                  </a:pathLst>
                </a:custGeom>
                <a:solidFill>
                  <a:srgbClr val="ffff0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Humanst521 BT"/>
                  </a:endParaRPr>
                </a:p>
              </p:txBody>
            </p:sp>
            <p:sp>
              <p:nvSpPr>
                <p:cNvPr id="211" name="Freeform 31"/>
                <p:cNvSpPr/>
                <p:nvPr/>
              </p:nvSpPr>
              <p:spPr>
                <a:xfrm flipH="1">
                  <a:off x="7032960" y="3154680"/>
                  <a:ext cx="7560" cy="11160"/>
                </a:xfrm>
                <a:custGeom>
                  <a:avLst/>
                  <a:gdLst>
                    <a:gd name="textAreaLeft" fmla="*/ -360 w 7560"/>
                    <a:gd name="textAreaRight" fmla="*/ 7560 w 7560"/>
                    <a:gd name="textAreaTop" fmla="*/ 0 h 11160"/>
                    <a:gd name="textAreaBottom" fmla="*/ 11520 h 11160"/>
                  </a:gdLst>
                  <a:ahLst/>
                  <a:rect l="textAreaLeft" t="textAreaTop" r="textAreaRight" b="textAreaBottom"/>
                  <a:pathLst>
                    <a:path w="25" h="38">
                      <a:moveTo>
                        <a:pt x="25" y="2"/>
                      </a:moveTo>
                      <a:lnTo>
                        <a:pt x="22" y="13"/>
                      </a:lnTo>
                      <a:lnTo>
                        <a:pt x="16" y="22"/>
                      </a:lnTo>
                      <a:lnTo>
                        <a:pt x="7" y="29"/>
                      </a:lnTo>
                      <a:lnTo>
                        <a:pt x="0" y="38"/>
                      </a:lnTo>
                      <a:lnTo>
                        <a:pt x="0" y="32"/>
                      </a:lnTo>
                      <a:lnTo>
                        <a:pt x="1" y="25"/>
                      </a:lnTo>
                      <a:lnTo>
                        <a:pt x="2" y="18"/>
                      </a:lnTo>
                      <a:lnTo>
                        <a:pt x="3" y="13"/>
                      </a:lnTo>
                      <a:lnTo>
                        <a:pt x="5" y="7"/>
                      </a:lnTo>
                      <a:lnTo>
                        <a:pt x="8" y="3"/>
                      </a:lnTo>
                      <a:lnTo>
                        <a:pt x="12" y="1"/>
                      </a:lnTo>
                      <a:lnTo>
                        <a:pt x="21" y="1"/>
                      </a:lnTo>
                      <a:lnTo>
                        <a:pt x="23" y="0"/>
                      </a:lnTo>
                      <a:lnTo>
                        <a:pt x="25" y="2"/>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Humanst521 BT"/>
                  </a:endParaRPr>
                </a:p>
              </p:txBody>
            </p:sp>
            <p:sp>
              <p:nvSpPr>
                <p:cNvPr id="212" name="Freeform 32"/>
                <p:cNvSpPr/>
                <p:nvPr/>
              </p:nvSpPr>
              <p:spPr>
                <a:xfrm flipH="1">
                  <a:off x="7394760" y="3089160"/>
                  <a:ext cx="24480" cy="19080"/>
                </a:xfrm>
                <a:custGeom>
                  <a:avLst/>
                  <a:gdLst>
                    <a:gd name="textAreaLeft" fmla="*/ 360 w 24480"/>
                    <a:gd name="textAreaRight" fmla="*/ 25200 w 24480"/>
                    <a:gd name="textAreaTop" fmla="*/ 0 h 19080"/>
                    <a:gd name="textAreaBottom" fmla="*/ 19440 h 19080"/>
                  </a:gdLst>
                  <a:ahLst/>
                  <a:rect l="textAreaLeft" t="textAreaTop" r="textAreaRight" b="textAreaBottom"/>
                  <a:pathLst>
                    <a:path w="85" h="66">
                      <a:moveTo>
                        <a:pt x="85" y="26"/>
                      </a:moveTo>
                      <a:lnTo>
                        <a:pt x="79" y="35"/>
                      </a:lnTo>
                      <a:lnTo>
                        <a:pt x="74" y="48"/>
                      </a:lnTo>
                      <a:lnTo>
                        <a:pt x="67" y="58"/>
                      </a:lnTo>
                      <a:lnTo>
                        <a:pt x="57" y="65"/>
                      </a:lnTo>
                      <a:lnTo>
                        <a:pt x="43" y="66"/>
                      </a:lnTo>
                      <a:lnTo>
                        <a:pt x="31" y="66"/>
                      </a:lnTo>
                      <a:lnTo>
                        <a:pt x="18" y="64"/>
                      </a:lnTo>
                      <a:lnTo>
                        <a:pt x="9" y="58"/>
                      </a:lnTo>
                      <a:lnTo>
                        <a:pt x="3" y="50"/>
                      </a:lnTo>
                      <a:lnTo>
                        <a:pt x="0" y="43"/>
                      </a:lnTo>
                      <a:lnTo>
                        <a:pt x="2" y="34"/>
                      </a:lnTo>
                      <a:lnTo>
                        <a:pt x="7" y="28"/>
                      </a:lnTo>
                      <a:lnTo>
                        <a:pt x="16" y="26"/>
                      </a:lnTo>
                      <a:lnTo>
                        <a:pt x="25" y="21"/>
                      </a:lnTo>
                      <a:lnTo>
                        <a:pt x="32" y="13"/>
                      </a:lnTo>
                      <a:lnTo>
                        <a:pt x="41" y="7"/>
                      </a:lnTo>
                      <a:lnTo>
                        <a:pt x="48" y="1"/>
                      </a:lnTo>
                      <a:lnTo>
                        <a:pt x="57" y="0"/>
                      </a:lnTo>
                      <a:lnTo>
                        <a:pt x="65" y="1"/>
                      </a:lnTo>
                      <a:lnTo>
                        <a:pt x="78" y="10"/>
                      </a:lnTo>
                      <a:lnTo>
                        <a:pt x="85" y="26"/>
                      </a:lnTo>
                      <a:close/>
                    </a:path>
                  </a:pathLst>
                </a:custGeom>
                <a:solidFill>
                  <a:srgbClr val="ffff0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Humanst521 BT"/>
                  </a:endParaRPr>
                </a:p>
              </p:txBody>
            </p:sp>
            <p:sp>
              <p:nvSpPr>
                <p:cNvPr id="213" name="Freeform 33"/>
                <p:cNvSpPr/>
                <p:nvPr/>
              </p:nvSpPr>
              <p:spPr>
                <a:xfrm flipH="1">
                  <a:off x="6930000" y="3185280"/>
                  <a:ext cx="6480" cy="7560"/>
                </a:xfrm>
                <a:custGeom>
                  <a:avLst/>
                  <a:gdLst>
                    <a:gd name="textAreaLeft" fmla="*/ 360 w 6480"/>
                    <a:gd name="textAreaRight" fmla="*/ 7200 w 6480"/>
                    <a:gd name="textAreaTop" fmla="*/ 0 h 7560"/>
                    <a:gd name="textAreaBottom" fmla="*/ 7920 h 7560"/>
                  </a:gdLst>
                  <a:ahLst/>
                  <a:rect l="textAreaLeft" t="textAreaTop" r="textAreaRight" b="textAreaBottom"/>
                  <a:pathLst>
                    <a:path w="24" h="30">
                      <a:moveTo>
                        <a:pt x="24" y="24"/>
                      </a:moveTo>
                      <a:lnTo>
                        <a:pt x="16" y="30"/>
                      </a:lnTo>
                      <a:lnTo>
                        <a:pt x="15" y="24"/>
                      </a:lnTo>
                      <a:lnTo>
                        <a:pt x="10" y="22"/>
                      </a:lnTo>
                      <a:lnTo>
                        <a:pt x="4" y="20"/>
                      </a:lnTo>
                      <a:lnTo>
                        <a:pt x="0" y="19"/>
                      </a:lnTo>
                      <a:lnTo>
                        <a:pt x="16" y="0"/>
                      </a:lnTo>
                      <a:lnTo>
                        <a:pt x="17" y="8"/>
                      </a:lnTo>
                      <a:lnTo>
                        <a:pt x="15" y="19"/>
                      </a:lnTo>
                      <a:lnTo>
                        <a:pt x="12" y="21"/>
                      </a:lnTo>
                      <a:lnTo>
                        <a:pt x="13" y="25"/>
                      </a:lnTo>
                      <a:lnTo>
                        <a:pt x="17" y="25"/>
                      </a:lnTo>
                      <a:lnTo>
                        <a:pt x="24" y="24"/>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Humanst521 BT"/>
                  </a:endParaRPr>
                </a:p>
              </p:txBody>
            </p:sp>
            <p:sp>
              <p:nvSpPr>
                <p:cNvPr id="214" name="Freeform 34"/>
                <p:cNvSpPr/>
                <p:nvPr/>
              </p:nvSpPr>
              <p:spPr>
                <a:xfrm flipH="1">
                  <a:off x="7412400" y="3092400"/>
                  <a:ext cx="29160" cy="42840"/>
                </a:xfrm>
                <a:custGeom>
                  <a:avLst/>
                  <a:gdLst>
                    <a:gd name="textAreaLeft" fmla="*/ -360 w 29160"/>
                    <a:gd name="textAreaRight" fmla="*/ 29160 w 29160"/>
                    <a:gd name="textAreaTop" fmla="*/ 0 h 42840"/>
                    <a:gd name="textAreaBottom" fmla="*/ 43200 h 42840"/>
                  </a:gdLst>
                  <a:ahLst/>
                  <a:rect l="textAreaLeft" t="textAreaTop" r="textAreaRight" b="textAreaBottom"/>
                  <a:pathLst>
                    <a:path w="104" h="153">
                      <a:moveTo>
                        <a:pt x="64" y="40"/>
                      </a:moveTo>
                      <a:lnTo>
                        <a:pt x="63" y="45"/>
                      </a:lnTo>
                      <a:lnTo>
                        <a:pt x="61" y="51"/>
                      </a:lnTo>
                      <a:lnTo>
                        <a:pt x="60" y="57"/>
                      </a:lnTo>
                      <a:lnTo>
                        <a:pt x="61" y="63"/>
                      </a:lnTo>
                      <a:lnTo>
                        <a:pt x="70" y="61"/>
                      </a:lnTo>
                      <a:lnTo>
                        <a:pt x="79" y="59"/>
                      </a:lnTo>
                      <a:lnTo>
                        <a:pt x="87" y="57"/>
                      </a:lnTo>
                      <a:lnTo>
                        <a:pt x="97" y="63"/>
                      </a:lnTo>
                      <a:lnTo>
                        <a:pt x="102" y="73"/>
                      </a:lnTo>
                      <a:lnTo>
                        <a:pt x="104" y="86"/>
                      </a:lnTo>
                      <a:lnTo>
                        <a:pt x="102" y="97"/>
                      </a:lnTo>
                      <a:lnTo>
                        <a:pt x="101" y="110"/>
                      </a:lnTo>
                      <a:lnTo>
                        <a:pt x="93" y="121"/>
                      </a:lnTo>
                      <a:lnTo>
                        <a:pt x="85" y="130"/>
                      </a:lnTo>
                      <a:lnTo>
                        <a:pt x="74" y="133"/>
                      </a:lnTo>
                      <a:lnTo>
                        <a:pt x="64" y="137"/>
                      </a:lnTo>
                      <a:lnTo>
                        <a:pt x="52" y="138"/>
                      </a:lnTo>
                      <a:lnTo>
                        <a:pt x="41" y="142"/>
                      </a:lnTo>
                      <a:lnTo>
                        <a:pt x="30" y="146"/>
                      </a:lnTo>
                      <a:lnTo>
                        <a:pt x="21" y="153"/>
                      </a:lnTo>
                      <a:lnTo>
                        <a:pt x="14" y="152"/>
                      </a:lnTo>
                      <a:lnTo>
                        <a:pt x="10" y="149"/>
                      </a:lnTo>
                      <a:lnTo>
                        <a:pt x="6" y="146"/>
                      </a:lnTo>
                      <a:lnTo>
                        <a:pt x="5" y="142"/>
                      </a:lnTo>
                      <a:lnTo>
                        <a:pt x="3" y="132"/>
                      </a:lnTo>
                      <a:lnTo>
                        <a:pt x="0" y="124"/>
                      </a:lnTo>
                      <a:lnTo>
                        <a:pt x="1" y="115"/>
                      </a:lnTo>
                      <a:lnTo>
                        <a:pt x="4" y="108"/>
                      </a:lnTo>
                      <a:lnTo>
                        <a:pt x="6" y="99"/>
                      </a:lnTo>
                      <a:lnTo>
                        <a:pt x="10" y="92"/>
                      </a:lnTo>
                      <a:lnTo>
                        <a:pt x="11" y="84"/>
                      </a:lnTo>
                      <a:lnTo>
                        <a:pt x="12" y="77"/>
                      </a:lnTo>
                      <a:lnTo>
                        <a:pt x="10" y="70"/>
                      </a:lnTo>
                      <a:lnTo>
                        <a:pt x="6" y="63"/>
                      </a:lnTo>
                      <a:lnTo>
                        <a:pt x="10" y="52"/>
                      </a:lnTo>
                      <a:lnTo>
                        <a:pt x="11" y="43"/>
                      </a:lnTo>
                      <a:lnTo>
                        <a:pt x="11" y="32"/>
                      </a:lnTo>
                      <a:lnTo>
                        <a:pt x="12" y="22"/>
                      </a:lnTo>
                      <a:lnTo>
                        <a:pt x="14" y="12"/>
                      </a:lnTo>
                      <a:lnTo>
                        <a:pt x="18" y="6"/>
                      </a:lnTo>
                      <a:lnTo>
                        <a:pt x="26" y="1"/>
                      </a:lnTo>
                      <a:lnTo>
                        <a:pt x="42" y="0"/>
                      </a:lnTo>
                      <a:lnTo>
                        <a:pt x="52" y="5"/>
                      </a:lnTo>
                      <a:lnTo>
                        <a:pt x="58" y="16"/>
                      </a:lnTo>
                      <a:lnTo>
                        <a:pt x="60" y="28"/>
                      </a:lnTo>
                      <a:lnTo>
                        <a:pt x="64" y="40"/>
                      </a:lnTo>
                      <a:close/>
                    </a:path>
                  </a:pathLst>
                </a:custGeom>
                <a:solidFill>
                  <a:srgbClr val="ffff0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Humanst521 BT"/>
                  </a:endParaRPr>
                </a:p>
              </p:txBody>
            </p:sp>
            <p:sp>
              <p:nvSpPr>
                <p:cNvPr id="215" name="Freeform 35"/>
                <p:cNvSpPr/>
                <p:nvPr/>
              </p:nvSpPr>
              <p:spPr>
                <a:xfrm flipH="1">
                  <a:off x="7062480" y="3165840"/>
                  <a:ext cx="22320" cy="28080"/>
                </a:xfrm>
                <a:custGeom>
                  <a:avLst/>
                  <a:gdLst>
                    <a:gd name="textAreaLeft" fmla="*/ 360 w 22320"/>
                    <a:gd name="textAreaRight" fmla="*/ 23040 w 22320"/>
                    <a:gd name="textAreaTop" fmla="*/ 0 h 28080"/>
                    <a:gd name="textAreaBottom" fmla="*/ 28440 h 28080"/>
                  </a:gdLst>
                  <a:ahLst/>
                  <a:rect l="textAreaLeft" t="textAreaTop" r="textAreaRight" b="textAreaBottom"/>
                  <a:pathLst>
                    <a:path w="80" h="98">
                      <a:moveTo>
                        <a:pt x="79" y="28"/>
                      </a:moveTo>
                      <a:lnTo>
                        <a:pt x="79" y="37"/>
                      </a:lnTo>
                      <a:lnTo>
                        <a:pt x="78" y="47"/>
                      </a:lnTo>
                      <a:lnTo>
                        <a:pt x="74" y="55"/>
                      </a:lnTo>
                      <a:lnTo>
                        <a:pt x="71" y="64"/>
                      </a:lnTo>
                      <a:lnTo>
                        <a:pt x="65" y="71"/>
                      </a:lnTo>
                      <a:lnTo>
                        <a:pt x="60" y="78"/>
                      </a:lnTo>
                      <a:lnTo>
                        <a:pt x="54" y="86"/>
                      </a:lnTo>
                      <a:lnTo>
                        <a:pt x="49" y="94"/>
                      </a:lnTo>
                      <a:lnTo>
                        <a:pt x="37" y="98"/>
                      </a:lnTo>
                      <a:lnTo>
                        <a:pt x="26" y="98"/>
                      </a:lnTo>
                      <a:lnTo>
                        <a:pt x="14" y="96"/>
                      </a:lnTo>
                      <a:lnTo>
                        <a:pt x="3" y="92"/>
                      </a:lnTo>
                      <a:lnTo>
                        <a:pt x="0" y="86"/>
                      </a:lnTo>
                      <a:lnTo>
                        <a:pt x="4" y="82"/>
                      </a:lnTo>
                      <a:lnTo>
                        <a:pt x="8" y="77"/>
                      </a:lnTo>
                      <a:lnTo>
                        <a:pt x="13" y="74"/>
                      </a:lnTo>
                      <a:lnTo>
                        <a:pt x="14" y="64"/>
                      </a:lnTo>
                      <a:lnTo>
                        <a:pt x="15" y="56"/>
                      </a:lnTo>
                      <a:lnTo>
                        <a:pt x="16" y="47"/>
                      </a:lnTo>
                      <a:lnTo>
                        <a:pt x="18" y="39"/>
                      </a:lnTo>
                      <a:lnTo>
                        <a:pt x="19" y="31"/>
                      </a:lnTo>
                      <a:lnTo>
                        <a:pt x="22" y="23"/>
                      </a:lnTo>
                      <a:lnTo>
                        <a:pt x="27" y="16"/>
                      </a:lnTo>
                      <a:lnTo>
                        <a:pt x="36" y="12"/>
                      </a:lnTo>
                      <a:lnTo>
                        <a:pt x="41" y="5"/>
                      </a:lnTo>
                      <a:lnTo>
                        <a:pt x="49" y="1"/>
                      </a:lnTo>
                      <a:lnTo>
                        <a:pt x="57" y="0"/>
                      </a:lnTo>
                      <a:lnTo>
                        <a:pt x="67" y="2"/>
                      </a:lnTo>
                      <a:lnTo>
                        <a:pt x="73" y="5"/>
                      </a:lnTo>
                      <a:lnTo>
                        <a:pt x="79" y="11"/>
                      </a:lnTo>
                      <a:lnTo>
                        <a:pt x="80" y="18"/>
                      </a:lnTo>
                      <a:lnTo>
                        <a:pt x="79" y="28"/>
                      </a:lnTo>
                      <a:close/>
                    </a:path>
                  </a:pathLst>
                </a:custGeom>
                <a:solidFill>
                  <a:srgbClr val="ffff0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Humanst521 BT"/>
                  </a:endParaRPr>
                </a:p>
              </p:txBody>
            </p:sp>
            <p:sp>
              <p:nvSpPr>
                <p:cNvPr id="216" name="Freeform 36"/>
                <p:cNvSpPr/>
                <p:nvPr/>
              </p:nvSpPr>
              <p:spPr>
                <a:xfrm flipH="1">
                  <a:off x="6980040" y="3188520"/>
                  <a:ext cx="6840" cy="4320"/>
                </a:xfrm>
                <a:custGeom>
                  <a:avLst/>
                  <a:gdLst>
                    <a:gd name="textAreaLeft" fmla="*/ -360 w 6840"/>
                    <a:gd name="textAreaRight" fmla="*/ 6840 w 6840"/>
                    <a:gd name="textAreaTop" fmla="*/ 0 h 4320"/>
                    <a:gd name="textAreaBottom" fmla="*/ 4680 h 4320"/>
                  </a:gdLst>
                  <a:ahLst/>
                  <a:rect l="textAreaLeft" t="textAreaTop" r="textAreaRight" b="textAreaBottom"/>
                  <a:pathLst>
                    <a:path w="25" h="15">
                      <a:moveTo>
                        <a:pt x="25" y="13"/>
                      </a:moveTo>
                      <a:lnTo>
                        <a:pt x="18" y="15"/>
                      </a:lnTo>
                      <a:lnTo>
                        <a:pt x="13" y="13"/>
                      </a:lnTo>
                      <a:lnTo>
                        <a:pt x="7" y="10"/>
                      </a:lnTo>
                      <a:lnTo>
                        <a:pt x="0" y="10"/>
                      </a:lnTo>
                      <a:lnTo>
                        <a:pt x="4" y="0"/>
                      </a:lnTo>
                      <a:lnTo>
                        <a:pt x="25" y="13"/>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17" name="Freeform 37"/>
                <p:cNvSpPr/>
                <p:nvPr/>
              </p:nvSpPr>
              <p:spPr>
                <a:xfrm flipH="1">
                  <a:off x="6982200" y="3202200"/>
                  <a:ext cx="11160" cy="2160"/>
                </a:xfrm>
                <a:custGeom>
                  <a:avLst/>
                  <a:gdLst>
                    <a:gd name="textAreaLeft" fmla="*/ -360 w 11160"/>
                    <a:gd name="textAreaRight" fmla="*/ 11160 w 11160"/>
                    <a:gd name="textAreaTop" fmla="*/ 0 h 2160"/>
                    <a:gd name="textAreaBottom" fmla="*/ 2520 h 2160"/>
                  </a:gdLst>
                  <a:ahLst/>
                  <a:rect l="textAreaLeft" t="textAreaTop" r="textAreaRight" b="textAreaBottom"/>
                  <a:pathLst>
                    <a:path w="39" h="9">
                      <a:moveTo>
                        <a:pt x="39" y="0"/>
                      </a:moveTo>
                      <a:lnTo>
                        <a:pt x="28" y="3"/>
                      </a:lnTo>
                      <a:lnTo>
                        <a:pt x="20" y="5"/>
                      </a:lnTo>
                      <a:lnTo>
                        <a:pt x="9" y="7"/>
                      </a:lnTo>
                      <a:lnTo>
                        <a:pt x="0" y="9"/>
                      </a:lnTo>
                      <a:lnTo>
                        <a:pt x="8" y="4"/>
                      </a:lnTo>
                      <a:lnTo>
                        <a:pt x="19" y="1"/>
                      </a:lnTo>
                      <a:lnTo>
                        <a:pt x="28" y="0"/>
                      </a:lnTo>
                      <a:lnTo>
                        <a:pt x="39" y="0"/>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Humanst521 BT"/>
                  </a:endParaRPr>
                </a:p>
              </p:txBody>
            </p:sp>
            <p:sp>
              <p:nvSpPr>
                <p:cNvPr id="218" name="Freeform 38"/>
                <p:cNvSpPr/>
                <p:nvPr/>
              </p:nvSpPr>
              <p:spPr>
                <a:xfrm flipH="1">
                  <a:off x="7045560" y="3188520"/>
                  <a:ext cx="4320" cy="4320"/>
                </a:xfrm>
                <a:custGeom>
                  <a:avLst/>
                  <a:gdLst>
                    <a:gd name="textAreaLeft" fmla="*/ 360 w 4320"/>
                    <a:gd name="textAreaRight" fmla="*/ 5040 w 4320"/>
                    <a:gd name="textAreaTop" fmla="*/ 0 h 4320"/>
                    <a:gd name="textAreaBottom" fmla="*/ 4680 h 4320"/>
                  </a:gdLst>
                  <a:ahLst/>
                  <a:rect l="textAreaLeft" t="textAreaTop" r="textAreaRight" b="textAreaBottom"/>
                  <a:pathLst>
                    <a:path w="13" h="13">
                      <a:moveTo>
                        <a:pt x="13" y="11"/>
                      </a:moveTo>
                      <a:lnTo>
                        <a:pt x="13" y="13"/>
                      </a:lnTo>
                      <a:lnTo>
                        <a:pt x="4" y="8"/>
                      </a:lnTo>
                      <a:lnTo>
                        <a:pt x="0" y="0"/>
                      </a:lnTo>
                      <a:lnTo>
                        <a:pt x="8" y="2"/>
                      </a:lnTo>
                      <a:lnTo>
                        <a:pt x="13" y="11"/>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19" name="Freeform 39"/>
                <p:cNvSpPr/>
                <p:nvPr/>
              </p:nvSpPr>
              <p:spPr>
                <a:xfrm flipH="1">
                  <a:off x="7307280" y="3147840"/>
                  <a:ext cx="4320" cy="10080"/>
                </a:xfrm>
                <a:custGeom>
                  <a:avLst/>
                  <a:gdLst>
                    <a:gd name="textAreaLeft" fmla="*/ 360 w 4320"/>
                    <a:gd name="textAreaRight" fmla="*/ 5040 w 4320"/>
                    <a:gd name="textAreaTop" fmla="*/ 0 h 10080"/>
                    <a:gd name="textAreaBottom" fmla="*/ 10440 h 10080"/>
                  </a:gdLst>
                  <a:ahLst/>
                  <a:rect l="textAreaLeft" t="textAreaTop" r="textAreaRight" b="textAreaBottom"/>
                  <a:pathLst>
                    <a:path w="17" h="37">
                      <a:moveTo>
                        <a:pt x="0" y="37"/>
                      </a:moveTo>
                      <a:lnTo>
                        <a:pt x="5" y="0"/>
                      </a:lnTo>
                      <a:lnTo>
                        <a:pt x="17" y="13"/>
                      </a:lnTo>
                      <a:lnTo>
                        <a:pt x="0" y="37"/>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Humanst521 BT"/>
                  </a:endParaRPr>
                </a:p>
              </p:txBody>
            </p:sp>
            <p:sp>
              <p:nvSpPr>
                <p:cNvPr id="220" name="Freeform 40"/>
                <p:cNvSpPr/>
                <p:nvPr/>
              </p:nvSpPr>
              <p:spPr>
                <a:xfrm flipH="1">
                  <a:off x="7084440" y="3191760"/>
                  <a:ext cx="127800" cy="165240"/>
                </a:xfrm>
                <a:custGeom>
                  <a:avLst/>
                  <a:gdLst>
                    <a:gd name="textAreaLeft" fmla="*/ -360 w 127800"/>
                    <a:gd name="textAreaRight" fmla="*/ 127800 w 127800"/>
                    <a:gd name="textAreaTop" fmla="*/ 0 h 165240"/>
                    <a:gd name="textAreaBottom" fmla="*/ 165600 h 165240"/>
                  </a:gdLst>
                  <a:ahLst/>
                  <a:rect l="textAreaLeft" t="textAreaTop" r="textAreaRight" b="textAreaBottom"/>
                  <a:pathLst>
                    <a:path w="456" h="588">
                      <a:moveTo>
                        <a:pt x="453" y="31"/>
                      </a:moveTo>
                      <a:lnTo>
                        <a:pt x="454" y="41"/>
                      </a:lnTo>
                      <a:lnTo>
                        <a:pt x="456" y="51"/>
                      </a:lnTo>
                      <a:lnTo>
                        <a:pt x="454" y="62"/>
                      </a:lnTo>
                      <a:lnTo>
                        <a:pt x="453" y="73"/>
                      </a:lnTo>
                      <a:lnTo>
                        <a:pt x="442" y="75"/>
                      </a:lnTo>
                      <a:lnTo>
                        <a:pt x="436" y="80"/>
                      </a:lnTo>
                      <a:lnTo>
                        <a:pt x="432" y="88"/>
                      </a:lnTo>
                      <a:lnTo>
                        <a:pt x="432" y="96"/>
                      </a:lnTo>
                      <a:lnTo>
                        <a:pt x="431" y="104"/>
                      </a:lnTo>
                      <a:lnTo>
                        <a:pt x="430" y="112"/>
                      </a:lnTo>
                      <a:lnTo>
                        <a:pt x="425" y="118"/>
                      </a:lnTo>
                      <a:lnTo>
                        <a:pt x="420" y="126"/>
                      </a:lnTo>
                      <a:lnTo>
                        <a:pt x="413" y="126"/>
                      </a:lnTo>
                      <a:lnTo>
                        <a:pt x="407" y="127"/>
                      </a:lnTo>
                      <a:lnTo>
                        <a:pt x="399" y="127"/>
                      </a:lnTo>
                      <a:lnTo>
                        <a:pt x="396" y="132"/>
                      </a:lnTo>
                      <a:lnTo>
                        <a:pt x="399" y="143"/>
                      </a:lnTo>
                      <a:lnTo>
                        <a:pt x="400" y="156"/>
                      </a:lnTo>
                      <a:lnTo>
                        <a:pt x="398" y="170"/>
                      </a:lnTo>
                      <a:lnTo>
                        <a:pt x="394" y="183"/>
                      </a:lnTo>
                      <a:lnTo>
                        <a:pt x="387" y="196"/>
                      </a:lnTo>
                      <a:lnTo>
                        <a:pt x="381" y="208"/>
                      </a:lnTo>
                      <a:lnTo>
                        <a:pt x="372" y="218"/>
                      </a:lnTo>
                      <a:lnTo>
                        <a:pt x="365" y="229"/>
                      </a:lnTo>
                      <a:lnTo>
                        <a:pt x="356" y="235"/>
                      </a:lnTo>
                      <a:lnTo>
                        <a:pt x="348" y="237"/>
                      </a:lnTo>
                      <a:lnTo>
                        <a:pt x="338" y="237"/>
                      </a:lnTo>
                      <a:lnTo>
                        <a:pt x="328" y="238"/>
                      </a:lnTo>
                      <a:lnTo>
                        <a:pt x="323" y="236"/>
                      </a:lnTo>
                      <a:lnTo>
                        <a:pt x="318" y="232"/>
                      </a:lnTo>
                      <a:lnTo>
                        <a:pt x="313" y="230"/>
                      </a:lnTo>
                      <a:lnTo>
                        <a:pt x="310" y="231"/>
                      </a:lnTo>
                      <a:lnTo>
                        <a:pt x="309" y="242"/>
                      </a:lnTo>
                      <a:lnTo>
                        <a:pt x="307" y="254"/>
                      </a:lnTo>
                      <a:lnTo>
                        <a:pt x="306" y="258"/>
                      </a:lnTo>
                      <a:lnTo>
                        <a:pt x="306" y="264"/>
                      </a:lnTo>
                      <a:lnTo>
                        <a:pt x="306" y="270"/>
                      </a:lnTo>
                      <a:lnTo>
                        <a:pt x="309" y="278"/>
                      </a:lnTo>
                      <a:lnTo>
                        <a:pt x="304" y="286"/>
                      </a:lnTo>
                      <a:lnTo>
                        <a:pt x="299" y="296"/>
                      </a:lnTo>
                      <a:lnTo>
                        <a:pt x="293" y="305"/>
                      </a:lnTo>
                      <a:lnTo>
                        <a:pt x="286" y="313"/>
                      </a:lnTo>
                      <a:lnTo>
                        <a:pt x="277" y="319"/>
                      </a:lnTo>
                      <a:lnTo>
                        <a:pt x="268" y="326"/>
                      </a:lnTo>
                      <a:lnTo>
                        <a:pt x="258" y="329"/>
                      </a:lnTo>
                      <a:lnTo>
                        <a:pt x="248" y="334"/>
                      </a:lnTo>
                      <a:lnTo>
                        <a:pt x="241" y="333"/>
                      </a:lnTo>
                      <a:lnTo>
                        <a:pt x="236" y="332"/>
                      </a:lnTo>
                      <a:lnTo>
                        <a:pt x="231" y="328"/>
                      </a:lnTo>
                      <a:lnTo>
                        <a:pt x="228" y="326"/>
                      </a:lnTo>
                      <a:lnTo>
                        <a:pt x="219" y="317"/>
                      </a:lnTo>
                      <a:lnTo>
                        <a:pt x="214" y="310"/>
                      </a:lnTo>
                      <a:lnTo>
                        <a:pt x="209" y="324"/>
                      </a:lnTo>
                      <a:lnTo>
                        <a:pt x="206" y="339"/>
                      </a:lnTo>
                      <a:lnTo>
                        <a:pt x="199" y="352"/>
                      </a:lnTo>
                      <a:lnTo>
                        <a:pt x="195" y="366"/>
                      </a:lnTo>
                      <a:lnTo>
                        <a:pt x="186" y="377"/>
                      </a:lnTo>
                      <a:lnTo>
                        <a:pt x="179" y="389"/>
                      </a:lnTo>
                      <a:lnTo>
                        <a:pt x="169" y="399"/>
                      </a:lnTo>
                      <a:lnTo>
                        <a:pt x="159" y="410"/>
                      </a:lnTo>
                      <a:lnTo>
                        <a:pt x="164" y="415"/>
                      </a:lnTo>
                      <a:lnTo>
                        <a:pt x="168" y="421"/>
                      </a:lnTo>
                      <a:lnTo>
                        <a:pt x="170" y="429"/>
                      </a:lnTo>
                      <a:lnTo>
                        <a:pt x="170" y="436"/>
                      </a:lnTo>
                      <a:lnTo>
                        <a:pt x="159" y="433"/>
                      </a:lnTo>
                      <a:lnTo>
                        <a:pt x="148" y="435"/>
                      </a:lnTo>
                      <a:lnTo>
                        <a:pt x="137" y="437"/>
                      </a:lnTo>
                      <a:lnTo>
                        <a:pt x="127" y="440"/>
                      </a:lnTo>
                      <a:lnTo>
                        <a:pt x="116" y="441"/>
                      </a:lnTo>
                      <a:lnTo>
                        <a:pt x="106" y="440"/>
                      </a:lnTo>
                      <a:lnTo>
                        <a:pt x="98" y="433"/>
                      </a:lnTo>
                      <a:lnTo>
                        <a:pt x="92" y="422"/>
                      </a:lnTo>
                      <a:lnTo>
                        <a:pt x="87" y="432"/>
                      </a:lnTo>
                      <a:lnTo>
                        <a:pt x="83" y="443"/>
                      </a:lnTo>
                      <a:lnTo>
                        <a:pt x="78" y="453"/>
                      </a:lnTo>
                      <a:lnTo>
                        <a:pt x="73" y="464"/>
                      </a:lnTo>
                      <a:lnTo>
                        <a:pt x="66" y="473"/>
                      </a:lnTo>
                      <a:lnTo>
                        <a:pt x="60" y="483"/>
                      </a:lnTo>
                      <a:lnTo>
                        <a:pt x="51" y="490"/>
                      </a:lnTo>
                      <a:lnTo>
                        <a:pt x="44" y="498"/>
                      </a:lnTo>
                      <a:lnTo>
                        <a:pt x="52" y="501"/>
                      </a:lnTo>
                      <a:lnTo>
                        <a:pt x="63" y="502"/>
                      </a:lnTo>
                      <a:lnTo>
                        <a:pt x="76" y="501"/>
                      </a:lnTo>
                      <a:lnTo>
                        <a:pt x="88" y="500"/>
                      </a:lnTo>
                      <a:lnTo>
                        <a:pt x="89" y="491"/>
                      </a:lnTo>
                      <a:lnTo>
                        <a:pt x="94" y="485"/>
                      </a:lnTo>
                      <a:lnTo>
                        <a:pt x="100" y="479"/>
                      </a:lnTo>
                      <a:lnTo>
                        <a:pt x="108" y="475"/>
                      </a:lnTo>
                      <a:lnTo>
                        <a:pt x="116" y="474"/>
                      </a:lnTo>
                      <a:lnTo>
                        <a:pt x="126" y="474"/>
                      </a:lnTo>
                      <a:lnTo>
                        <a:pt x="134" y="473"/>
                      </a:lnTo>
                      <a:lnTo>
                        <a:pt x="144" y="471"/>
                      </a:lnTo>
                      <a:lnTo>
                        <a:pt x="153" y="470"/>
                      </a:lnTo>
                      <a:lnTo>
                        <a:pt x="163" y="470"/>
                      </a:lnTo>
                      <a:lnTo>
                        <a:pt x="171" y="471"/>
                      </a:lnTo>
                      <a:lnTo>
                        <a:pt x="181" y="475"/>
                      </a:lnTo>
                      <a:lnTo>
                        <a:pt x="186" y="468"/>
                      </a:lnTo>
                      <a:lnTo>
                        <a:pt x="191" y="459"/>
                      </a:lnTo>
                      <a:lnTo>
                        <a:pt x="197" y="452"/>
                      </a:lnTo>
                      <a:lnTo>
                        <a:pt x="207" y="447"/>
                      </a:lnTo>
                      <a:lnTo>
                        <a:pt x="206" y="438"/>
                      </a:lnTo>
                      <a:lnTo>
                        <a:pt x="212" y="431"/>
                      </a:lnTo>
                      <a:lnTo>
                        <a:pt x="218" y="426"/>
                      </a:lnTo>
                      <a:lnTo>
                        <a:pt x="226" y="424"/>
                      </a:lnTo>
                      <a:lnTo>
                        <a:pt x="235" y="422"/>
                      </a:lnTo>
                      <a:lnTo>
                        <a:pt x="245" y="424"/>
                      </a:lnTo>
                      <a:lnTo>
                        <a:pt x="252" y="424"/>
                      </a:lnTo>
                      <a:lnTo>
                        <a:pt x="261" y="427"/>
                      </a:lnTo>
                      <a:lnTo>
                        <a:pt x="269" y="430"/>
                      </a:lnTo>
                      <a:lnTo>
                        <a:pt x="278" y="436"/>
                      </a:lnTo>
                      <a:lnTo>
                        <a:pt x="283" y="442"/>
                      </a:lnTo>
                      <a:lnTo>
                        <a:pt x="286" y="453"/>
                      </a:lnTo>
                      <a:lnTo>
                        <a:pt x="286" y="462"/>
                      </a:lnTo>
                      <a:lnTo>
                        <a:pt x="283" y="470"/>
                      </a:lnTo>
                      <a:lnTo>
                        <a:pt x="272" y="479"/>
                      </a:lnTo>
                      <a:lnTo>
                        <a:pt x="258" y="484"/>
                      </a:lnTo>
                      <a:lnTo>
                        <a:pt x="244" y="486"/>
                      </a:lnTo>
                      <a:lnTo>
                        <a:pt x="230" y="490"/>
                      </a:lnTo>
                      <a:lnTo>
                        <a:pt x="217" y="492"/>
                      </a:lnTo>
                      <a:lnTo>
                        <a:pt x="207" y="500"/>
                      </a:lnTo>
                      <a:lnTo>
                        <a:pt x="199" y="511"/>
                      </a:lnTo>
                      <a:lnTo>
                        <a:pt x="198" y="528"/>
                      </a:lnTo>
                      <a:lnTo>
                        <a:pt x="188" y="534"/>
                      </a:lnTo>
                      <a:lnTo>
                        <a:pt x="180" y="539"/>
                      </a:lnTo>
                      <a:lnTo>
                        <a:pt x="170" y="543"/>
                      </a:lnTo>
                      <a:lnTo>
                        <a:pt x="160" y="548"/>
                      </a:lnTo>
                      <a:lnTo>
                        <a:pt x="149" y="549"/>
                      </a:lnTo>
                      <a:lnTo>
                        <a:pt x="139" y="551"/>
                      </a:lnTo>
                      <a:lnTo>
                        <a:pt x="130" y="551"/>
                      </a:lnTo>
                      <a:lnTo>
                        <a:pt x="120" y="551"/>
                      </a:lnTo>
                      <a:lnTo>
                        <a:pt x="117" y="559"/>
                      </a:lnTo>
                      <a:lnTo>
                        <a:pt x="115" y="566"/>
                      </a:lnTo>
                      <a:lnTo>
                        <a:pt x="112" y="572"/>
                      </a:lnTo>
                      <a:lnTo>
                        <a:pt x="110" y="581"/>
                      </a:lnTo>
                      <a:lnTo>
                        <a:pt x="100" y="586"/>
                      </a:lnTo>
                      <a:lnTo>
                        <a:pt x="92" y="587"/>
                      </a:lnTo>
                      <a:lnTo>
                        <a:pt x="82" y="587"/>
                      </a:lnTo>
                      <a:lnTo>
                        <a:pt x="73" y="588"/>
                      </a:lnTo>
                      <a:lnTo>
                        <a:pt x="63" y="581"/>
                      </a:lnTo>
                      <a:lnTo>
                        <a:pt x="54" y="578"/>
                      </a:lnTo>
                      <a:lnTo>
                        <a:pt x="43" y="574"/>
                      </a:lnTo>
                      <a:lnTo>
                        <a:pt x="32" y="573"/>
                      </a:lnTo>
                      <a:lnTo>
                        <a:pt x="20" y="568"/>
                      </a:lnTo>
                      <a:lnTo>
                        <a:pt x="12" y="565"/>
                      </a:lnTo>
                      <a:lnTo>
                        <a:pt x="3" y="557"/>
                      </a:lnTo>
                      <a:lnTo>
                        <a:pt x="0" y="546"/>
                      </a:lnTo>
                      <a:lnTo>
                        <a:pt x="0" y="535"/>
                      </a:lnTo>
                      <a:lnTo>
                        <a:pt x="3" y="528"/>
                      </a:lnTo>
                      <a:lnTo>
                        <a:pt x="9" y="521"/>
                      </a:lnTo>
                      <a:lnTo>
                        <a:pt x="16" y="516"/>
                      </a:lnTo>
                      <a:lnTo>
                        <a:pt x="20" y="508"/>
                      </a:lnTo>
                      <a:lnTo>
                        <a:pt x="24" y="502"/>
                      </a:lnTo>
                      <a:lnTo>
                        <a:pt x="24" y="494"/>
                      </a:lnTo>
                      <a:lnTo>
                        <a:pt x="20" y="486"/>
                      </a:lnTo>
                      <a:lnTo>
                        <a:pt x="14" y="476"/>
                      </a:lnTo>
                      <a:lnTo>
                        <a:pt x="13" y="468"/>
                      </a:lnTo>
                      <a:lnTo>
                        <a:pt x="12" y="458"/>
                      </a:lnTo>
                      <a:lnTo>
                        <a:pt x="16" y="449"/>
                      </a:lnTo>
                      <a:lnTo>
                        <a:pt x="23" y="441"/>
                      </a:lnTo>
                      <a:lnTo>
                        <a:pt x="29" y="432"/>
                      </a:lnTo>
                      <a:lnTo>
                        <a:pt x="34" y="422"/>
                      </a:lnTo>
                      <a:lnTo>
                        <a:pt x="39" y="413"/>
                      </a:lnTo>
                      <a:lnTo>
                        <a:pt x="43" y="402"/>
                      </a:lnTo>
                      <a:lnTo>
                        <a:pt x="50" y="394"/>
                      </a:lnTo>
                      <a:lnTo>
                        <a:pt x="60" y="389"/>
                      </a:lnTo>
                      <a:lnTo>
                        <a:pt x="73" y="388"/>
                      </a:lnTo>
                      <a:lnTo>
                        <a:pt x="89" y="399"/>
                      </a:lnTo>
                      <a:lnTo>
                        <a:pt x="92" y="381"/>
                      </a:lnTo>
                      <a:lnTo>
                        <a:pt x="96" y="365"/>
                      </a:lnTo>
                      <a:lnTo>
                        <a:pt x="100" y="350"/>
                      </a:lnTo>
                      <a:lnTo>
                        <a:pt x="108" y="335"/>
                      </a:lnTo>
                      <a:lnTo>
                        <a:pt x="114" y="321"/>
                      </a:lnTo>
                      <a:lnTo>
                        <a:pt x="121" y="306"/>
                      </a:lnTo>
                      <a:lnTo>
                        <a:pt x="128" y="292"/>
                      </a:lnTo>
                      <a:lnTo>
                        <a:pt x="136" y="279"/>
                      </a:lnTo>
                      <a:lnTo>
                        <a:pt x="143" y="274"/>
                      </a:lnTo>
                      <a:lnTo>
                        <a:pt x="152" y="270"/>
                      </a:lnTo>
                      <a:lnTo>
                        <a:pt x="159" y="267"/>
                      </a:lnTo>
                      <a:lnTo>
                        <a:pt x="169" y="267"/>
                      </a:lnTo>
                      <a:lnTo>
                        <a:pt x="177" y="264"/>
                      </a:lnTo>
                      <a:lnTo>
                        <a:pt x="186" y="265"/>
                      </a:lnTo>
                      <a:lnTo>
                        <a:pt x="193" y="268"/>
                      </a:lnTo>
                      <a:lnTo>
                        <a:pt x="202" y="273"/>
                      </a:lnTo>
                      <a:lnTo>
                        <a:pt x="204" y="278"/>
                      </a:lnTo>
                      <a:lnTo>
                        <a:pt x="209" y="281"/>
                      </a:lnTo>
                      <a:lnTo>
                        <a:pt x="210" y="273"/>
                      </a:lnTo>
                      <a:lnTo>
                        <a:pt x="214" y="269"/>
                      </a:lnTo>
                      <a:lnTo>
                        <a:pt x="219" y="265"/>
                      </a:lnTo>
                      <a:lnTo>
                        <a:pt x="226" y="265"/>
                      </a:lnTo>
                      <a:lnTo>
                        <a:pt x="233" y="263"/>
                      </a:lnTo>
                      <a:lnTo>
                        <a:pt x="239" y="262"/>
                      </a:lnTo>
                      <a:lnTo>
                        <a:pt x="244" y="258"/>
                      </a:lnTo>
                      <a:lnTo>
                        <a:pt x="248" y="252"/>
                      </a:lnTo>
                      <a:lnTo>
                        <a:pt x="250" y="242"/>
                      </a:lnTo>
                      <a:lnTo>
                        <a:pt x="252" y="235"/>
                      </a:lnTo>
                      <a:lnTo>
                        <a:pt x="256" y="227"/>
                      </a:lnTo>
                      <a:lnTo>
                        <a:pt x="261" y="221"/>
                      </a:lnTo>
                      <a:lnTo>
                        <a:pt x="264" y="214"/>
                      </a:lnTo>
                      <a:lnTo>
                        <a:pt x="272" y="209"/>
                      </a:lnTo>
                      <a:lnTo>
                        <a:pt x="278" y="204"/>
                      </a:lnTo>
                      <a:lnTo>
                        <a:pt x="288" y="202"/>
                      </a:lnTo>
                      <a:lnTo>
                        <a:pt x="294" y="204"/>
                      </a:lnTo>
                      <a:lnTo>
                        <a:pt x="301" y="208"/>
                      </a:lnTo>
                      <a:lnTo>
                        <a:pt x="301" y="198"/>
                      </a:lnTo>
                      <a:lnTo>
                        <a:pt x="305" y="191"/>
                      </a:lnTo>
                      <a:lnTo>
                        <a:pt x="310" y="183"/>
                      </a:lnTo>
                      <a:lnTo>
                        <a:pt x="316" y="178"/>
                      </a:lnTo>
                      <a:lnTo>
                        <a:pt x="321" y="172"/>
                      </a:lnTo>
                      <a:lnTo>
                        <a:pt x="326" y="166"/>
                      </a:lnTo>
                      <a:lnTo>
                        <a:pt x="326" y="157"/>
                      </a:lnTo>
                      <a:lnTo>
                        <a:pt x="324" y="150"/>
                      </a:lnTo>
                      <a:lnTo>
                        <a:pt x="323" y="142"/>
                      </a:lnTo>
                      <a:lnTo>
                        <a:pt x="323" y="134"/>
                      </a:lnTo>
                      <a:lnTo>
                        <a:pt x="324" y="127"/>
                      </a:lnTo>
                      <a:lnTo>
                        <a:pt x="328" y="121"/>
                      </a:lnTo>
                      <a:lnTo>
                        <a:pt x="335" y="112"/>
                      </a:lnTo>
                      <a:lnTo>
                        <a:pt x="345" y="108"/>
                      </a:lnTo>
                      <a:lnTo>
                        <a:pt x="356" y="106"/>
                      </a:lnTo>
                      <a:lnTo>
                        <a:pt x="367" y="105"/>
                      </a:lnTo>
                      <a:lnTo>
                        <a:pt x="373" y="107"/>
                      </a:lnTo>
                      <a:lnTo>
                        <a:pt x="380" y="107"/>
                      </a:lnTo>
                      <a:lnTo>
                        <a:pt x="378" y="97"/>
                      </a:lnTo>
                      <a:lnTo>
                        <a:pt x="378" y="89"/>
                      </a:lnTo>
                      <a:lnTo>
                        <a:pt x="380" y="79"/>
                      </a:lnTo>
                      <a:lnTo>
                        <a:pt x="383" y="70"/>
                      </a:lnTo>
                      <a:lnTo>
                        <a:pt x="387" y="61"/>
                      </a:lnTo>
                      <a:lnTo>
                        <a:pt x="391" y="52"/>
                      </a:lnTo>
                      <a:lnTo>
                        <a:pt x="394" y="42"/>
                      </a:lnTo>
                      <a:lnTo>
                        <a:pt x="398" y="34"/>
                      </a:lnTo>
                      <a:lnTo>
                        <a:pt x="402" y="29"/>
                      </a:lnTo>
                      <a:lnTo>
                        <a:pt x="405" y="23"/>
                      </a:lnTo>
                      <a:lnTo>
                        <a:pt x="409" y="15"/>
                      </a:lnTo>
                      <a:lnTo>
                        <a:pt x="413" y="9"/>
                      </a:lnTo>
                      <a:lnTo>
                        <a:pt x="416" y="3"/>
                      </a:lnTo>
                      <a:lnTo>
                        <a:pt x="421" y="0"/>
                      </a:lnTo>
                      <a:lnTo>
                        <a:pt x="429" y="2"/>
                      </a:lnTo>
                      <a:lnTo>
                        <a:pt x="438" y="8"/>
                      </a:lnTo>
                      <a:lnTo>
                        <a:pt x="453" y="31"/>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21" name="Freeform 41"/>
                <p:cNvSpPr/>
                <p:nvPr/>
              </p:nvSpPr>
              <p:spPr>
                <a:xfrm flipH="1">
                  <a:off x="6989040" y="3214440"/>
                  <a:ext cx="3240" cy="1080"/>
                </a:xfrm>
                <a:custGeom>
                  <a:avLst/>
                  <a:gdLst>
                    <a:gd name="textAreaLeft" fmla="*/ -360 w 3240"/>
                    <a:gd name="textAreaRight" fmla="*/ 3240 w 3240"/>
                    <a:gd name="textAreaTop" fmla="*/ 0 h 1080"/>
                    <a:gd name="textAreaBottom" fmla="*/ 1440 h 1080"/>
                  </a:gdLst>
                  <a:ahLst/>
                  <a:rect l="textAreaLeft" t="textAreaTop" r="textAreaRight" b="textAreaBottom"/>
                  <a:pathLst>
                    <a:path w="11" h="5">
                      <a:moveTo>
                        <a:pt x="9" y="5"/>
                      </a:moveTo>
                      <a:lnTo>
                        <a:pt x="0" y="3"/>
                      </a:lnTo>
                      <a:lnTo>
                        <a:pt x="4" y="0"/>
                      </a:lnTo>
                      <a:lnTo>
                        <a:pt x="11" y="3"/>
                      </a:lnTo>
                      <a:lnTo>
                        <a:pt x="9" y="5"/>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Humanst521 BT"/>
                  </a:endParaRPr>
                </a:p>
              </p:txBody>
            </p:sp>
            <p:sp>
              <p:nvSpPr>
                <p:cNvPr id="222" name="Freeform 42"/>
                <p:cNvSpPr/>
                <p:nvPr/>
              </p:nvSpPr>
              <p:spPr>
                <a:xfrm flipH="1">
                  <a:off x="7253280" y="3164760"/>
                  <a:ext cx="98640" cy="100800"/>
                </a:xfrm>
                <a:custGeom>
                  <a:avLst/>
                  <a:gdLst>
                    <a:gd name="textAreaLeft" fmla="*/ 360 w 98640"/>
                    <a:gd name="textAreaRight" fmla="*/ 99360 w 98640"/>
                    <a:gd name="textAreaTop" fmla="*/ 0 h 100800"/>
                    <a:gd name="textAreaBottom" fmla="*/ 101160 h 100800"/>
                  </a:gdLst>
                  <a:ahLst/>
                  <a:rect l="textAreaLeft" t="textAreaTop" r="textAreaRight" b="textAreaBottom"/>
                  <a:pathLst>
                    <a:path w="353" h="354">
                      <a:moveTo>
                        <a:pt x="267" y="43"/>
                      </a:moveTo>
                      <a:lnTo>
                        <a:pt x="267" y="47"/>
                      </a:lnTo>
                      <a:lnTo>
                        <a:pt x="270" y="53"/>
                      </a:lnTo>
                      <a:lnTo>
                        <a:pt x="277" y="47"/>
                      </a:lnTo>
                      <a:lnTo>
                        <a:pt x="287" y="42"/>
                      </a:lnTo>
                      <a:lnTo>
                        <a:pt x="296" y="37"/>
                      </a:lnTo>
                      <a:lnTo>
                        <a:pt x="307" y="33"/>
                      </a:lnTo>
                      <a:lnTo>
                        <a:pt x="315" y="30"/>
                      </a:lnTo>
                      <a:lnTo>
                        <a:pt x="326" y="31"/>
                      </a:lnTo>
                      <a:lnTo>
                        <a:pt x="336" y="32"/>
                      </a:lnTo>
                      <a:lnTo>
                        <a:pt x="347" y="37"/>
                      </a:lnTo>
                      <a:lnTo>
                        <a:pt x="353" y="48"/>
                      </a:lnTo>
                      <a:lnTo>
                        <a:pt x="353" y="60"/>
                      </a:lnTo>
                      <a:lnTo>
                        <a:pt x="348" y="71"/>
                      </a:lnTo>
                      <a:lnTo>
                        <a:pt x="343" y="82"/>
                      </a:lnTo>
                      <a:lnTo>
                        <a:pt x="337" y="86"/>
                      </a:lnTo>
                      <a:lnTo>
                        <a:pt x="332" y="91"/>
                      </a:lnTo>
                      <a:lnTo>
                        <a:pt x="325" y="96"/>
                      </a:lnTo>
                      <a:lnTo>
                        <a:pt x="320" y="101"/>
                      </a:lnTo>
                      <a:lnTo>
                        <a:pt x="324" y="107"/>
                      </a:lnTo>
                      <a:lnTo>
                        <a:pt x="328" y="114"/>
                      </a:lnTo>
                      <a:lnTo>
                        <a:pt x="328" y="122"/>
                      </a:lnTo>
                      <a:lnTo>
                        <a:pt x="329" y="132"/>
                      </a:lnTo>
                      <a:lnTo>
                        <a:pt x="321" y="140"/>
                      </a:lnTo>
                      <a:lnTo>
                        <a:pt x="315" y="149"/>
                      </a:lnTo>
                      <a:lnTo>
                        <a:pt x="304" y="155"/>
                      </a:lnTo>
                      <a:lnTo>
                        <a:pt x="294" y="161"/>
                      </a:lnTo>
                      <a:lnTo>
                        <a:pt x="282" y="161"/>
                      </a:lnTo>
                      <a:lnTo>
                        <a:pt x="271" y="161"/>
                      </a:lnTo>
                      <a:lnTo>
                        <a:pt x="259" y="158"/>
                      </a:lnTo>
                      <a:lnTo>
                        <a:pt x="248" y="156"/>
                      </a:lnTo>
                      <a:lnTo>
                        <a:pt x="237" y="151"/>
                      </a:lnTo>
                      <a:lnTo>
                        <a:pt x="227" y="145"/>
                      </a:lnTo>
                      <a:lnTo>
                        <a:pt x="218" y="138"/>
                      </a:lnTo>
                      <a:lnTo>
                        <a:pt x="212" y="132"/>
                      </a:lnTo>
                      <a:lnTo>
                        <a:pt x="207" y="124"/>
                      </a:lnTo>
                      <a:lnTo>
                        <a:pt x="201" y="128"/>
                      </a:lnTo>
                      <a:lnTo>
                        <a:pt x="201" y="135"/>
                      </a:lnTo>
                      <a:lnTo>
                        <a:pt x="201" y="143"/>
                      </a:lnTo>
                      <a:lnTo>
                        <a:pt x="199" y="150"/>
                      </a:lnTo>
                      <a:lnTo>
                        <a:pt x="193" y="152"/>
                      </a:lnTo>
                      <a:lnTo>
                        <a:pt x="188" y="155"/>
                      </a:lnTo>
                      <a:lnTo>
                        <a:pt x="180" y="157"/>
                      </a:lnTo>
                      <a:lnTo>
                        <a:pt x="177" y="161"/>
                      </a:lnTo>
                      <a:lnTo>
                        <a:pt x="172" y="163"/>
                      </a:lnTo>
                      <a:lnTo>
                        <a:pt x="171" y="167"/>
                      </a:lnTo>
                      <a:lnTo>
                        <a:pt x="172" y="172"/>
                      </a:lnTo>
                      <a:lnTo>
                        <a:pt x="178" y="179"/>
                      </a:lnTo>
                      <a:lnTo>
                        <a:pt x="183" y="187"/>
                      </a:lnTo>
                      <a:lnTo>
                        <a:pt x="191" y="187"/>
                      </a:lnTo>
                      <a:lnTo>
                        <a:pt x="201" y="183"/>
                      </a:lnTo>
                      <a:lnTo>
                        <a:pt x="212" y="182"/>
                      </a:lnTo>
                      <a:lnTo>
                        <a:pt x="220" y="183"/>
                      </a:lnTo>
                      <a:lnTo>
                        <a:pt x="229" y="187"/>
                      </a:lnTo>
                      <a:lnTo>
                        <a:pt x="237" y="189"/>
                      </a:lnTo>
                      <a:lnTo>
                        <a:pt x="247" y="193"/>
                      </a:lnTo>
                      <a:lnTo>
                        <a:pt x="253" y="197"/>
                      </a:lnTo>
                      <a:lnTo>
                        <a:pt x="260" y="201"/>
                      </a:lnTo>
                      <a:lnTo>
                        <a:pt x="265" y="209"/>
                      </a:lnTo>
                      <a:lnTo>
                        <a:pt x="270" y="219"/>
                      </a:lnTo>
                      <a:lnTo>
                        <a:pt x="270" y="231"/>
                      </a:lnTo>
                      <a:lnTo>
                        <a:pt x="269" y="244"/>
                      </a:lnTo>
                      <a:lnTo>
                        <a:pt x="265" y="257"/>
                      </a:lnTo>
                      <a:lnTo>
                        <a:pt x="258" y="269"/>
                      </a:lnTo>
                      <a:lnTo>
                        <a:pt x="250" y="274"/>
                      </a:lnTo>
                      <a:lnTo>
                        <a:pt x="243" y="279"/>
                      </a:lnTo>
                      <a:lnTo>
                        <a:pt x="233" y="281"/>
                      </a:lnTo>
                      <a:lnTo>
                        <a:pt x="226" y="285"/>
                      </a:lnTo>
                      <a:lnTo>
                        <a:pt x="214" y="281"/>
                      </a:lnTo>
                      <a:lnTo>
                        <a:pt x="201" y="279"/>
                      </a:lnTo>
                      <a:lnTo>
                        <a:pt x="190" y="276"/>
                      </a:lnTo>
                      <a:lnTo>
                        <a:pt x="179" y="274"/>
                      </a:lnTo>
                      <a:lnTo>
                        <a:pt x="168" y="270"/>
                      </a:lnTo>
                      <a:lnTo>
                        <a:pt x="160" y="266"/>
                      </a:lnTo>
                      <a:lnTo>
                        <a:pt x="151" y="260"/>
                      </a:lnTo>
                      <a:lnTo>
                        <a:pt x="144" y="255"/>
                      </a:lnTo>
                      <a:lnTo>
                        <a:pt x="136" y="247"/>
                      </a:lnTo>
                      <a:lnTo>
                        <a:pt x="134" y="239"/>
                      </a:lnTo>
                      <a:lnTo>
                        <a:pt x="134" y="232"/>
                      </a:lnTo>
                      <a:lnTo>
                        <a:pt x="131" y="225"/>
                      </a:lnTo>
                      <a:lnTo>
                        <a:pt x="124" y="235"/>
                      </a:lnTo>
                      <a:lnTo>
                        <a:pt x="114" y="242"/>
                      </a:lnTo>
                      <a:lnTo>
                        <a:pt x="103" y="244"/>
                      </a:lnTo>
                      <a:lnTo>
                        <a:pt x="93" y="248"/>
                      </a:lnTo>
                      <a:lnTo>
                        <a:pt x="82" y="250"/>
                      </a:lnTo>
                      <a:lnTo>
                        <a:pt x="75" y="257"/>
                      </a:lnTo>
                      <a:lnTo>
                        <a:pt x="71" y="268"/>
                      </a:lnTo>
                      <a:lnTo>
                        <a:pt x="74" y="285"/>
                      </a:lnTo>
                      <a:lnTo>
                        <a:pt x="76" y="287"/>
                      </a:lnTo>
                      <a:lnTo>
                        <a:pt x="85" y="280"/>
                      </a:lnTo>
                      <a:lnTo>
                        <a:pt x="96" y="275"/>
                      </a:lnTo>
                      <a:lnTo>
                        <a:pt x="101" y="271"/>
                      </a:lnTo>
                      <a:lnTo>
                        <a:pt x="107" y="271"/>
                      </a:lnTo>
                      <a:lnTo>
                        <a:pt x="113" y="270"/>
                      </a:lnTo>
                      <a:lnTo>
                        <a:pt x="120" y="271"/>
                      </a:lnTo>
                      <a:lnTo>
                        <a:pt x="126" y="273"/>
                      </a:lnTo>
                      <a:lnTo>
                        <a:pt x="133" y="275"/>
                      </a:lnTo>
                      <a:lnTo>
                        <a:pt x="139" y="277"/>
                      </a:lnTo>
                      <a:lnTo>
                        <a:pt x="146" y="282"/>
                      </a:lnTo>
                      <a:lnTo>
                        <a:pt x="151" y="286"/>
                      </a:lnTo>
                      <a:lnTo>
                        <a:pt x="156" y="291"/>
                      </a:lnTo>
                      <a:lnTo>
                        <a:pt x="160" y="297"/>
                      </a:lnTo>
                      <a:lnTo>
                        <a:pt x="163" y="306"/>
                      </a:lnTo>
                      <a:lnTo>
                        <a:pt x="162" y="311"/>
                      </a:lnTo>
                      <a:lnTo>
                        <a:pt x="161" y="317"/>
                      </a:lnTo>
                      <a:lnTo>
                        <a:pt x="160" y="324"/>
                      </a:lnTo>
                      <a:lnTo>
                        <a:pt x="158" y="331"/>
                      </a:lnTo>
                      <a:lnTo>
                        <a:pt x="155" y="338"/>
                      </a:lnTo>
                      <a:lnTo>
                        <a:pt x="151" y="344"/>
                      </a:lnTo>
                      <a:lnTo>
                        <a:pt x="145" y="349"/>
                      </a:lnTo>
                      <a:lnTo>
                        <a:pt x="139" y="352"/>
                      </a:lnTo>
                      <a:lnTo>
                        <a:pt x="124" y="352"/>
                      </a:lnTo>
                      <a:lnTo>
                        <a:pt x="111" y="354"/>
                      </a:lnTo>
                      <a:lnTo>
                        <a:pt x="97" y="350"/>
                      </a:lnTo>
                      <a:lnTo>
                        <a:pt x="85" y="347"/>
                      </a:lnTo>
                      <a:lnTo>
                        <a:pt x="71" y="341"/>
                      </a:lnTo>
                      <a:lnTo>
                        <a:pt x="60" y="335"/>
                      </a:lnTo>
                      <a:lnTo>
                        <a:pt x="48" y="328"/>
                      </a:lnTo>
                      <a:lnTo>
                        <a:pt x="39" y="322"/>
                      </a:lnTo>
                      <a:lnTo>
                        <a:pt x="33" y="311"/>
                      </a:lnTo>
                      <a:lnTo>
                        <a:pt x="31" y="300"/>
                      </a:lnTo>
                      <a:lnTo>
                        <a:pt x="27" y="293"/>
                      </a:lnTo>
                      <a:lnTo>
                        <a:pt x="25" y="290"/>
                      </a:lnTo>
                      <a:lnTo>
                        <a:pt x="20" y="286"/>
                      </a:lnTo>
                      <a:lnTo>
                        <a:pt x="15" y="285"/>
                      </a:lnTo>
                      <a:lnTo>
                        <a:pt x="11" y="277"/>
                      </a:lnTo>
                      <a:lnTo>
                        <a:pt x="8" y="270"/>
                      </a:lnTo>
                      <a:lnTo>
                        <a:pt x="4" y="263"/>
                      </a:lnTo>
                      <a:lnTo>
                        <a:pt x="3" y="255"/>
                      </a:lnTo>
                      <a:lnTo>
                        <a:pt x="0" y="247"/>
                      </a:lnTo>
                      <a:lnTo>
                        <a:pt x="1" y="239"/>
                      </a:lnTo>
                      <a:lnTo>
                        <a:pt x="3" y="232"/>
                      </a:lnTo>
                      <a:lnTo>
                        <a:pt x="8" y="225"/>
                      </a:lnTo>
                      <a:lnTo>
                        <a:pt x="16" y="215"/>
                      </a:lnTo>
                      <a:lnTo>
                        <a:pt x="22" y="204"/>
                      </a:lnTo>
                      <a:lnTo>
                        <a:pt x="27" y="190"/>
                      </a:lnTo>
                      <a:lnTo>
                        <a:pt x="37" y="182"/>
                      </a:lnTo>
                      <a:lnTo>
                        <a:pt x="47" y="177"/>
                      </a:lnTo>
                      <a:lnTo>
                        <a:pt x="58" y="179"/>
                      </a:lnTo>
                      <a:lnTo>
                        <a:pt x="60" y="168"/>
                      </a:lnTo>
                      <a:lnTo>
                        <a:pt x="64" y="158"/>
                      </a:lnTo>
                      <a:lnTo>
                        <a:pt x="68" y="149"/>
                      </a:lnTo>
                      <a:lnTo>
                        <a:pt x="75" y="141"/>
                      </a:lnTo>
                      <a:lnTo>
                        <a:pt x="80" y="133"/>
                      </a:lnTo>
                      <a:lnTo>
                        <a:pt x="87" y="125"/>
                      </a:lnTo>
                      <a:lnTo>
                        <a:pt x="95" y="119"/>
                      </a:lnTo>
                      <a:lnTo>
                        <a:pt x="104" y="114"/>
                      </a:lnTo>
                      <a:lnTo>
                        <a:pt x="112" y="114"/>
                      </a:lnTo>
                      <a:lnTo>
                        <a:pt x="120" y="118"/>
                      </a:lnTo>
                      <a:lnTo>
                        <a:pt x="128" y="120"/>
                      </a:lnTo>
                      <a:lnTo>
                        <a:pt x="136" y="119"/>
                      </a:lnTo>
                      <a:lnTo>
                        <a:pt x="134" y="112"/>
                      </a:lnTo>
                      <a:lnTo>
                        <a:pt x="134" y="105"/>
                      </a:lnTo>
                      <a:lnTo>
                        <a:pt x="134" y="98"/>
                      </a:lnTo>
                      <a:lnTo>
                        <a:pt x="138" y="92"/>
                      </a:lnTo>
                      <a:lnTo>
                        <a:pt x="142" y="79"/>
                      </a:lnTo>
                      <a:lnTo>
                        <a:pt x="147" y="67"/>
                      </a:lnTo>
                      <a:lnTo>
                        <a:pt x="158" y="59"/>
                      </a:lnTo>
                      <a:lnTo>
                        <a:pt x="171" y="55"/>
                      </a:lnTo>
                      <a:lnTo>
                        <a:pt x="182" y="54"/>
                      </a:lnTo>
                      <a:lnTo>
                        <a:pt x="194" y="58"/>
                      </a:lnTo>
                      <a:lnTo>
                        <a:pt x="201" y="51"/>
                      </a:lnTo>
                      <a:lnTo>
                        <a:pt x="206" y="42"/>
                      </a:lnTo>
                      <a:lnTo>
                        <a:pt x="210" y="32"/>
                      </a:lnTo>
                      <a:lnTo>
                        <a:pt x="214" y="22"/>
                      </a:lnTo>
                      <a:lnTo>
                        <a:pt x="216" y="11"/>
                      </a:lnTo>
                      <a:lnTo>
                        <a:pt x="222" y="5"/>
                      </a:lnTo>
                      <a:lnTo>
                        <a:pt x="232" y="0"/>
                      </a:lnTo>
                      <a:lnTo>
                        <a:pt x="247" y="0"/>
                      </a:lnTo>
                      <a:lnTo>
                        <a:pt x="256" y="6"/>
                      </a:lnTo>
                      <a:lnTo>
                        <a:pt x="263" y="17"/>
                      </a:lnTo>
                      <a:lnTo>
                        <a:pt x="265" y="30"/>
                      </a:lnTo>
                      <a:lnTo>
                        <a:pt x="267" y="43"/>
                      </a:lnTo>
                      <a:close/>
                    </a:path>
                  </a:pathLst>
                </a:custGeom>
                <a:solidFill>
                  <a:srgbClr val="bfb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23" name="Freeform 43"/>
                <p:cNvSpPr/>
                <p:nvPr/>
              </p:nvSpPr>
              <p:spPr>
                <a:xfrm flipH="1">
                  <a:off x="7053480" y="3213360"/>
                  <a:ext cx="8640" cy="4320"/>
                </a:xfrm>
                <a:custGeom>
                  <a:avLst/>
                  <a:gdLst>
                    <a:gd name="textAreaLeft" fmla="*/ 360 w 8640"/>
                    <a:gd name="textAreaRight" fmla="*/ 9360 w 8640"/>
                    <a:gd name="textAreaTop" fmla="*/ 0 h 4320"/>
                    <a:gd name="textAreaBottom" fmla="*/ 4680 h 4320"/>
                  </a:gdLst>
                  <a:ahLst/>
                  <a:rect l="textAreaLeft" t="textAreaTop" r="textAreaRight" b="textAreaBottom"/>
                  <a:pathLst>
                    <a:path w="32" h="15">
                      <a:moveTo>
                        <a:pt x="32" y="10"/>
                      </a:moveTo>
                      <a:lnTo>
                        <a:pt x="24" y="15"/>
                      </a:lnTo>
                      <a:lnTo>
                        <a:pt x="17" y="12"/>
                      </a:lnTo>
                      <a:lnTo>
                        <a:pt x="8" y="7"/>
                      </a:lnTo>
                      <a:lnTo>
                        <a:pt x="2" y="5"/>
                      </a:lnTo>
                      <a:lnTo>
                        <a:pt x="0" y="0"/>
                      </a:lnTo>
                      <a:lnTo>
                        <a:pt x="7" y="2"/>
                      </a:lnTo>
                      <a:lnTo>
                        <a:pt x="14" y="5"/>
                      </a:lnTo>
                      <a:lnTo>
                        <a:pt x="23" y="7"/>
                      </a:lnTo>
                      <a:lnTo>
                        <a:pt x="32" y="1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24" name="Freeform 44"/>
                <p:cNvSpPr/>
                <p:nvPr/>
              </p:nvSpPr>
              <p:spPr>
                <a:xfrm flipH="1">
                  <a:off x="7322400" y="3166920"/>
                  <a:ext cx="3240" cy="4320"/>
                </a:xfrm>
                <a:custGeom>
                  <a:avLst/>
                  <a:gdLst>
                    <a:gd name="textAreaLeft" fmla="*/ -360 w 3240"/>
                    <a:gd name="textAreaRight" fmla="*/ 3240 w 3240"/>
                    <a:gd name="textAreaTop" fmla="*/ 0 h 4320"/>
                    <a:gd name="textAreaBottom" fmla="*/ 4680 h 4320"/>
                  </a:gdLst>
                  <a:ahLst/>
                  <a:rect l="textAreaLeft" t="textAreaTop" r="textAreaRight" b="textAreaBottom"/>
                  <a:pathLst>
                    <a:path w="12" h="14">
                      <a:moveTo>
                        <a:pt x="12" y="6"/>
                      </a:moveTo>
                      <a:lnTo>
                        <a:pt x="8" y="7"/>
                      </a:lnTo>
                      <a:lnTo>
                        <a:pt x="6" y="11"/>
                      </a:lnTo>
                      <a:lnTo>
                        <a:pt x="5" y="13"/>
                      </a:lnTo>
                      <a:lnTo>
                        <a:pt x="0" y="14"/>
                      </a:lnTo>
                      <a:lnTo>
                        <a:pt x="0" y="1"/>
                      </a:lnTo>
                      <a:lnTo>
                        <a:pt x="6" y="0"/>
                      </a:lnTo>
                      <a:lnTo>
                        <a:pt x="12" y="6"/>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25" name="Freeform 45"/>
                <p:cNvSpPr/>
                <p:nvPr/>
              </p:nvSpPr>
              <p:spPr>
                <a:xfrm flipH="1">
                  <a:off x="7082280" y="3252960"/>
                  <a:ext cx="33480" cy="31680"/>
                </a:xfrm>
                <a:custGeom>
                  <a:avLst/>
                  <a:gdLst>
                    <a:gd name="textAreaLeft" fmla="*/ -360 w 33480"/>
                    <a:gd name="textAreaRight" fmla="*/ 33480 w 33480"/>
                    <a:gd name="textAreaTop" fmla="*/ 0 h 31680"/>
                    <a:gd name="textAreaBottom" fmla="*/ 32040 h 31680"/>
                  </a:gdLst>
                  <a:ahLst/>
                  <a:rect l="textAreaLeft" t="textAreaTop" r="textAreaRight" b="textAreaBottom"/>
                  <a:pathLst>
                    <a:path w="119" h="112">
                      <a:moveTo>
                        <a:pt x="118" y="27"/>
                      </a:moveTo>
                      <a:lnTo>
                        <a:pt x="119" y="35"/>
                      </a:lnTo>
                      <a:lnTo>
                        <a:pt x="119" y="44"/>
                      </a:lnTo>
                      <a:lnTo>
                        <a:pt x="115" y="51"/>
                      </a:lnTo>
                      <a:lnTo>
                        <a:pt x="113" y="60"/>
                      </a:lnTo>
                      <a:lnTo>
                        <a:pt x="108" y="67"/>
                      </a:lnTo>
                      <a:lnTo>
                        <a:pt x="107" y="74"/>
                      </a:lnTo>
                      <a:lnTo>
                        <a:pt x="107" y="82"/>
                      </a:lnTo>
                      <a:lnTo>
                        <a:pt x="113" y="92"/>
                      </a:lnTo>
                      <a:lnTo>
                        <a:pt x="109" y="98"/>
                      </a:lnTo>
                      <a:lnTo>
                        <a:pt x="105" y="104"/>
                      </a:lnTo>
                      <a:lnTo>
                        <a:pt x="98" y="109"/>
                      </a:lnTo>
                      <a:lnTo>
                        <a:pt x="91" y="112"/>
                      </a:lnTo>
                      <a:lnTo>
                        <a:pt x="81" y="109"/>
                      </a:lnTo>
                      <a:lnTo>
                        <a:pt x="75" y="105"/>
                      </a:lnTo>
                      <a:lnTo>
                        <a:pt x="69" y="99"/>
                      </a:lnTo>
                      <a:lnTo>
                        <a:pt x="65" y="94"/>
                      </a:lnTo>
                      <a:lnTo>
                        <a:pt x="58" y="92"/>
                      </a:lnTo>
                      <a:lnTo>
                        <a:pt x="50" y="92"/>
                      </a:lnTo>
                      <a:lnTo>
                        <a:pt x="43" y="92"/>
                      </a:lnTo>
                      <a:lnTo>
                        <a:pt x="36" y="92"/>
                      </a:lnTo>
                      <a:lnTo>
                        <a:pt x="28" y="90"/>
                      </a:lnTo>
                      <a:lnTo>
                        <a:pt x="21" y="89"/>
                      </a:lnTo>
                      <a:lnTo>
                        <a:pt x="14" y="87"/>
                      </a:lnTo>
                      <a:lnTo>
                        <a:pt x="7" y="84"/>
                      </a:lnTo>
                      <a:lnTo>
                        <a:pt x="0" y="76"/>
                      </a:lnTo>
                      <a:lnTo>
                        <a:pt x="0" y="67"/>
                      </a:lnTo>
                      <a:lnTo>
                        <a:pt x="1" y="57"/>
                      </a:lnTo>
                      <a:lnTo>
                        <a:pt x="1" y="50"/>
                      </a:lnTo>
                      <a:lnTo>
                        <a:pt x="7" y="40"/>
                      </a:lnTo>
                      <a:lnTo>
                        <a:pt x="18" y="34"/>
                      </a:lnTo>
                      <a:lnTo>
                        <a:pt x="22" y="30"/>
                      </a:lnTo>
                      <a:lnTo>
                        <a:pt x="27" y="27"/>
                      </a:lnTo>
                      <a:lnTo>
                        <a:pt x="29" y="22"/>
                      </a:lnTo>
                      <a:lnTo>
                        <a:pt x="33" y="16"/>
                      </a:lnTo>
                      <a:lnTo>
                        <a:pt x="41" y="7"/>
                      </a:lnTo>
                      <a:lnTo>
                        <a:pt x="50" y="3"/>
                      </a:lnTo>
                      <a:lnTo>
                        <a:pt x="61" y="1"/>
                      </a:lnTo>
                      <a:lnTo>
                        <a:pt x="72" y="0"/>
                      </a:lnTo>
                      <a:lnTo>
                        <a:pt x="79" y="1"/>
                      </a:lnTo>
                      <a:lnTo>
                        <a:pt x="85" y="3"/>
                      </a:lnTo>
                      <a:lnTo>
                        <a:pt x="91" y="4"/>
                      </a:lnTo>
                      <a:lnTo>
                        <a:pt x="98" y="8"/>
                      </a:lnTo>
                      <a:lnTo>
                        <a:pt x="109" y="16"/>
                      </a:lnTo>
                      <a:lnTo>
                        <a:pt x="118" y="27"/>
                      </a:lnTo>
                      <a:close/>
                    </a:path>
                  </a:pathLst>
                </a:custGeom>
                <a:solidFill>
                  <a:srgbClr val="ffff0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Humanst521 BT"/>
                  </a:endParaRPr>
                </a:p>
              </p:txBody>
            </p:sp>
            <p:sp>
              <p:nvSpPr>
                <p:cNvPr id="226" name="Freeform 46"/>
                <p:cNvSpPr/>
                <p:nvPr/>
              </p:nvSpPr>
              <p:spPr>
                <a:xfrm flipH="1">
                  <a:off x="7102800" y="3288240"/>
                  <a:ext cx="32400" cy="24840"/>
                </a:xfrm>
                <a:custGeom>
                  <a:avLst/>
                  <a:gdLst>
                    <a:gd name="textAreaLeft" fmla="*/ 360 w 32400"/>
                    <a:gd name="textAreaRight" fmla="*/ 33120 w 32400"/>
                    <a:gd name="textAreaTop" fmla="*/ 0 h 24840"/>
                    <a:gd name="textAreaBottom" fmla="*/ 25200 h 24840"/>
                  </a:gdLst>
                  <a:ahLst/>
                  <a:rect l="textAreaLeft" t="textAreaTop" r="textAreaRight" b="textAreaBottom"/>
                  <a:pathLst>
                    <a:path w="117" h="88">
                      <a:moveTo>
                        <a:pt x="117" y="30"/>
                      </a:moveTo>
                      <a:lnTo>
                        <a:pt x="113" y="43"/>
                      </a:lnTo>
                      <a:lnTo>
                        <a:pt x="108" y="55"/>
                      </a:lnTo>
                      <a:lnTo>
                        <a:pt x="101" y="65"/>
                      </a:lnTo>
                      <a:lnTo>
                        <a:pt x="90" y="75"/>
                      </a:lnTo>
                      <a:lnTo>
                        <a:pt x="80" y="78"/>
                      </a:lnTo>
                      <a:lnTo>
                        <a:pt x="71" y="82"/>
                      </a:lnTo>
                      <a:lnTo>
                        <a:pt x="61" y="84"/>
                      </a:lnTo>
                      <a:lnTo>
                        <a:pt x="53" y="88"/>
                      </a:lnTo>
                      <a:lnTo>
                        <a:pt x="42" y="87"/>
                      </a:lnTo>
                      <a:lnTo>
                        <a:pt x="32" y="87"/>
                      </a:lnTo>
                      <a:lnTo>
                        <a:pt x="22" y="83"/>
                      </a:lnTo>
                      <a:lnTo>
                        <a:pt x="14" y="79"/>
                      </a:lnTo>
                      <a:lnTo>
                        <a:pt x="4" y="70"/>
                      </a:lnTo>
                      <a:lnTo>
                        <a:pt x="0" y="59"/>
                      </a:lnTo>
                      <a:lnTo>
                        <a:pt x="0" y="45"/>
                      </a:lnTo>
                      <a:lnTo>
                        <a:pt x="6" y="35"/>
                      </a:lnTo>
                      <a:lnTo>
                        <a:pt x="12" y="28"/>
                      </a:lnTo>
                      <a:lnTo>
                        <a:pt x="20" y="22"/>
                      </a:lnTo>
                      <a:lnTo>
                        <a:pt x="27" y="14"/>
                      </a:lnTo>
                      <a:lnTo>
                        <a:pt x="35" y="9"/>
                      </a:lnTo>
                      <a:lnTo>
                        <a:pt x="42" y="3"/>
                      </a:lnTo>
                      <a:lnTo>
                        <a:pt x="52" y="1"/>
                      </a:lnTo>
                      <a:lnTo>
                        <a:pt x="61" y="0"/>
                      </a:lnTo>
                      <a:lnTo>
                        <a:pt x="73" y="1"/>
                      </a:lnTo>
                      <a:lnTo>
                        <a:pt x="79" y="1"/>
                      </a:lnTo>
                      <a:lnTo>
                        <a:pt x="85" y="3"/>
                      </a:lnTo>
                      <a:lnTo>
                        <a:pt x="91" y="6"/>
                      </a:lnTo>
                      <a:lnTo>
                        <a:pt x="98" y="9"/>
                      </a:lnTo>
                      <a:lnTo>
                        <a:pt x="103" y="13"/>
                      </a:lnTo>
                      <a:lnTo>
                        <a:pt x="108" y="18"/>
                      </a:lnTo>
                      <a:lnTo>
                        <a:pt x="112" y="23"/>
                      </a:lnTo>
                      <a:lnTo>
                        <a:pt x="117" y="30"/>
                      </a:lnTo>
                      <a:close/>
                    </a:path>
                  </a:pathLst>
                </a:custGeom>
                <a:solidFill>
                  <a:srgbClr val="ffff0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Humanst521 BT"/>
                  </a:endParaRPr>
                </a:p>
              </p:txBody>
            </p:sp>
            <p:sp>
              <p:nvSpPr>
                <p:cNvPr id="227" name="Freeform 47"/>
                <p:cNvSpPr/>
                <p:nvPr/>
              </p:nvSpPr>
              <p:spPr>
                <a:xfrm flipH="1">
                  <a:off x="7064280" y="3305160"/>
                  <a:ext cx="5400" cy="720"/>
                </a:xfrm>
                <a:custGeom>
                  <a:avLst/>
                  <a:gdLst>
                    <a:gd name="textAreaLeft" fmla="*/ -360 w 5400"/>
                    <a:gd name="textAreaRight" fmla="*/ 5400 w 5400"/>
                    <a:gd name="textAreaTop" fmla="*/ 0 h 720"/>
                    <a:gd name="textAreaBottom" fmla="*/ 1080 h 720"/>
                  </a:gdLst>
                  <a:ahLst/>
                  <a:rect l="textAreaLeft" t="textAreaTop" r="textAreaRight" b="textAreaBottom"/>
                  <a:pathLst>
                    <a:path w="19" h="6">
                      <a:moveTo>
                        <a:pt x="19" y="2"/>
                      </a:moveTo>
                      <a:lnTo>
                        <a:pt x="13" y="0"/>
                      </a:lnTo>
                      <a:lnTo>
                        <a:pt x="9" y="3"/>
                      </a:lnTo>
                      <a:lnTo>
                        <a:pt x="4" y="5"/>
                      </a:lnTo>
                      <a:lnTo>
                        <a:pt x="0" y="6"/>
                      </a:lnTo>
                      <a:lnTo>
                        <a:pt x="2" y="2"/>
                      </a:lnTo>
                      <a:lnTo>
                        <a:pt x="6" y="0"/>
                      </a:lnTo>
                      <a:lnTo>
                        <a:pt x="13" y="0"/>
                      </a:lnTo>
                      <a:lnTo>
                        <a:pt x="19" y="2"/>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Humanst521 BT"/>
                  </a:endParaRPr>
                </a:p>
              </p:txBody>
            </p:sp>
            <p:sp>
              <p:nvSpPr>
                <p:cNvPr id="228" name="Freeform 48"/>
                <p:cNvSpPr/>
                <p:nvPr/>
              </p:nvSpPr>
              <p:spPr>
                <a:xfrm flipH="1">
                  <a:off x="7333920" y="3248640"/>
                  <a:ext cx="31320" cy="36000"/>
                </a:xfrm>
                <a:custGeom>
                  <a:avLst/>
                  <a:gdLst>
                    <a:gd name="textAreaLeft" fmla="*/ -360 w 31320"/>
                    <a:gd name="textAreaRight" fmla="*/ 31320 w 31320"/>
                    <a:gd name="textAreaTop" fmla="*/ 0 h 36000"/>
                    <a:gd name="textAreaBottom" fmla="*/ 36360 h 36000"/>
                  </a:gdLst>
                  <a:ahLst/>
                  <a:rect l="textAreaLeft" t="textAreaTop" r="textAreaRight" b="textAreaBottom"/>
                  <a:pathLst>
                    <a:path w="110" h="128">
                      <a:moveTo>
                        <a:pt x="45" y="39"/>
                      </a:moveTo>
                      <a:lnTo>
                        <a:pt x="45" y="43"/>
                      </a:lnTo>
                      <a:lnTo>
                        <a:pt x="44" y="50"/>
                      </a:lnTo>
                      <a:lnTo>
                        <a:pt x="43" y="55"/>
                      </a:lnTo>
                      <a:lnTo>
                        <a:pt x="45" y="61"/>
                      </a:lnTo>
                      <a:lnTo>
                        <a:pt x="51" y="60"/>
                      </a:lnTo>
                      <a:lnTo>
                        <a:pt x="60" y="60"/>
                      </a:lnTo>
                      <a:lnTo>
                        <a:pt x="67" y="60"/>
                      </a:lnTo>
                      <a:lnTo>
                        <a:pt x="76" y="61"/>
                      </a:lnTo>
                      <a:lnTo>
                        <a:pt x="83" y="62"/>
                      </a:lnTo>
                      <a:lnTo>
                        <a:pt x="91" y="66"/>
                      </a:lnTo>
                      <a:lnTo>
                        <a:pt x="97" y="70"/>
                      </a:lnTo>
                      <a:lnTo>
                        <a:pt x="103" y="77"/>
                      </a:lnTo>
                      <a:lnTo>
                        <a:pt x="108" y="85"/>
                      </a:lnTo>
                      <a:lnTo>
                        <a:pt x="110" y="97"/>
                      </a:lnTo>
                      <a:lnTo>
                        <a:pt x="108" y="106"/>
                      </a:lnTo>
                      <a:lnTo>
                        <a:pt x="103" y="116"/>
                      </a:lnTo>
                      <a:lnTo>
                        <a:pt x="97" y="120"/>
                      </a:lnTo>
                      <a:lnTo>
                        <a:pt x="92" y="124"/>
                      </a:lnTo>
                      <a:lnTo>
                        <a:pt x="86" y="126"/>
                      </a:lnTo>
                      <a:lnTo>
                        <a:pt x="80" y="128"/>
                      </a:lnTo>
                      <a:lnTo>
                        <a:pt x="72" y="128"/>
                      </a:lnTo>
                      <a:lnTo>
                        <a:pt x="66" y="128"/>
                      </a:lnTo>
                      <a:lnTo>
                        <a:pt x="59" y="127"/>
                      </a:lnTo>
                      <a:lnTo>
                        <a:pt x="53" y="126"/>
                      </a:lnTo>
                      <a:lnTo>
                        <a:pt x="48" y="117"/>
                      </a:lnTo>
                      <a:lnTo>
                        <a:pt x="43" y="112"/>
                      </a:lnTo>
                      <a:lnTo>
                        <a:pt x="35" y="108"/>
                      </a:lnTo>
                      <a:lnTo>
                        <a:pt x="31" y="104"/>
                      </a:lnTo>
                      <a:lnTo>
                        <a:pt x="23" y="98"/>
                      </a:lnTo>
                      <a:lnTo>
                        <a:pt x="21" y="93"/>
                      </a:lnTo>
                      <a:lnTo>
                        <a:pt x="20" y="87"/>
                      </a:lnTo>
                      <a:lnTo>
                        <a:pt x="23" y="79"/>
                      </a:lnTo>
                      <a:lnTo>
                        <a:pt x="16" y="74"/>
                      </a:lnTo>
                      <a:lnTo>
                        <a:pt x="10" y="72"/>
                      </a:lnTo>
                      <a:lnTo>
                        <a:pt x="4" y="67"/>
                      </a:lnTo>
                      <a:lnTo>
                        <a:pt x="2" y="61"/>
                      </a:lnTo>
                      <a:lnTo>
                        <a:pt x="1" y="51"/>
                      </a:lnTo>
                      <a:lnTo>
                        <a:pt x="1" y="44"/>
                      </a:lnTo>
                      <a:lnTo>
                        <a:pt x="0" y="34"/>
                      </a:lnTo>
                      <a:lnTo>
                        <a:pt x="0" y="27"/>
                      </a:lnTo>
                      <a:lnTo>
                        <a:pt x="0" y="18"/>
                      </a:lnTo>
                      <a:lnTo>
                        <a:pt x="2" y="11"/>
                      </a:lnTo>
                      <a:lnTo>
                        <a:pt x="6" y="3"/>
                      </a:lnTo>
                      <a:lnTo>
                        <a:pt x="13" y="0"/>
                      </a:lnTo>
                      <a:lnTo>
                        <a:pt x="21" y="0"/>
                      </a:lnTo>
                      <a:lnTo>
                        <a:pt x="28" y="2"/>
                      </a:lnTo>
                      <a:lnTo>
                        <a:pt x="32" y="6"/>
                      </a:lnTo>
                      <a:lnTo>
                        <a:pt x="37" y="12"/>
                      </a:lnTo>
                      <a:lnTo>
                        <a:pt x="39" y="17"/>
                      </a:lnTo>
                      <a:lnTo>
                        <a:pt x="42" y="24"/>
                      </a:lnTo>
                      <a:lnTo>
                        <a:pt x="43" y="32"/>
                      </a:lnTo>
                      <a:lnTo>
                        <a:pt x="45" y="39"/>
                      </a:lnTo>
                      <a:close/>
                    </a:path>
                  </a:pathLst>
                </a:custGeom>
                <a:solidFill>
                  <a:srgbClr val="bfbf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Humanst521 BT"/>
                  </a:endParaRPr>
                </a:p>
              </p:txBody>
            </p:sp>
            <p:sp>
              <p:nvSpPr>
                <p:cNvPr id="229" name="Freeform 49"/>
                <p:cNvSpPr/>
                <p:nvPr/>
              </p:nvSpPr>
              <p:spPr>
                <a:xfrm flipH="1">
                  <a:off x="7063200" y="3323160"/>
                  <a:ext cx="3240" cy="4320"/>
                </a:xfrm>
                <a:custGeom>
                  <a:avLst/>
                  <a:gdLst>
                    <a:gd name="textAreaLeft" fmla="*/ -360 w 3240"/>
                    <a:gd name="textAreaRight" fmla="*/ 3240 w 3240"/>
                    <a:gd name="textAreaTop" fmla="*/ 0 h 4320"/>
                    <a:gd name="textAreaBottom" fmla="*/ 4680 h 4320"/>
                  </a:gdLst>
                  <a:ahLst/>
                  <a:rect l="textAreaLeft" t="textAreaTop" r="textAreaRight" b="textAreaBottom"/>
                  <a:pathLst>
                    <a:path w="11" h="12">
                      <a:moveTo>
                        <a:pt x="0" y="12"/>
                      </a:moveTo>
                      <a:lnTo>
                        <a:pt x="7" y="0"/>
                      </a:lnTo>
                      <a:lnTo>
                        <a:pt x="11" y="0"/>
                      </a:lnTo>
                      <a:lnTo>
                        <a:pt x="0" y="12"/>
                      </a:lnTo>
                      <a:close/>
                    </a:path>
                  </a:pathLst>
                </a:custGeom>
                <a:solidFill>
                  <a:srgbClr val="ff8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30" name="Freeform 50"/>
                <p:cNvSpPr/>
                <p:nvPr/>
              </p:nvSpPr>
              <p:spPr>
                <a:xfrm flipH="1">
                  <a:off x="7352640" y="3268800"/>
                  <a:ext cx="49320" cy="60840"/>
                </a:xfrm>
                <a:custGeom>
                  <a:avLst/>
                  <a:gdLst>
                    <a:gd name="textAreaLeft" fmla="*/ -360 w 49320"/>
                    <a:gd name="textAreaRight" fmla="*/ 49320 w 49320"/>
                    <a:gd name="textAreaTop" fmla="*/ 0 h 60840"/>
                    <a:gd name="textAreaBottom" fmla="*/ 61200 h 60840"/>
                  </a:gdLst>
                  <a:ahLst/>
                  <a:rect l="textAreaLeft" t="textAreaTop" r="textAreaRight" b="textAreaBottom"/>
                  <a:pathLst>
                    <a:path w="172" h="214">
                      <a:moveTo>
                        <a:pt x="132" y="30"/>
                      </a:moveTo>
                      <a:lnTo>
                        <a:pt x="128" y="42"/>
                      </a:lnTo>
                      <a:lnTo>
                        <a:pt x="132" y="52"/>
                      </a:lnTo>
                      <a:lnTo>
                        <a:pt x="140" y="59"/>
                      </a:lnTo>
                      <a:lnTo>
                        <a:pt x="152" y="65"/>
                      </a:lnTo>
                      <a:lnTo>
                        <a:pt x="161" y="71"/>
                      </a:lnTo>
                      <a:lnTo>
                        <a:pt x="170" y="80"/>
                      </a:lnTo>
                      <a:lnTo>
                        <a:pt x="172" y="92"/>
                      </a:lnTo>
                      <a:lnTo>
                        <a:pt x="169" y="108"/>
                      </a:lnTo>
                      <a:lnTo>
                        <a:pt x="160" y="114"/>
                      </a:lnTo>
                      <a:lnTo>
                        <a:pt x="153" y="123"/>
                      </a:lnTo>
                      <a:lnTo>
                        <a:pt x="143" y="129"/>
                      </a:lnTo>
                      <a:lnTo>
                        <a:pt x="134" y="135"/>
                      </a:lnTo>
                      <a:lnTo>
                        <a:pt x="123" y="133"/>
                      </a:lnTo>
                      <a:lnTo>
                        <a:pt x="114" y="133"/>
                      </a:lnTo>
                      <a:lnTo>
                        <a:pt x="104" y="131"/>
                      </a:lnTo>
                      <a:lnTo>
                        <a:pt x="94" y="130"/>
                      </a:lnTo>
                      <a:lnTo>
                        <a:pt x="83" y="127"/>
                      </a:lnTo>
                      <a:lnTo>
                        <a:pt x="76" y="124"/>
                      </a:lnTo>
                      <a:lnTo>
                        <a:pt x="68" y="118"/>
                      </a:lnTo>
                      <a:lnTo>
                        <a:pt x="64" y="111"/>
                      </a:lnTo>
                      <a:lnTo>
                        <a:pt x="61" y="114"/>
                      </a:lnTo>
                      <a:lnTo>
                        <a:pt x="61" y="122"/>
                      </a:lnTo>
                      <a:lnTo>
                        <a:pt x="61" y="129"/>
                      </a:lnTo>
                      <a:lnTo>
                        <a:pt x="61" y="138"/>
                      </a:lnTo>
                      <a:lnTo>
                        <a:pt x="64" y="143"/>
                      </a:lnTo>
                      <a:lnTo>
                        <a:pt x="72" y="149"/>
                      </a:lnTo>
                      <a:lnTo>
                        <a:pt x="79" y="152"/>
                      </a:lnTo>
                      <a:lnTo>
                        <a:pt x="89" y="157"/>
                      </a:lnTo>
                      <a:lnTo>
                        <a:pt x="96" y="161"/>
                      </a:lnTo>
                      <a:lnTo>
                        <a:pt x="104" y="166"/>
                      </a:lnTo>
                      <a:lnTo>
                        <a:pt x="109" y="173"/>
                      </a:lnTo>
                      <a:lnTo>
                        <a:pt x="111" y="184"/>
                      </a:lnTo>
                      <a:lnTo>
                        <a:pt x="107" y="193"/>
                      </a:lnTo>
                      <a:lnTo>
                        <a:pt x="101" y="201"/>
                      </a:lnTo>
                      <a:lnTo>
                        <a:pt x="93" y="208"/>
                      </a:lnTo>
                      <a:lnTo>
                        <a:pt x="83" y="214"/>
                      </a:lnTo>
                      <a:lnTo>
                        <a:pt x="68" y="212"/>
                      </a:lnTo>
                      <a:lnTo>
                        <a:pt x="57" y="209"/>
                      </a:lnTo>
                      <a:lnTo>
                        <a:pt x="49" y="201"/>
                      </a:lnTo>
                      <a:lnTo>
                        <a:pt x="42" y="194"/>
                      </a:lnTo>
                      <a:lnTo>
                        <a:pt x="35" y="184"/>
                      </a:lnTo>
                      <a:lnTo>
                        <a:pt x="28" y="177"/>
                      </a:lnTo>
                      <a:lnTo>
                        <a:pt x="18" y="169"/>
                      </a:lnTo>
                      <a:lnTo>
                        <a:pt x="9" y="166"/>
                      </a:lnTo>
                      <a:lnTo>
                        <a:pt x="3" y="157"/>
                      </a:lnTo>
                      <a:lnTo>
                        <a:pt x="1" y="149"/>
                      </a:lnTo>
                      <a:lnTo>
                        <a:pt x="0" y="139"/>
                      </a:lnTo>
                      <a:lnTo>
                        <a:pt x="1" y="131"/>
                      </a:lnTo>
                      <a:lnTo>
                        <a:pt x="4" y="123"/>
                      </a:lnTo>
                      <a:lnTo>
                        <a:pt x="8" y="116"/>
                      </a:lnTo>
                      <a:lnTo>
                        <a:pt x="11" y="106"/>
                      </a:lnTo>
                      <a:lnTo>
                        <a:pt x="13" y="97"/>
                      </a:lnTo>
                      <a:lnTo>
                        <a:pt x="15" y="89"/>
                      </a:lnTo>
                      <a:lnTo>
                        <a:pt x="20" y="82"/>
                      </a:lnTo>
                      <a:lnTo>
                        <a:pt x="25" y="77"/>
                      </a:lnTo>
                      <a:lnTo>
                        <a:pt x="35" y="77"/>
                      </a:lnTo>
                      <a:lnTo>
                        <a:pt x="40" y="77"/>
                      </a:lnTo>
                      <a:lnTo>
                        <a:pt x="46" y="81"/>
                      </a:lnTo>
                      <a:lnTo>
                        <a:pt x="50" y="87"/>
                      </a:lnTo>
                      <a:lnTo>
                        <a:pt x="55" y="93"/>
                      </a:lnTo>
                      <a:lnTo>
                        <a:pt x="57" y="97"/>
                      </a:lnTo>
                      <a:lnTo>
                        <a:pt x="61" y="100"/>
                      </a:lnTo>
                      <a:lnTo>
                        <a:pt x="64" y="98"/>
                      </a:lnTo>
                      <a:lnTo>
                        <a:pt x="69" y="92"/>
                      </a:lnTo>
                      <a:lnTo>
                        <a:pt x="61" y="84"/>
                      </a:lnTo>
                      <a:lnTo>
                        <a:pt x="57" y="75"/>
                      </a:lnTo>
                      <a:lnTo>
                        <a:pt x="53" y="65"/>
                      </a:lnTo>
                      <a:lnTo>
                        <a:pt x="53" y="55"/>
                      </a:lnTo>
                      <a:lnTo>
                        <a:pt x="53" y="44"/>
                      </a:lnTo>
                      <a:lnTo>
                        <a:pt x="56" y="35"/>
                      </a:lnTo>
                      <a:lnTo>
                        <a:pt x="58" y="25"/>
                      </a:lnTo>
                      <a:lnTo>
                        <a:pt x="63" y="16"/>
                      </a:lnTo>
                      <a:lnTo>
                        <a:pt x="68" y="9"/>
                      </a:lnTo>
                      <a:lnTo>
                        <a:pt x="76" y="5"/>
                      </a:lnTo>
                      <a:lnTo>
                        <a:pt x="83" y="1"/>
                      </a:lnTo>
                      <a:lnTo>
                        <a:pt x="93" y="0"/>
                      </a:lnTo>
                      <a:lnTo>
                        <a:pt x="105" y="0"/>
                      </a:lnTo>
                      <a:lnTo>
                        <a:pt x="116" y="6"/>
                      </a:lnTo>
                      <a:lnTo>
                        <a:pt x="120" y="10"/>
                      </a:lnTo>
                      <a:lnTo>
                        <a:pt x="125" y="16"/>
                      </a:lnTo>
                      <a:lnTo>
                        <a:pt x="128" y="22"/>
                      </a:lnTo>
                      <a:lnTo>
                        <a:pt x="132" y="30"/>
                      </a:lnTo>
                      <a:close/>
                    </a:path>
                  </a:pathLst>
                </a:custGeom>
                <a:solidFill>
                  <a:srgbClr val="bfbf0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Humanst521 BT"/>
                  </a:endParaRPr>
                </a:p>
              </p:txBody>
            </p:sp>
            <p:sp>
              <p:nvSpPr>
                <p:cNvPr id="231" name="Freeform 51"/>
                <p:cNvSpPr/>
                <p:nvPr/>
              </p:nvSpPr>
              <p:spPr>
                <a:xfrm flipH="1">
                  <a:off x="7443000" y="3145320"/>
                  <a:ext cx="52560" cy="182160"/>
                </a:xfrm>
                <a:custGeom>
                  <a:avLst/>
                  <a:gdLst>
                    <a:gd name="textAreaLeft" fmla="*/ 360 w 52560"/>
                    <a:gd name="textAreaRight" fmla="*/ 53280 w 52560"/>
                    <a:gd name="textAreaTop" fmla="*/ 0 h 182160"/>
                    <a:gd name="textAreaBottom" fmla="*/ 182520 h 182160"/>
                  </a:gdLst>
                  <a:ahLst/>
                  <a:rect l="textAreaLeft" t="textAreaTop" r="textAreaRight" b="textAreaBottom"/>
                  <a:pathLst>
                    <a:path w="189" h="640">
                      <a:moveTo>
                        <a:pt x="189" y="37"/>
                      </a:moveTo>
                      <a:lnTo>
                        <a:pt x="170" y="122"/>
                      </a:lnTo>
                      <a:lnTo>
                        <a:pt x="142" y="207"/>
                      </a:lnTo>
                      <a:lnTo>
                        <a:pt x="124" y="244"/>
                      </a:lnTo>
                      <a:lnTo>
                        <a:pt x="105" y="304"/>
                      </a:lnTo>
                      <a:lnTo>
                        <a:pt x="94" y="368"/>
                      </a:lnTo>
                      <a:lnTo>
                        <a:pt x="71" y="430"/>
                      </a:lnTo>
                      <a:lnTo>
                        <a:pt x="50" y="483"/>
                      </a:lnTo>
                      <a:lnTo>
                        <a:pt x="39" y="549"/>
                      </a:lnTo>
                      <a:lnTo>
                        <a:pt x="26" y="596"/>
                      </a:lnTo>
                      <a:lnTo>
                        <a:pt x="16" y="640"/>
                      </a:lnTo>
                      <a:lnTo>
                        <a:pt x="2" y="635"/>
                      </a:lnTo>
                      <a:lnTo>
                        <a:pt x="5" y="614"/>
                      </a:lnTo>
                      <a:lnTo>
                        <a:pt x="0" y="585"/>
                      </a:lnTo>
                      <a:lnTo>
                        <a:pt x="7" y="541"/>
                      </a:lnTo>
                      <a:lnTo>
                        <a:pt x="21" y="488"/>
                      </a:lnTo>
                      <a:lnTo>
                        <a:pt x="32" y="423"/>
                      </a:lnTo>
                      <a:lnTo>
                        <a:pt x="49" y="386"/>
                      </a:lnTo>
                      <a:lnTo>
                        <a:pt x="62" y="347"/>
                      </a:lnTo>
                      <a:lnTo>
                        <a:pt x="76" y="297"/>
                      </a:lnTo>
                      <a:lnTo>
                        <a:pt x="89" y="255"/>
                      </a:lnTo>
                      <a:lnTo>
                        <a:pt x="122" y="181"/>
                      </a:lnTo>
                      <a:lnTo>
                        <a:pt x="134" y="131"/>
                      </a:lnTo>
                      <a:lnTo>
                        <a:pt x="145" y="89"/>
                      </a:lnTo>
                      <a:lnTo>
                        <a:pt x="149" y="37"/>
                      </a:lnTo>
                      <a:lnTo>
                        <a:pt x="165" y="0"/>
                      </a:lnTo>
                      <a:lnTo>
                        <a:pt x="184" y="7"/>
                      </a:lnTo>
                      <a:lnTo>
                        <a:pt x="189" y="37"/>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32" name="Freeform 52"/>
                <p:cNvSpPr/>
                <p:nvPr/>
              </p:nvSpPr>
              <p:spPr>
                <a:xfrm flipH="1">
                  <a:off x="7486920" y="3293640"/>
                  <a:ext cx="44640" cy="207000"/>
                </a:xfrm>
                <a:custGeom>
                  <a:avLst/>
                  <a:gdLst>
                    <a:gd name="textAreaLeft" fmla="*/ 360 w 44640"/>
                    <a:gd name="textAreaRight" fmla="*/ 45360 w 44640"/>
                    <a:gd name="textAreaTop" fmla="*/ 0 h 207000"/>
                    <a:gd name="textAreaBottom" fmla="*/ 207360 h 207000"/>
                  </a:gdLst>
                  <a:ahLst/>
                  <a:rect l="textAreaLeft" t="textAreaTop" r="textAreaRight" b="textAreaBottom"/>
                  <a:pathLst>
                    <a:path w="158" h="734">
                      <a:moveTo>
                        <a:pt x="158" y="35"/>
                      </a:moveTo>
                      <a:lnTo>
                        <a:pt x="147" y="122"/>
                      </a:lnTo>
                      <a:lnTo>
                        <a:pt x="126" y="210"/>
                      </a:lnTo>
                      <a:lnTo>
                        <a:pt x="110" y="247"/>
                      </a:lnTo>
                      <a:lnTo>
                        <a:pt x="96" y="311"/>
                      </a:lnTo>
                      <a:lnTo>
                        <a:pt x="87" y="373"/>
                      </a:lnTo>
                      <a:lnTo>
                        <a:pt x="71" y="439"/>
                      </a:lnTo>
                      <a:lnTo>
                        <a:pt x="52" y="492"/>
                      </a:lnTo>
                      <a:lnTo>
                        <a:pt x="46" y="560"/>
                      </a:lnTo>
                      <a:lnTo>
                        <a:pt x="36" y="607"/>
                      </a:lnTo>
                      <a:lnTo>
                        <a:pt x="32" y="652"/>
                      </a:lnTo>
                      <a:lnTo>
                        <a:pt x="0" y="734"/>
                      </a:lnTo>
                      <a:lnTo>
                        <a:pt x="2" y="660"/>
                      </a:lnTo>
                      <a:lnTo>
                        <a:pt x="11" y="598"/>
                      </a:lnTo>
                      <a:lnTo>
                        <a:pt x="13" y="552"/>
                      </a:lnTo>
                      <a:lnTo>
                        <a:pt x="23" y="499"/>
                      </a:lnTo>
                      <a:lnTo>
                        <a:pt x="29" y="432"/>
                      </a:lnTo>
                      <a:lnTo>
                        <a:pt x="46" y="395"/>
                      </a:lnTo>
                      <a:lnTo>
                        <a:pt x="55" y="357"/>
                      </a:lnTo>
                      <a:lnTo>
                        <a:pt x="66" y="303"/>
                      </a:lnTo>
                      <a:lnTo>
                        <a:pt x="76" y="260"/>
                      </a:lnTo>
                      <a:lnTo>
                        <a:pt x="103" y="187"/>
                      </a:lnTo>
                      <a:lnTo>
                        <a:pt x="110" y="136"/>
                      </a:lnTo>
                      <a:lnTo>
                        <a:pt x="117" y="92"/>
                      </a:lnTo>
                      <a:lnTo>
                        <a:pt x="120" y="40"/>
                      </a:lnTo>
                      <a:lnTo>
                        <a:pt x="133" y="0"/>
                      </a:lnTo>
                      <a:lnTo>
                        <a:pt x="154" y="9"/>
                      </a:lnTo>
                      <a:lnTo>
                        <a:pt x="158" y="35"/>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33" name="Freeform 53"/>
                <p:cNvSpPr/>
                <p:nvPr/>
              </p:nvSpPr>
              <p:spPr>
                <a:xfrm flipH="1">
                  <a:off x="7284600" y="3392280"/>
                  <a:ext cx="90720" cy="86760"/>
                </a:xfrm>
                <a:custGeom>
                  <a:avLst/>
                  <a:gdLst>
                    <a:gd name="textAreaLeft" fmla="*/ 360 w 90720"/>
                    <a:gd name="textAreaRight" fmla="*/ 91440 w 90720"/>
                    <a:gd name="textAreaTop" fmla="*/ 0 h 86760"/>
                    <a:gd name="textAreaBottom" fmla="*/ 87120 h 86760"/>
                  </a:gdLst>
                  <a:ahLst/>
                  <a:rect l="textAreaLeft" t="textAreaTop" r="textAreaRight" b="textAreaBottom"/>
                  <a:pathLst>
                    <a:path w="323" h="311">
                      <a:moveTo>
                        <a:pt x="315" y="29"/>
                      </a:moveTo>
                      <a:lnTo>
                        <a:pt x="278" y="48"/>
                      </a:lnTo>
                      <a:lnTo>
                        <a:pt x="229" y="90"/>
                      </a:lnTo>
                      <a:lnTo>
                        <a:pt x="207" y="111"/>
                      </a:lnTo>
                      <a:lnTo>
                        <a:pt x="174" y="137"/>
                      </a:lnTo>
                      <a:lnTo>
                        <a:pt x="144" y="166"/>
                      </a:lnTo>
                      <a:lnTo>
                        <a:pt x="110" y="200"/>
                      </a:lnTo>
                      <a:lnTo>
                        <a:pt x="82" y="232"/>
                      </a:lnTo>
                      <a:lnTo>
                        <a:pt x="52" y="263"/>
                      </a:lnTo>
                      <a:lnTo>
                        <a:pt x="27" y="287"/>
                      </a:lnTo>
                      <a:lnTo>
                        <a:pt x="8" y="311"/>
                      </a:lnTo>
                      <a:lnTo>
                        <a:pt x="0" y="302"/>
                      </a:lnTo>
                      <a:lnTo>
                        <a:pt x="2" y="286"/>
                      </a:lnTo>
                      <a:lnTo>
                        <a:pt x="16" y="269"/>
                      </a:lnTo>
                      <a:lnTo>
                        <a:pt x="41" y="258"/>
                      </a:lnTo>
                      <a:lnTo>
                        <a:pt x="66" y="224"/>
                      </a:lnTo>
                      <a:lnTo>
                        <a:pt x="96" y="194"/>
                      </a:lnTo>
                      <a:lnTo>
                        <a:pt x="117" y="176"/>
                      </a:lnTo>
                      <a:lnTo>
                        <a:pt x="136" y="157"/>
                      </a:lnTo>
                      <a:lnTo>
                        <a:pt x="165" y="127"/>
                      </a:lnTo>
                      <a:lnTo>
                        <a:pt x="184" y="106"/>
                      </a:lnTo>
                      <a:lnTo>
                        <a:pt x="228" y="79"/>
                      </a:lnTo>
                      <a:lnTo>
                        <a:pt x="252" y="58"/>
                      </a:lnTo>
                      <a:lnTo>
                        <a:pt x="273" y="40"/>
                      </a:lnTo>
                      <a:lnTo>
                        <a:pt x="296" y="14"/>
                      </a:lnTo>
                      <a:lnTo>
                        <a:pt x="320" y="0"/>
                      </a:lnTo>
                      <a:lnTo>
                        <a:pt x="323" y="11"/>
                      </a:lnTo>
                      <a:lnTo>
                        <a:pt x="315" y="29"/>
                      </a:lnTo>
                      <a:close/>
                    </a:path>
                  </a:pathLst>
                </a:custGeom>
                <a:solidFill>
                  <a:srgbClr val="ffbf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Humanst521 BT"/>
                  </a:endParaRPr>
                </a:p>
              </p:txBody>
            </p:sp>
            <p:sp>
              <p:nvSpPr>
                <p:cNvPr id="234" name="Freeform 54"/>
                <p:cNvSpPr/>
                <p:nvPr/>
              </p:nvSpPr>
              <p:spPr>
                <a:xfrm flipH="1">
                  <a:off x="7442280" y="2992680"/>
                  <a:ext cx="20880" cy="109800"/>
                </a:xfrm>
                <a:custGeom>
                  <a:avLst/>
                  <a:gdLst>
                    <a:gd name="textAreaLeft" fmla="*/ 360 w 20880"/>
                    <a:gd name="textAreaRight" fmla="*/ 21600 w 20880"/>
                    <a:gd name="textAreaTop" fmla="*/ 0 h 109800"/>
                    <a:gd name="textAreaBottom" fmla="*/ 110160 h 109800"/>
                  </a:gdLst>
                  <a:ahLst/>
                  <a:rect l="textAreaLeft" t="textAreaTop" r="textAreaRight" b="textAreaBottom"/>
                  <a:pathLst>
                    <a:path w="76" h="389">
                      <a:moveTo>
                        <a:pt x="61" y="2"/>
                      </a:moveTo>
                      <a:lnTo>
                        <a:pt x="42" y="0"/>
                      </a:lnTo>
                      <a:lnTo>
                        <a:pt x="36" y="18"/>
                      </a:lnTo>
                      <a:lnTo>
                        <a:pt x="41" y="52"/>
                      </a:lnTo>
                      <a:lnTo>
                        <a:pt x="41" y="84"/>
                      </a:lnTo>
                      <a:lnTo>
                        <a:pt x="34" y="115"/>
                      </a:lnTo>
                      <a:lnTo>
                        <a:pt x="23" y="168"/>
                      </a:lnTo>
                      <a:lnTo>
                        <a:pt x="20" y="202"/>
                      </a:lnTo>
                      <a:lnTo>
                        <a:pt x="11" y="250"/>
                      </a:lnTo>
                      <a:lnTo>
                        <a:pt x="6" y="281"/>
                      </a:lnTo>
                      <a:lnTo>
                        <a:pt x="2" y="321"/>
                      </a:lnTo>
                      <a:lnTo>
                        <a:pt x="0" y="373"/>
                      </a:lnTo>
                      <a:lnTo>
                        <a:pt x="4" y="384"/>
                      </a:lnTo>
                      <a:lnTo>
                        <a:pt x="11" y="389"/>
                      </a:lnTo>
                      <a:lnTo>
                        <a:pt x="23" y="384"/>
                      </a:lnTo>
                      <a:lnTo>
                        <a:pt x="23" y="365"/>
                      </a:lnTo>
                      <a:lnTo>
                        <a:pt x="27" y="305"/>
                      </a:lnTo>
                      <a:lnTo>
                        <a:pt x="27" y="281"/>
                      </a:lnTo>
                      <a:lnTo>
                        <a:pt x="34" y="255"/>
                      </a:lnTo>
                      <a:lnTo>
                        <a:pt x="41" y="232"/>
                      </a:lnTo>
                      <a:lnTo>
                        <a:pt x="42" y="211"/>
                      </a:lnTo>
                      <a:lnTo>
                        <a:pt x="50" y="192"/>
                      </a:lnTo>
                      <a:lnTo>
                        <a:pt x="55" y="174"/>
                      </a:lnTo>
                      <a:lnTo>
                        <a:pt x="55" y="171"/>
                      </a:lnTo>
                      <a:lnTo>
                        <a:pt x="56" y="167"/>
                      </a:lnTo>
                      <a:lnTo>
                        <a:pt x="56" y="162"/>
                      </a:lnTo>
                      <a:lnTo>
                        <a:pt x="57" y="157"/>
                      </a:lnTo>
                      <a:lnTo>
                        <a:pt x="58" y="151"/>
                      </a:lnTo>
                      <a:lnTo>
                        <a:pt x="61" y="144"/>
                      </a:lnTo>
                      <a:lnTo>
                        <a:pt x="61" y="135"/>
                      </a:lnTo>
                      <a:lnTo>
                        <a:pt x="63" y="127"/>
                      </a:lnTo>
                      <a:lnTo>
                        <a:pt x="65" y="119"/>
                      </a:lnTo>
                      <a:lnTo>
                        <a:pt x="67" y="113"/>
                      </a:lnTo>
                      <a:lnTo>
                        <a:pt x="68" y="105"/>
                      </a:lnTo>
                      <a:lnTo>
                        <a:pt x="71" y="100"/>
                      </a:lnTo>
                      <a:lnTo>
                        <a:pt x="72" y="97"/>
                      </a:lnTo>
                      <a:lnTo>
                        <a:pt x="73" y="97"/>
                      </a:lnTo>
                      <a:lnTo>
                        <a:pt x="76" y="66"/>
                      </a:lnTo>
                      <a:lnTo>
                        <a:pt x="76" y="41"/>
                      </a:lnTo>
                      <a:lnTo>
                        <a:pt x="61" y="2"/>
                      </a:lnTo>
                      <a:close/>
                    </a:path>
                  </a:pathLst>
                </a:custGeom>
                <a:solidFill>
                  <a:srgbClr val="ded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35" name="Freeform 55"/>
                <p:cNvSpPr/>
                <p:nvPr/>
              </p:nvSpPr>
              <p:spPr>
                <a:xfrm flipH="1">
                  <a:off x="7390080" y="3330000"/>
                  <a:ext cx="171720" cy="370080"/>
                </a:xfrm>
                <a:custGeom>
                  <a:avLst/>
                  <a:gdLst>
                    <a:gd name="textAreaLeft" fmla="*/ -360 w 171720"/>
                    <a:gd name="textAreaRight" fmla="*/ 171720 w 171720"/>
                    <a:gd name="textAreaTop" fmla="*/ 0 h 370080"/>
                    <a:gd name="textAreaBottom" fmla="*/ 370440 h 370080"/>
                  </a:gdLst>
                  <a:ahLst/>
                  <a:rect l="textAreaLeft" t="textAreaTop" r="textAreaRight" b="textAreaBottom"/>
                  <a:pathLst>
                    <a:path w="611" h="1308">
                      <a:moveTo>
                        <a:pt x="567" y="0"/>
                      </a:moveTo>
                      <a:lnTo>
                        <a:pt x="535" y="25"/>
                      </a:lnTo>
                      <a:lnTo>
                        <a:pt x="515" y="50"/>
                      </a:lnTo>
                      <a:lnTo>
                        <a:pt x="491" y="87"/>
                      </a:lnTo>
                      <a:lnTo>
                        <a:pt x="473" y="117"/>
                      </a:lnTo>
                      <a:lnTo>
                        <a:pt x="452" y="158"/>
                      </a:lnTo>
                      <a:lnTo>
                        <a:pt x="425" y="175"/>
                      </a:lnTo>
                      <a:lnTo>
                        <a:pt x="397" y="207"/>
                      </a:lnTo>
                      <a:lnTo>
                        <a:pt x="368" y="234"/>
                      </a:lnTo>
                      <a:lnTo>
                        <a:pt x="338" y="271"/>
                      </a:lnTo>
                      <a:lnTo>
                        <a:pt x="320" y="292"/>
                      </a:lnTo>
                      <a:lnTo>
                        <a:pt x="289" y="331"/>
                      </a:lnTo>
                      <a:lnTo>
                        <a:pt x="273" y="360"/>
                      </a:lnTo>
                      <a:lnTo>
                        <a:pt x="244" y="399"/>
                      </a:lnTo>
                      <a:lnTo>
                        <a:pt x="223" y="455"/>
                      </a:lnTo>
                      <a:lnTo>
                        <a:pt x="192" y="507"/>
                      </a:lnTo>
                      <a:lnTo>
                        <a:pt x="191" y="509"/>
                      </a:lnTo>
                      <a:lnTo>
                        <a:pt x="190" y="515"/>
                      </a:lnTo>
                      <a:lnTo>
                        <a:pt x="187" y="518"/>
                      </a:lnTo>
                      <a:lnTo>
                        <a:pt x="186" y="526"/>
                      </a:lnTo>
                      <a:lnTo>
                        <a:pt x="182" y="533"/>
                      </a:lnTo>
                      <a:lnTo>
                        <a:pt x="179" y="544"/>
                      </a:lnTo>
                      <a:lnTo>
                        <a:pt x="170" y="554"/>
                      </a:lnTo>
                      <a:lnTo>
                        <a:pt x="163" y="568"/>
                      </a:lnTo>
                      <a:lnTo>
                        <a:pt x="153" y="581"/>
                      </a:lnTo>
                      <a:lnTo>
                        <a:pt x="146" y="596"/>
                      </a:lnTo>
                      <a:lnTo>
                        <a:pt x="137" y="607"/>
                      </a:lnTo>
                      <a:lnTo>
                        <a:pt x="131" y="619"/>
                      </a:lnTo>
                      <a:lnTo>
                        <a:pt x="125" y="629"/>
                      </a:lnTo>
                      <a:lnTo>
                        <a:pt x="124" y="636"/>
                      </a:lnTo>
                      <a:lnTo>
                        <a:pt x="119" y="646"/>
                      </a:lnTo>
                      <a:lnTo>
                        <a:pt x="111" y="658"/>
                      </a:lnTo>
                      <a:lnTo>
                        <a:pt x="106" y="666"/>
                      </a:lnTo>
                      <a:lnTo>
                        <a:pt x="103" y="673"/>
                      </a:lnTo>
                      <a:lnTo>
                        <a:pt x="100" y="682"/>
                      </a:lnTo>
                      <a:lnTo>
                        <a:pt x="99" y="691"/>
                      </a:lnTo>
                      <a:lnTo>
                        <a:pt x="97" y="699"/>
                      </a:lnTo>
                      <a:lnTo>
                        <a:pt x="95" y="704"/>
                      </a:lnTo>
                      <a:lnTo>
                        <a:pt x="94" y="707"/>
                      </a:lnTo>
                      <a:lnTo>
                        <a:pt x="93" y="712"/>
                      </a:lnTo>
                      <a:lnTo>
                        <a:pt x="90" y="716"/>
                      </a:lnTo>
                      <a:lnTo>
                        <a:pt x="88" y="722"/>
                      </a:lnTo>
                      <a:lnTo>
                        <a:pt x="84" y="731"/>
                      </a:lnTo>
                      <a:lnTo>
                        <a:pt x="82" y="745"/>
                      </a:lnTo>
                      <a:lnTo>
                        <a:pt x="78" y="759"/>
                      </a:lnTo>
                      <a:lnTo>
                        <a:pt x="76" y="772"/>
                      </a:lnTo>
                      <a:lnTo>
                        <a:pt x="73" y="783"/>
                      </a:lnTo>
                      <a:lnTo>
                        <a:pt x="72" y="794"/>
                      </a:lnTo>
                      <a:lnTo>
                        <a:pt x="68" y="802"/>
                      </a:lnTo>
                      <a:lnTo>
                        <a:pt x="67" y="810"/>
                      </a:lnTo>
                      <a:lnTo>
                        <a:pt x="64" y="816"/>
                      </a:lnTo>
                      <a:lnTo>
                        <a:pt x="62" y="823"/>
                      </a:lnTo>
                      <a:lnTo>
                        <a:pt x="59" y="828"/>
                      </a:lnTo>
                      <a:lnTo>
                        <a:pt x="56" y="836"/>
                      </a:lnTo>
                      <a:lnTo>
                        <a:pt x="54" y="845"/>
                      </a:lnTo>
                      <a:lnTo>
                        <a:pt x="51" y="856"/>
                      </a:lnTo>
                      <a:lnTo>
                        <a:pt x="49" y="866"/>
                      </a:lnTo>
                      <a:lnTo>
                        <a:pt x="48" y="877"/>
                      </a:lnTo>
                      <a:lnTo>
                        <a:pt x="45" y="885"/>
                      </a:lnTo>
                      <a:lnTo>
                        <a:pt x="45" y="893"/>
                      </a:lnTo>
                      <a:lnTo>
                        <a:pt x="43" y="900"/>
                      </a:lnTo>
                      <a:lnTo>
                        <a:pt x="40" y="915"/>
                      </a:lnTo>
                      <a:lnTo>
                        <a:pt x="35" y="934"/>
                      </a:lnTo>
                      <a:lnTo>
                        <a:pt x="32" y="956"/>
                      </a:lnTo>
                      <a:lnTo>
                        <a:pt x="27" y="977"/>
                      </a:lnTo>
                      <a:lnTo>
                        <a:pt x="23" y="996"/>
                      </a:lnTo>
                      <a:lnTo>
                        <a:pt x="21" y="1008"/>
                      </a:lnTo>
                      <a:lnTo>
                        <a:pt x="21" y="1014"/>
                      </a:lnTo>
                      <a:lnTo>
                        <a:pt x="16" y="1064"/>
                      </a:lnTo>
                      <a:lnTo>
                        <a:pt x="16" y="1113"/>
                      </a:lnTo>
                      <a:lnTo>
                        <a:pt x="8" y="1154"/>
                      </a:lnTo>
                      <a:lnTo>
                        <a:pt x="7" y="1205"/>
                      </a:lnTo>
                      <a:lnTo>
                        <a:pt x="0" y="1292"/>
                      </a:lnTo>
                      <a:lnTo>
                        <a:pt x="8" y="1308"/>
                      </a:lnTo>
                      <a:lnTo>
                        <a:pt x="18" y="1297"/>
                      </a:lnTo>
                      <a:lnTo>
                        <a:pt x="29" y="1219"/>
                      </a:lnTo>
                      <a:lnTo>
                        <a:pt x="32" y="1180"/>
                      </a:lnTo>
                      <a:lnTo>
                        <a:pt x="45" y="1129"/>
                      </a:lnTo>
                      <a:lnTo>
                        <a:pt x="52" y="1077"/>
                      </a:lnTo>
                      <a:lnTo>
                        <a:pt x="57" y="1021"/>
                      </a:lnTo>
                      <a:lnTo>
                        <a:pt x="73" y="951"/>
                      </a:lnTo>
                      <a:lnTo>
                        <a:pt x="81" y="894"/>
                      </a:lnTo>
                      <a:lnTo>
                        <a:pt x="108" y="814"/>
                      </a:lnTo>
                      <a:lnTo>
                        <a:pt x="131" y="717"/>
                      </a:lnTo>
                      <a:lnTo>
                        <a:pt x="163" y="639"/>
                      </a:lnTo>
                      <a:lnTo>
                        <a:pt x="186" y="581"/>
                      </a:lnTo>
                      <a:lnTo>
                        <a:pt x="223" y="525"/>
                      </a:lnTo>
                      <a:lnTo>
                        <a:pt x="250" y="452"/>
                      </a:lnTo>
                      <a:lnTo>
                        <a:pt x="250" y="450"/>
                      </a:lnTo>
                      <a:lnTo>
                        <a:pt x="252" y="446"/>
                      </a:lnTo>
                      <a:lnTo>
                        <a:pt x="256" y="439"/>
                      </a:lnTo>
                      <a:lnTo>
                        <a:pt x="261" y="433"/>
                      </a:lnTo>
                      <a:lnTo>
                        <a:pt x="266" y="423"/>
                      </a:lnTo>
                      <a:lnTo>
                        <a:pt x="272" y="415"/>
                      </a:lnTo>
                      <a:lnTo>
                        <a:pt x="277" y="408"/>
                      </a:lnTo>
                      <a:lnTo>
                        <a:pt x="283" y="402"/>
                      </a:lnTo>
                      <a:lnTo>
                        <a:pt x="287" y="392"/>
                      </a:lnTo>
                      <a:lnTo>
                        <a:pt x="295" y="379"/>
                      </a:lnTo>
                      <a:lnTo>
                        <a:pt x="305" y="363"/>
                      </a:lnTo>
                      <a:lnTo>
                        <a:pt x="317" y="347"/>
                      </a:lnTo>
                      <a:lnTo>
                        <a:pt x="327" y="330"/>
                      </a:lnTo>
                      <a:lnTo>
                        <a:pt x="337" y="317"/>
                      </a:lnTo>
                      <a:lnTo>
                        <a:pt x="343" y="307"/>
                      </a:lnTo>
                      <a:lnTo>
                        <a:pt x="347" y="305"/>
                      </a:lnTo>
                      <a:lnTo>
                        <a:pt x="430" y="216"/>
                      </a:lnTo>
                      <a:lnTo>
                        <a:pt x="459" y="193"/>
                      </a:lnTo>
                      <a:lnTo>
                        <a:pt x="462" y="189"/>
                      </a:lnTo>
                      <a:lnTo>
                        <a:pt x="470" y="179"/>
                      </a:lnTo>
                      <a:lnTo>
                        <a:pt x="475" y="170"/>
                      </a:lnTo>
                      <a:lnTo>
                        <a:pt x="481" y="163"/>
                      </a:lnTo>
                      <a:lnTo>
                        <a:pt x="489" y="154"/>
                      </a:lnTo>
                      <a:lnTo>
                        <a:pt x="496" y="147"/>
                      </a:lnTo>
                      <a:lnTo>
                        <a:pt x="502" y="136"/>
                      </a:lnTo>
                      <a:lnTo>
                        <a:pt x="510" y="128"/>
                      </a:lnTo>
                      <a:lnTo>
                        <a:pt x="517" y="120"/>
                      </a:lnTo>
                      <a:lnTo>
                        <a:pt x="526" y="115"/>
                      </a:lnTo>
                      <a:lnTo>
                        <a:pt x="532" y="108"/>
                      </a:lnTo>
                      <a:lnTo>
                        <a:pt x="538" y="104"/>
                      </a:lnTo>
                      <a:lnTo>
                        <a:pt x="542" y="101"/>
                      </a:lnTo>
                      <a:lnTo>
                        <a:pt x="546" y="101"/>
                      </a:lnTo>
                      <a:lnTo>
                        <a:pt x="553" y="98"/>
                      </a:lnTo>
                      <a:lnTo>
                        <a:pt x="560" y="92"/>
                      </a:lnTo>
                      <a:lnTo>
                        <a:pt x="567" y="84"/>
                      </a:lnTo>
                      <a:lnTo>
                        <a:pt x="577" y="78"/>
                      </a:lnTo>
                      <a:lnTo>
                        <a:pt x="584" y="71"/>
                      </a:lnTo>
                      <a:lnTo>
                        <a:pt x="592" y="63"/>
                      </a:lnTo>
                      <a:lnTo>
                        <a:pt x="595" y="59"/>
                      </a:lnTo>
                      <a:lnTo>
                        <a:pt x="599" y="57"/>
                      </a:lnTo>
                      <a:lnTo>
                        <a:pt x="611" y="23"/>
                      </a:lnTo>
                      <a:lnTo>
                        <a:pt x="604" y="2"/>
                      </a:lnTo>
                      <a:lnTo>
                        <a:pt x="567" y="0"/>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grpSp>
      </p:grpSp>
      <p:sp>
        <p:nvSpPr>
          <p:cNvPr id="236" name="Text Box 56"/>
          <p:cNvSpPr/>
          <p:nvPr/>
        </p:nvSpPr>
        <p:spPr>
          <a:xfrm>
            <a:off x="338040" y="2406600"/>
            <a:ext cx="210672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Humanst521 BT"/>
              </a:rPr>
              <a:t>Shouldn’t we do this?:</a:t>
            </a:r>
            <a:endParaRPr b="0" lang="en-US" sz="3200" spc="-1" strike="noStrike">
              <a:solidFill>
                <a:srgbClr val="000000"/>
              </a:solidFill>
              <a:latin typeface="Humanst521 BT"/>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6AB89FD6-D312-4F5D-8F7C-7525B7E9C0FA}"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38" name="Rectangle 9"/>
          <p:cNvSpPr/>
          <p:nvPr/>
        </p:nvSpPr>
        <p:spPr>
          <a:xfrm>
            <a:off x="4317840" y="1217520"/>
            <a:ext cx="1274760" cy="538200"/>
          </a:xfrm>
          <a:prstGeom prst="rect">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39"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5 Ways to Show…</a:t>
            </a:r>
            <a:endParaRPr b="0" lang="en-US" sz="4000" spc="-1" strike="noStrike">
              <a:solidFill>
                <a:srgbClr val="ffffff"/>
              </a:solidFill>
              <a:latin typeface="Humanst521 BT"/>
            </a:endParaRPr>
          </a:p>
        </p:txBody>
      </p:sp>
      <p:sp>
        <p:nvSpPr>
          <p:cNvPr id="240" name="PlaceHolder 2"/>
          <p:cNvSpPr>
            <a:spLocks noGrp="1"/>
          </p:cNvSpPr>
          <p:nvPr>
            <p:ph/>
          </p:nvPr>
        </p:nvSpPr>
        <p:spPr>
          <a:xfrm>
            <a:off x="456840" y="2418840"/>
            <a:ext cx="8325000" cy="3684600"/>
          </a:xfrm>
          <a:prstGeom prst="rect">
            <a:avLst/>
          </a:prstGeom>
          <a:noFill/>
          <a:ln w="0">
            <a:noFill/>
          </a:ln>
        </p:spPr>
        <p:txBody>
          <a:bodyPr anchor="t">
            <a:normAutofit fontScale="94000"/>
          </a:bodyPr>
          <a:p>
            <a:pPr marL="5727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000000"/>
                </a:solidFill>
                <a:uFillTx/>
                <a:latin typeface="Humanst521 BT"/>
              </a:rPr>
              <a:t>…</a:t>
            </a:r>
            <a:r>
              <a:rPr b="1" i="1" lang="en-US" sz="2800" spc="-1" strike="noStrike" u="sng">
                <a:solidFill>
                  <a:srgbClr val="000000"/>
                </a:solidFill>
                <a:uFillTx/>
                <a:latin typeface="Humanst521 BT"/>
              </a:rPr>
              <a:t>you believe children will come to Jesus:</a:t>
            </a:r>
            <a:endParaRPr b="0" lang="en-US" sz="2800" spc="-1" strike="noStrike">
              <a:solidFill>
                <a:srgbClr val="000000"/>
              </a:solidFill>
              <a:latin typeface="Humanst521 BT"/>
            </a:endParaRPr>
          </a:p>
          <a:p>
            <a:pPr marL="572760" indent="-57276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Get personally involved in evangelizing children</a:t>
            </a:r>
            <a:endParaRPr b="0" lang="en-US" sz="2800" spc="-1" strike="noStrike">
              <a:solidFill>
                <a:srgbClr val="000000"/>
              </a:solidFill>
              <a:latin typeface="Humanst521 BT"/>
            </a:endParaRPr>
          </a:p>
          <a:p>
            <a:pPr marL="572760" indent="-57276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vest your resources proportionately</a:t>
            </a:r>
            <a:endParaRPr b="0" lang="en-US" sz="2800" spc="-1" strike="noStrike">
              <a:solidFill>
                <a:srgbClr val="000000"/>
              </a:solidFill>
              <a:latin typeface="Humanst521 BT"/>
            </a:endParaRPr>
          </a:p>
          <a:p>
            <a:pPr marL="572760" indent="-57276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Know how to share the gospel with kids</a:t>
            </a:r>
            <a:endParaRPr b="0" lang="en-US" sz="2800" spc="-1" strike="noStrike">
              <a:solidFill>
                <a:srgbClr val="000000"/>
              </a:solidFill>
              <a:latin typeface="Humanst521 BT"/>
            </a:endParaRPr>
          </a:p>
          <a:p>
            <a:pPr marL="572760" indent="-57276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Share the gospel with your own children</a:t>
            </a:r>
            <a:endParaRPr b="0" lang="en-US" sz="2800" spc="-1" strike="noStrike">
              <a:solidFill>
                <a:srgbClr val="000000"/>
              </a:solidFill>
              <a:latin typeface="Humanst521 BT"/>
            </a:endParaRPr>
          </a:p>
          <a:p>
            <a:pPr marL="572760" indent="-57276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Be just as excited about a child coming to Christ.</a:t>
            </a:r>
            <a:endParaRPr b="0" lang="en-US" sz="2800" spc="-1" strike="noStrike">
              <a:solidFill>
                <a:srgbClr val="000000"/>
              </a:solidFill>
              <a:latin typeface="Humanst521 BT"/>
            </a:endParaRPr>
          </a:p>
        </p:txBody>
      </p:sp>
      <p:sp>
        <p:nvSpPr>
          <p:cNvPr id="241" name="Text Box 8"/>
          <p:cNvSpPr/>
          <p:nvPr/>
        </p:nvSpPr>
        <p:spPr>
          <a:xfrm>
            <a:off x="0" y="1195560"/>
            <a:ext cx="597708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t>
            </a:r>
            <a:r>
              <a:rPr b="0" lang="en-US" sz="3600" spc="-1" strike="noStrike">
                <a:solidFill>
                  <a:srgbClr val="000000"/>
                </a:solidFill>
                <a:latin typeface="Humanst521 BT"/>
              </a:rPr>
              <a:t>Let the little children </a:t>
            </a:r>
            <a:r>
              <a:rPr b="0" lang="en-US" sz="3600" spc="-1" strike="noStrike">
                <a:solidFill>
                  <a:srgbClr val="ffffff"/>
                </a:solidFill>
                <a:latin typeface="Humanst521 BT"/>
              </a:rPr>
              <a:t>come </a:t>
            </a:r>
            <a:r>
              <a:rPr b="0" lang="en-US" sz="3600" spc="-1" strike="noStrike">
                <a:solidFill>
                  <a:srgbClr val="000000"/>
                </a:solidFill>
                <a:latin typeface="Humanst521 BT"/>
              </a:rPr>
              <a:t>”</a:t>
            </a:r>
            <a:endParaRPr b="0" lang="en-US" sz="3600" spc="-1" strike="noStrike">
              <a:solidFill>
                <a:srgbClr val="000000"/>
              </a:solidFill>
              <a:latin typeface="Humanst521 BT"/>
            </a:endParaRPr>
          </a:p>
        </p:txBody>
      </p:sp>
    </p:spTree>
  </p:cSld>
  <p:transition spd="med">
    <p:fade/>
  </p:transition>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12" presetSubtype="4">
                                  <p:stCondLst>
                                    <p:cond delay="0"/>
                                  </p:stCondLst>
                                  <p:childTnLst>
                                    <p:set>
                                      <p:cBhvr>
                                        <p:cTn id="53" dur="1" fill="hold">
                                          <p:stCondLst>
                                            <p:cond delay="0"/>
                                          </p:stCondLst>
                                        </p:cTn>
                                        <p:tgtEl>
                                          <p:spTgt spid="240">
                                            <p:txEl>
                                              <p:pRg st="0" end="0"/>
                                            </p:txEl>
                                          </p:spTgt>
                                        </p:tgtEl>
                                        <p:attrNameLst>
                                          <p:attrName>style.visibility</p:attrName>
                                        </p:attrNameLst>
                                      </p:cBhvr>
                                      <p:to>
                                        <p:strVal val="visible"/>
                                      </p:to>
                                    </p:set>
                                    <p:animEffect filter="slide(fromBottom)" transition="in">
                                      <p:cBhvr additive="repl">
                                        <p:cTn id="54" dur="1000"/>
                                        <p:tgtEl>
                                          <p:spTgt spid="240">
                                            <p:txEl>
                                              <p:pRg st="0" end="0"/>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2" presetSubtype="4">
                                  <p:stCondLst>
                                    <p:cond delay="0"/>
                                  </p:stCondLst>
                                  <p:childTnLst>
                                    <p:set>
                                      <p:cBhvr>
                                        <p:cTn id="58" dur="1" fill="hold">
                                          <p:stCondLst>
                                            <p:cond delay="0"/>
                                          </p:stCondLst>
                                        </p:cTn>
                                        <p:tgtEl>
                                          <p:spTgt spid="240">
                                            <p:txEl>
                                              <p:pRg st="1" end="1"/>
                                            </p:txEl>
                                          </p:spTgt>
                                        </p:tgtEl>
                                        <p:attrNameLst>
                                          <p:attrName>style.visibility</p:attrName>
                                        </p:attrNameLst>
                                      </p:cBhvr>
                                      <p:to>
                                        <p:strVal val="visible"/>
                                      </p:to>
                                    </p:set>
                                    <p:animEffect filter="slide(fromBottom)" transition="in">
                                      <p:cBhvr additive="repl">
                                        <p:cTn id="59" dur="1000"/>
                                        <p:tgtEl>
                                          <p:spTgt spid="240">
                                            <p:txEl>
                                              <p:pRg st="1" end="1"/>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2" presetSubtype="4">
                                  <p:stCondLst>
                                    <p:cond delay="0"/>
                                  </p:stCondLst>
                                  <p:childTnLst>
                                    <p:set>
                                      <p:cBhvr>
                                        <p:cTn id="63" dur="1" fill="hold">
                                          <p:stCondLst>
                                            <p:cond delay="0"/>
                                          </p:stCondLst>
                                        </p:cTn>
                                        <p:tgtEl>
                                          <p:spTgt spid="240">
                                            <p:txEl>
                                              <p:pRg st="2" end="2"/>
                                            </p:txEl>
                                          </p:spTgt>
                                        </p:tgtEl>
                                        <p:attrNameLst>
                                          <p:attrName>style.visibility</p:attrName>
                                        </p:attrNameLst>
                                      </p:cBhvr>
                                      <p:to>
                                        <p:strVal val="visible"/>
                                      </p:to>
                                    </p:set>
                                    <p:animEffect filter="slide(fromBottom)" transition="in">
                                      <p:cBhvr additive="repl">
                                        <p:cTn id="64" dur="1000"/>
                                        <p:tgtEl>
                                          <p:spTgt spid="240">
                                            <p:txEl>
                                              <p:pRg st="2" end="2"/>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2" presetSubtype="4">
                                  <p:stCondLst>
                                    <p:cond delay="0"/>
                                  </p:stCondLst>
                                  <p:childTnLst>
                                    <p:set>
                                      <p:cBhvr>
                                        <p:cTn id="68" dur="1" fill="hold">
                                          <p:stCondLst>
                                            <p:cond delay="0"/>
                                          </p:stCondLst>
                                        </p:cTn>
                                        <p:tgtEl>
                                          <p:spTgt spid="240">
                                            <p:txEl>
                                              <p:pRg st="3" end="3"/>
                                            </p:txEl>
                                          </p:spTgt>
                                        </p:tgtEl>
                                        <p:attrNameLst>
                                          <p:attrName>style.visibility</p:attrName>
                                        </p:attrNameLst>
                                      </p:cBhvr>
                                      <p:to>
                                        <p:strVal val="visible"/>
                                      </p:to>
                                    </p:set>
                                    <p:animEffect filter="slide(fromBottom)" transition="in">
                                      <p:cBhvr additive="repl">
                                        <p:cTn id="69" dur="1000"/>
                                        <p:tgtEl>
                                          <p:spTgt spid="240">
                                            <p:txEl>
                                              <p:pRg st="3" end="3"/>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12" presetSubtype="4">
                                  <p:stCondLst>
                                    <p:cond delay="0"/>
                                  </p:stCondLst>
                                  <p:childTnLst>
                                    <p:set>
                                      <p:cBhvr>
                                        <p:cTn id="73" dur="1" fill="hold">
                                          <p:stCondLst>
                                            <p:cond delay="0"/>
                                          </p:stCondLst>
                                        </p:cTn>
                                        <p:tgtEl>
                                          <p:spTgt spid="240">
                                            <p:txEl>
                                              <p:pRg st="4" end="4"/>
                                            </p:txEl>
                                          </p:spTgt>
                                        </p:tgtEl>
                                        <p:attrNameLst>
                                          <p:attrName>style.visibility</p:attrName>
                                        </p:attrNameLst>
                                      </p:cBhvr>
                                      <p:to>
                                        <p:strVal val="visible"/>
                                      </p:to>
                                    </p:set>
                                    <p:animEffect filter="slide(fromBottom)" transition="in">
                                      <p:cBhvr additive="repl">
                                        <p:cTn id="74" dur="1000"/>
                                        <p:tgtEl>
                                          <p:spTgt spid="240">
                                            <p:txEl>
                                              <p:pRg st="4" end="4"/>
                                            </p:txEl>
                                          </p:spTgt>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2" presetSubtype="4">
                                  <p:stCondLst>
                                    <p:cond delay="0"/>
                                  </p:stCondLst>
                                  <p:childTnLst>
                                    <p:set>
                                      <p:cBhvr>
                                        <p:cTn id="78" dur="1" fill="hold">
                                          <p:stCondLst>
                                            <p:cond delay="0"/>
                                          </p:stCondLst>
                                        </p:cTn>
                                        <p:tgtEl>
                                          <p:spTgt spid="240">
                                            <p:txEl>
                                              <p:pRg st="5" end="5"/>
                                            </p:txEl>
                                          </p:spTgt>
                                        </p:tgtEl>
                                        <p:attrNameLst>
                                          <p:attrName>style.visibility</p:attrName>
                                        </p:attrNameLst>
                                      </p:cBhvr>
                                      <p:to>
                                        <p:strVal val="visible"/>
                                      </p:to>
                                    </p:set>
                                    <p:animEffect filter="slide(fromBottom)" transition="in">
                                      <p:cBhvr additive="repl">
                                        <p:cTn id="79" dur="1000"/>
                                        <p:tgtEl>
                                          <p:spTgt spid="24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Pamella Scott</cp:lastModifiedBy>
  <dcterms:modified xsi:type="dcterms:W3CDTF">2012-09-05T18:27:04Z</dcterms:modified>
  <cp:revision>59</cp:revision>
  <dc:subject/>
  <dc:title>The Pattern of Teaching Children</dc:title>
</cp:coreProperties>
</file>